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6.png" ContentType="image/png"/>
  <Override PartName="/ppt/media/image10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929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F84-7CB1-432B-B422-A1CB9CAE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B6E-2C1B-4A23-9D74-B7A2AC0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BBC-57A8-477D-A9D3-4C635187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D91-1C9B-4556-8602-788044AD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8C8D-9F67-41A8-AFA5-F22D21BA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B96F-13A9-4327-937B-980284AA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7754-4A43-429F-AAC7-5247C372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9F81-868E-4D88-91CB-046FEBCF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63FD-F3C7-4083-A260-1A378037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-4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8F8B-52F6-40B9-99BB-11D45E9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FF05-BB9A-41E9-98D0-658C516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0BC-B809-4757-B564-39A7108A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D1A7-7647-4380-84A5-3A53CDE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9470-6D17-4AE2-A2DB-E8AB7D0C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4A4C-875C-4266-A3E1-4A052B80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E431-06DC-4ABD-A515-706F3DAC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F094-7072-49CF-9556-0ABFF6FE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69C-3181-4F6C-B91D-9E5C8CF6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17D-CAD6-4BE7-AA5B-E9901582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F71-8D0B-49B8-9D03-B27E4185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09480" y="-4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574-E291-40B8-9220-7C200785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EC8-BED0-48B1-AC7F-5F63206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935-0C9F-43B1-A893-ED8B8B18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CF3-FCF3-4E0A-AA71-DD531F5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3200" y="4390920"/>
            <a:ext cx="74880" cy="246708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5d5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5440" y="264960"/>
              <a:ext cx="8518680" cy="1997280"/>
            </a:xfrm>
            <a:prstGeom prst="roundRect">
              <a:avLst>
                <a:gd name="adj" fmla="val 44356"/>
              </a:avLst>
            </a:prstGeom>
            <a:solidFill>
              <a:srgbClr val="4f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25440" y="1292400"/>
              <a:ext cx="8528040" cy="987120"/>
            </a:xfrm>
            <a:prstGeom prst="rect">
              <a:avLst/>
            </a:prstGeom>
            <a:gradFill rotWithShape="0">
              <a:gsLst>
                <a:gs pos="0">
                  <a:srgbClr val="4f4f95"/>
                </a:gs>
                <a:gs pos="100000">
                  <a:srgbClr val="5d5d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334800" y="4705920"/>
              <a:ext cx="8518680" cy="1996920"/>
            </a:xfrm>
            <a:prstGeom prst="roundRect">
              <a:avLst>
                <a:gd name="adj" fmla="val 44356"/>
              </a:avLst>
            </a:prstGeom>
            <a:solidFill>
              <a:srgbClr val="4f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325440" y="4688280"/>
              <a:ext cx="8528040" cy="987480"/>
            </a:xfrm>
            <a:prstGeom prst="rect">
              <a:avLst/>
            </a:prstGeom>
            <a:gradFill rotWithShape="0">
              <a:gsLst>
                <a:gs pos="0">
                  <a:srgbClr val="5d5da9"/>
                </a:gs>
                <a:gs pos="100000">
                  <a:srgbClr val="4f4f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9200" y="5411880"/>
              <a:ext cx="8791560" cy="198360"/>
            </a:xfrm>
            <a:prstGeom prst="rect">
              <a:avLst/>
            </a:prstGeom>
            <a:solidFill>
              <a:srgbClr val="68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49200" y="5716440"/>
              <a:ext cx="8791560" cy="104760"/>
            </a:xfrm>
            <a:prstGeom prst="rect">
              <a:avLst/>
            </a:prstGeom>
            <a:solidFill>
              <a:srgbClr val="68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5851440"/>
              <a:ext cx="8791560" cy="74520"/>
            </a:xfrm>
            <a:prstGeom prst="rect">
              <a:avLst/>
            </a:prstGeom>
            <a:solidFill>
              <a:srgbClr val="68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348840" y="6008760"/>
              <a:ext cx="8791560" cy="0"/>
            </a:xfrm>
            <a:prstGeom prst="line">
              <a:avLst/>
            </a:prstGeom>
            <a:ln w="57240">
              <a:solidFill>
                <a:srgbClr val="68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348840" y="6114960"/>
              <a:ext cx="8791560" cy="0"/>
            </a:xfrm>
            <a:prstGeom prst="line">
              <a:avLst/>
            </a:prstGeom>
            <a:ln w="28440">
              <a:solidFill>
                <a:srgbClr val="68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348840" y="6303960"/>
              <a:ext cx="8791560" cy="0"/>
            </a:xfrm>
            <a:prstGeom prst="line">
              <a:avLst/>
            </a:prstGeom>
            <a:ln w="28440">
              <a:solidFill>
                <a:srgbClr val="68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90520" y="0"/>
              <a:ext cx="152280" cy="685800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538200" y="0"/>
              <a:ext cx="0" cy="6858000"/>
            </a:xfrm>
            <a:prstGeom prst="line">
              <a:avLst/>
            </a:prstGeom>
            <a:ln w="38160">
              <a:solidFill>
                <a:srgbClr val="7b7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655560" y="-360"/>
              <a:ext cx="0" cy="1717560"/>
            </a:xfrm>
            <a:prstGeom prst="line">
              <a:avLst/>
            </a:prstGeom>
            <a:ln w="38160">
              <a:solidFill>
                <a:srgbClr val="7b7b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" name="Ft1" descr=""/>
          <p:cNvPicPr/>
          <p:nvPr/>
        </p:nvPicPr>
        <p:blipFill>
          <a:blip r:embed="rId2"/>
          <a:stretch/>
        </p:blipFill>
        <p:spPr>
          <a:xfrm>
            <a:off x="8609040" y="109440"/>
            <a:ext cx="444600" cy="44784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533160" y="6566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Mai 2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7238880" y="6502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9CFE-09D7-4757-9650-E933CEAC1DC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5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8680" y="1889280"/>
            <a:ext cx="8188200" cy="1996920"/>
          </a:xfrm>
          <a:prstGeom prst="roundRect">
            <a:avLst>
              <a:gd name="adj" fmla="val 44356"/>
            </a:avLst>
          </a:prstGeom>
          <a:solidFill>
            <a:srgbClr val="4f4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8680" y="2916360"/>
            <a:ext cx="8197920" cy="987480"/>
          </a:xfrm>
          <a:prstGeom prst="rect">
            <a:avLst/>
          </a:prstGeom>
          <a:gradFill rotWithShape="0">
            <a:gsLst>
              <a:gs pos="0">
                <a:srgbClr val="4f4f95"/>
              </a:gs>
              <a:gs pos="100000">
                <a:srgbClr val="5d5d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8040" y="4705920"/>
            <a:ext cx="8188560" cy="1996920"/>
          </a:xfrm>
          <a:prstGeom prst="roundRect">
            <a:avLst>
              <a:gd name="adj" fmla="val 44356"/>
            </a:avLst>
          </a:prstGeom>
          <a:solidFill>
            <a:srgbClr val="4f4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8680" y="4688280"/>
            <a:ext cx="8197920" cy="987480"/>
          </a:xfrm>
          <a:prstGeom prst="rect">
            <a:avLst/>
          </a:prstGeom>
          <a:gradFill rotWithShape="0">
            <a:gsLst>
              <a:gs pos="0">
                <a:srgbClr val="5d5da9"/>
              </a:gs>
              <a:gs pos="100000">
                <a:srgbClr val="4f4f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2440" y="5411880"/>
            <a:ext cx="8791560" cy="198360"/>
          </a:xfrm>
          <a:prstGeom prst="rect">
            <a:avLst/>
          </a:prstGeom>
          <a:solidFill>
            <a:srgbClr val="68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2440" y="5716440"/>
            <a:ext cx="8791560" cy="104760"/>
          </a:xfrm>
          <a:prstGeom prst="rect">
            <a:avLst/>
          </a:prstGeom>
          <a:solidFill>
            <a:srgbClr val="68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2440" y="5851440"/>
            <a:ext cx="8791560" cy="74520"/>
          </a:xfrm>
          <a:prstGeom prst="rect">
            <a:avLst/>
          </a:prstGeom>
          <a:solidFill>
            <a:srgbClr val="68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52080" y="6008760"/>
            <a:ext cx="8791560" cy="0"/>
          </a:xfrm>
          <a:prstGeom prst="line">
            <a:avLst/>
          </a:prstGeom>
          <a:ln w="57240">
            <a:solidFill>
              <a:srgbClr val="68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52080" y="6114960"/>
            <a:ext cx="8791560" cy="0"/>
          </a:xfrm>
          <a:prstGeom prst="line">
            <a:avLst/>
          </a:prstGeom>
          <a:ln w="28440">
            <a:solidFill>
              <a:srgbClr val="68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52080" y="6303960"/>
            <a:ext cx="8791560" cy="0"/>
          </a:xfrm>
          <a:prstGeom prst="line">
            <a:avLst/>
          </a:prstGeom>
          <a:ln w="28440">
            <a:solidFill>
              <a:srgbClr val="68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3760" y="0"/>
            <a:ext cx="152280" cy="685800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6440" y="4390920"/>
            <a:ext cx="74520" cy="246708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1440" y="0"/>
            <a:ext cx="0" cy="6858000"/>
          </a:xfrm>
          <a:prstGeom prst="line">
            <a:avLst/>
          </a:prstGeom>
          <a:ln w="38160">
            <a:solidFill>
              <a:srgbClr val="7b7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58800" y="-360"/>
            <a:ext cx="0" cy="1717560"/>
          </a:xfrm>
          <a:prstGeom prst="line">
            <a:avLst/>
          </a:prstGeom>
          <a:ln w="38160">
            <a:solidFill>
              <a:srgbClr val="7b7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Ft" descr=""/>
          <p:cNvPicPr/>
          <p:nvPr/>
        </p:nvPicPr>
        <p:blipFill>
          <a:blip r:embed="rId2"/>
          <a:stretch/>
        </p:blipFill>
        <p:spPr>
          <a:xfrm>
            <a:off x="7607160" y="380880"/>
            <a:ext cx="1175040" cy="1216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281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5"/>
          </p:nvPr>
        </p:nvSpPr>
        <p:spPr>
          <a:xfrm>
            <a:off x="531720" y="6566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Arial"/>
              </a:rPr>
              <a:t>19/12/2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237440" y="6502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A6F7-9024-449B-9FD0-FFB7ABFF63C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3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idre-ft.asso.fr/html/adsl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wmf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03440" y="4822920"/>
            <a:ext cx="6640200" cy="914040"/>
            <a:chOff x="2503440" y="4822920"/>
            <a:chExt cx="6640200" cy="914040"/>
          </a:xfrm>
        </p:grpSpPr>
        <p:sp>
          <p:nvSpPr>
            <p:cNvPr id="115" name=""/>
            <p:cNvSpPr/>
            <p:nvPr/>
          </p:nvSpPr>
          <p:spPr>
            <a:xfrm>
              <a:off x="2699280" y="4822920"/>
              <a:ext cx="6444360" cy="914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57800" y="4822920"/>
              <a:ext cx="77040" cy="914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03440" y="4822920"/>
              <a:ext cx="1800" cy="914040"/>
            </a:xfrm>
            <a:prstGeom prst="line">
              <a:avLst/>
            </a:prstGeom>
            <a:ln w="28440">
              <a:solidFill>
                <a:srgbClr val="79c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432560" y="482292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3440" y="3341520"/>
            <a:ext cx="6640200" cy="914040"/>
            <a:chOff x="2503440" y="3341520"/>
            <a:chExt cx="6640200" cy="914040"/>
          </a:xfrm>
        </p:grpSpPr>
        <p:sp>
          <p:nvSpPr>
            <p:cNvPr id="120" name=""/>
            <p:cNvSpPr/>
            <p:nvPr/>
          </p:nvSpPr>
          <p:spPr>
            <a:xfrm>
              <a:off x="2699280" y="3341520"/>
              <a:ext cx="6444360" cy="914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57800" y="3341520"/>
              <a:ext cx="77040" cy="914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03440" y="3341520"/>
              <a:ext cx="1800" cy="914040"/>
            </a:xfrm>
            <a:prstGeom prst="line">
              <a:avLst/>
            </a:prstGeom>
            <a:ln w="28440">
              <a:solidFill>
                <a:srgbClr val="79c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432560" y="334152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11160" y="652320"/>
            <a:ext cx="3135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Présent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0200" y="3408480"/>
            <a:ext cx="7278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La montée en débit 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dans le réseau coeu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0200" y="4898880"/>
            <a:ext cx="7364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La construction 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d’un réseau mondi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20680" y="1844640"/>
            <a:ext cx="128448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9ff66"/>
                </a:solidFill>
                <a:latin typeface="Arial"/>
              </a:rPr>
              <a:t>1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0680" y="3386160"/>
            <a:ext cx="1284480" cy="77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9ff66"/>
                </a:solidFill>
                <a:latin typeface="Arial"/>
              </a:rPr>
              <a:t>2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20680" y="4832280"/>
            <a:ext cx="128448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9ff66"/>
                </a:solidFill>
                <a:latin typeface="Arial"/>
              </a:rPr>
              <a:t>3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3440" y="1828800"/>
            <a:ext cx="6640200" cy="914040"/>
            <a:chOff x="2503440" y="1828800"/>
            <a:chExt cx="6640200" cy="914040"/>
          </a:xfrm>
        </p:grpSpPr>
        <p:sp>
          <p:nvSpPr>
            <p:cNvPr id="132" name=""/>
            <p:cNvSpPr/>
            <p:nvPr/>
          </p:nvSpPr>
          <p:spPr>
            <a:xfrm>
              <a:off x="2699280" y="1828800"/>
              <a:ext cx="6444360" cy="914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7800" y="1828800"/>
              <a:ext cx="77040" cy="914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3440" y="1828800"/>
              <a:ext cx="1800" cy="914040"/>
            </a:xfrm>
            <a:prstGeom prst="line">
              <a:avLst/>
            </a:prstGeom>
            <a:ln w="28440">
              <a:solidFill>
                <a:srgbClr val="79c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7432560" y="182880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70200" y="1890720"/>
            <a:ext cx="7107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La croissance des données 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et la montée en débit à l’accè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468-B3FB-424F-B8E7-B0CCEC1306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AC655-3D16-4502-8FA1-8615F06636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carte1c" descr=""/>
          <p:cNvPicPr/>
          <p:nvPr/>
        </p:nvPicPr>
        <p:blipFill>
          <a:blip r:embed="rId1"/>
          <a:stretch/>
        </p:blipFill>
        <p:spPr>
          <a:xfrm>
            <a:off x="3406680" y="281160"/>
            <a:ext cx="5507280" cy="64785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-3240" y="4432320"/>
            <a:ext cx="1347840" cy="2425680"/>
          </a:xfrm>
          <a:prstGeom prst="rtTriangle">
            <a:avLst/>
          </a:prstGeom>
          <a:solidFill>
            <a:srgbClr val="3d3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-1485000" y="4097160"/>
            <a:ext cx="5523120" cy="552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9" y="1286"/>
                </a:moveTo>
                <a:arcTo wR="10800" hR="10800" stAng="-7094699" swAng="7094539"/>
                <a:lnTo>
                  <a:pt x="10800" y="10800"/>
                </a:lnTo>
                <a:close/>
              </a:path>
              <a:path fill="none" w="21600" h="21600">
                <a:moveTo>
                  <a:pt x="5689" y="1286"/>
                </a:moveTo>
                <a:arcTo wR="10800" hR="10800" stAng="-7094699" swAng="7094539"/>
              </a:path>
            </a:pathLst>
          </a:custGeom>
          <a:solidFill>
            <a:srgbClr val="3d3d7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-11160" y="1066680"/>
            <a:ext cx="4506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21435600">
            <a:off x="6689520" y="1654200"/>
            <a:ext cx="325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990600" y="690840"/>
            <a:ext cx="4671000" cy="4544280"/>
            <a:chOff x="3990600" y="690840"/>
            <a:chExt cx="4671000" cy="4544280"/>
          </a:xfrm>
        </p:grpSpPr>
        <p:sp>
          <p:nvSpPr>
            <p:cNvPr id="562" name=""/>
            <p:cNvSpPr/>
            <p:nvPr/>
          </p:nvSpPr>
          <p:spPr>
            <a:xfrm rot="21435600">
              <a:off x="5873400" y="2422080"/>
              <a:ext cx="123840" cy="88920"/>
            </a:xfrm>
            <a:custGeom>
              <a:avLst/>
              <a:gdLst>
                <a:gd name="textAreaLeft" fmla="*/ 28080 w 123840"/>
                <a:gd name="textAreaRight" fmla="*/ 95760 w 12384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1435600">
              <a:off x="5444640" y="1514160"/>
              <a:ext cx="119160" cy="85680"/>
            </a:xfrm>
            <a:custGeom>
              <a:avLst/>
              <a:gdLst>
                <a:gd name="textAreaLeft" fmla="*/ 27000 w 119160"/>
                <a:gd name="textAreaRight" fmla="*/ 92160 w 119160"/>
                <a:gd name="textAreaTop" fmla="*/ 19440 h 85680"/>
                <a:gd name="textAreaBottom" fmla="*/ 66240 h 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1435600">
              <a:off x="6724440" y="693360"/>
              <a:ext cx="118800" cy="87480"/>
            </a:xfrm>
            <a:custGeom>
              <a:avLst/>
              <a:gdLst>
                <a:gd name="textAreaLeft" fmla="*/ 27000 w 118800"/>
                <a:gd name="textAreaRight" fmla="*/ 91800 w 118800"/>
                <a:gd name="textAreaTop" fmla="*/ 19800 h 87480"/>
                <a:gd name="textAreaBottom" fmla="*/ 676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1435600">
              <a:off x="8054640" y="2698560"/>
              <a:ext cx="123840" cy="88560"/>
            </a:xfrm>
            <a:custGeom>
              <a:avLst/>
              <a:gdLst>
                <a:gd name="textAreaLeft" fmla="*/ 28080 w 123840"/>
                <a:gd name="textAreaRight" fmla="*/ 95760 w 123840"/>
                <a:gd name="textAreaTop" fmla="*/ 20160 h 88560"/>
                <a:gd name="textAreaBottom" fmla="*/ 684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1435600">
              <a:off x="8032320" y="1998360"/>
              <a:ext cx="122400" cy="88920"/>
            </a:xfrm>
            <a:custGeom>
              <a:avLst/>
              <a:gdLst>
                <a:gd name="textAreaLeft" fmla="*/ 27720 w 122400"/>
                <a:gd name="textAreaRight" fmla="*/ 94680 w 12240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1435600">
              <a:off x="8537040" y="1933200"/>
              <a:ext cx="122400" cy="88920"/>
            </a:xfrm>
            <a:custGeom>
              <a:avLst/>
              <a:gdLst>
                <a:gd name="textAreaLeft" fmla="*/ 27720 w 122400"/>
                <a:gd name="textAreaRight" fmla="*/ 94680 w 12240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1435600">
              <a:off x="8011800" y="1582200"/>
              <a:ext cx="122040" cy="88920"/>
            </a:xfrm>
            <a:custGeom>
              <a:avLst/>
              <a:gdLst>
                <a:gd name="textAreaLeft" fmla="*/ 27720 w 122040"/>
                <a:gd name="textAreaRight" fmla="*/ 94320 w 12204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1435600">
              <a:off x="7584840" y="2561760"/>
              <a:ext cx="120600" cy="87480"/>
            </a:xfrm>
            <a:custGeom>
              <a:avLst/>
              <a:gdLst>
                <a:gd name="textAreaLeft" fmla="*/ 27360 w 120600"/>
                <a:gd name="textAreaRight" fmla="*/ 93240 w 120600"/>
                <a:gd name="textAreaTop" fmla="*/ 19800 h 87480"/>
                <a:gd name="textAreaBottom" fmla="*/ 676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1435600">
              <a:off x="6576480" y="699840"/>
              <a:ext cx="122400" cy="87120"/>
            </a:xfrm>
            <a:custGeom>
              <a:avLst/>
              <a:gdLst>
                <a:gd name="textAreaLeft" fmla="*/ 27720 w 122400"/>
                <a:gd name="textAreaRight" fmla="*/ 94680 w 122400"/>
                <a:gd name="textAreaTop" fmla="*/ 19800 h 87120"/>
                <a:gd name="textAreaBottom" fmla="*/ 67320 h 8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1435600">
              <a:off x="5106600" y="3935160"/>
              <a:ext cx="120600" cy="87120"/>
            </a:xfrm>
            <a:custGeom>
              <a:avLst/>
              <a:gdLst>
                <a:gd name="textAreaLeft" fmla="*/ 27360 w 120600"/>
                <a:gd name="textAreaRight" fmla="*/ 93240 w 120600"/>
                <a:gd name="textAreaTop" fmla="*/ 19800 h 87120"/>
                <a:gd name="textAreaBottom" fmla="*/ 67320 h 8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1435600">
              <a:off x="4611240" y="4706640"/>
              <a:ext cx="120600" cy="87120"/>
            </a:xfrm>
            <a:custGeom>
              <a:avLst/>
              <a:gdLst>
                <a:gd name="textAreaLeft" fmla="*/ 27360 w 120600"/>
                <a:gd name="textAreaRight" fmla="*/ 93240 w 120600"/>
                <a:gd name="textAreaTop" fmla="*/ 19800 h 87120"/>
                <a:gd name="textAreaBottom" fmla="*/ 67320 h 8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1435600">
              <a:off x="6000840" y="4611240"/>
              <a:ext cx="122040" cy="85680"/>
            </a:xfrm>
            <a:custGeom>
              <a:avLst/>
              <a:gdLst>
                <a:gd name="textAreaLeft" fmla="*/ 27720 w 122040"/>
                <a:gd name="textAreaRight" fmla="*/ 94320 w 122040"/>
                <a:gd name="textAreaTop" fmla="*/ 19440 h 85680"/>
                <a:gd name="textAreaBottom" fmla="*/ 66240 h 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1435600">
              <a:off x="6154560" y="4605120"/>
              <a:ext cx="122400" cy="85680"/>
            </a:xfrm>
            <a:custGeom>
              <a:avLst/>
              <a:gdLst>
                <a:gd name="textAreaLeft" fmla="*/ 27720 w 122400"/>
                <a:gd name="textAreaRight" fmla="*/ 94680 w 122400"/>
                <a:gd name="textAreaTop" fmla="*/ 19440 h 85680"/>
                <a:gd name="textAreaBottom" fmla="*/ 66240 h 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1435600">
              <a:off x="7029360" y="1379160"/>
              <a:ext cx="120600" cy="85680"/>
            </a:xfrm>
            <a:custGeom>
              <a:avLst/>
              <a:gdLst>
                <a:gd name="textAreaLeft" fmla="*/ 27360 w 120600"/>
                <a:gd name="textAreaRight" fmla="*/ 93240 w 120600"/>
                <a:gd name="textAreaTop" fmla="*/ 19440 h 85680"/>
                <a:gd name="textAreaBottom" fmla="*/ 66240 h 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1435600">
              <a:off x="6395760" y="1117080"/>
              <a:ext cx="123840" cy="88920"/>
            </a:xfrm>
            <a:custGeom>
              <a:avLst/>
              <a:gdLst>
                <a:gd name="textAreaLeft" fmla="*/ 28080 w 123840"/>
                <a:gd name="textAreaRight" fmla="*/ 95760 w 12384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1435600">
              <a:off x="7575120" y="3494160"/>
              <a:ext cx="117720" cy="87120"/>
            </a:xfrm>
            <a:custGeom>
              <a:avLst/>
              <a:gdLst>
                <a:gd name="textAreaLeft" fmla="*/ 26640 w 117720"/>
                <a:gd name="textAreaRight" fmla="*/ 91080 w 117720"/>
                <a:gd name="textAreaTop" fmla="*/ 19800 h 87120"/>
                <a:gd name="textAreaBottom" fmla="*/ 67320 h 8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1435600">
              <a:off x="5879880" y="3474720"/>
              <a:ext cx="125280" cy="87120"/>
            </a:xfrm>
            <a:custGeom>
              <a:avLst/>
              <a:gdLst>
                <a:gd name="textAreaLeft" fmla="*/ 28440 w 125280"/>
                <a:gd name="textAreaRight" fmla="*/ 96840 w 125280"/>
                <a:gd name="textAreaTop" fmla="*/ 19800 h 87120"/>
                <a:gd name="textAreaBottom" fmla="*/ 67320 h 8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1435600">
              <a:off x="5716080" y="2892240"/>
              <a:ext cx="125640" cy="88560"/>
            </a:xfrm>
            <a:custGeom>
              <a:avLst/>
              <a:gdLst>
                <a:gd name="textAreaLeft" fmla="*/ 28440 w 125640"/>
                <a:gd name="textAreaRight" fmla="*/ 97200 w 125640"/>
                <a:gd name="textAreaTop" fmla="*/ 20160 h 88560"/>
                <a:gd name="textAreaBottom" fmla="*/ 684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1435600">
              <a:off x="7252920" y="3490560"/>
              <a:ext cx="119160" cy="87480"/>
            </a:xfrm>
            <a:custGeom>
              <a:avLst/>
              <a:gdLst>
                <a:gd name="textAreaLeft" fmla="*/ 27000 w 119160"/>
                <a:gd name="textAreaRight" fmla="*/ 92160 w 119160"/>
                <a:gd name="textAreaTop" fmla="*/ 19800 h 87480"/>
                <a:gd name="textAreaBottom" fmla="*/ 676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1435600">
              <a:off x="6646680" y="3549240"/>
              <a:ext cx="122040" cy="88920"/>
            </a:xfrm>
            <a:custGeom>
              <a:avLst/>
              <a:gdLst>
                <a:gd name="textAreaLeft" fmla="*/ 27720 w 122040"/>
                <a:gd name="textAreaRight" fmla="*/ 94320 w 12204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1435600">
              <a:off x="5590800" y="2055600"/>
              <a:ext cx="122400" cy="90360"/>
            </a:xfrm>
            <a:custGeom>
              <a:avLst/>
              <a:gdLst>
                <a:gd name="textAreaLeft" fmla="*/ 27720 w 122400"/>
                <a:gd name="textAreaRight" fmla="*/ 94680 w 122400"/>
                <a:gd name="textAreaTop" fmla="*/ 20520 h 90360"/>
                <a:gd name="textAreaBottom" fmla="*/ 69840 h 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1435600">
              <a:off x="3992400" y="1904760"/>
              <a:ext cx="120960" cy="85680"/>
            </a:xfrm>
            <a:custGeom>
              <a:avLst/>
              <a:gdLst>
                <a:gd name="textAreaLeft" fmla="*/ 27360 w 120960"/>
                <a:gd name="textAreaRight" fmla="*/ 93600 w 120960"/>
                <a:gd name="textAreaTop" fmla="*/ 19440 h 85680"/>
                <a:gd name="textAreaBottom" fmla="*/ 66240 h 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1435600">
              <a:off x="4809960" y="2615760"/>
              <a:ext cx="122400" cy="85680"/>
            </a:xfrm>
            <a:custGeom>
              <a:avLst/>
              <a:gdLst>
                <a:gd name="textAreaLeft" fmla="*/ 27720 w 122400"/>
                <a:gd name="textAreaRight" fmla="*/ 94680 w 122400"/>
                <a:gd name="textAreaTop" fmla="*/ 19440 h 85680"/>
                <a:gd name="textAreaBottom" fmla="*/ 66240 h 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435600">
              <a:off x="5027400" y="2031480"/>
              <a:ext cx="122040" cy="90720"/>
            </a:xfrm>
            <a:custGeom>
              <a:avLst/>
              <a:gdLst>
                <a:gd name="textAreaLeft" fmla="*/ 27720 w 122040"/>
                <a:gd name="textAreaRight" fmla="*/ 94320 w 122040"/>
                <a:gd name="textAreaTop" fmla="*/ 20520 h 90720"/>
                <a:gd name="textAreaBottom" fmla="*/ 7020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1435600">
              <a:off x="4871520" y="2037960"/>
              <a:ext cx="122400" cy="90360"/>
            </a:xfrm>
            <a:custGeom>
              <a:avLst/>
              <a:gdLst>
                <a:gd name="textAreaLeft" fmla="*/ 27720 w 122400"/>
                <a:gd name="textAreaRight" fmla="*/ 94680 w 122400"/>
                <a:gd name="textAreaTop" fmla="*/ 20520 h 90360"/>
                <a:gd name="textAreaBottom" fmla="*/ 69840 h 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1435600">
              <a:off x="8035560" y="3452400"/>
              <a:ext cx="122400" cy="87480"/>
            </a:xfrm>
            <a:custGeom>
              <a:avLst/>
              <a:gdLst>
                <a:gd name="textAreaLeft" fmla="*/ 27720 w 122400"/>
                <a:gd name="textAreaRight" fmla="*/ 94680 w 122400"/>
                <a:gd name="textAreaTop" fmla="*/ 19800 h 87480"/>
                <a:gd name="textAreaBottom" fmla="*/ 676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1435600">
              <a:off x="7310160" y="4485960"/>
              <a:ext cx="122040" cy="92160"/>
            </a:xfrm>
            <a:custGeom>
              <a:avLst/>
              <a:gdLst>
                <a:gd name="textAreaLeft" fmla="*/ 27720 w 122040"/>
                <a:gd name="textAreaRight" fmla="*/ 94320 w 122040"/>
                <a:gd name="textAreaTop" fmla="*/ 20880 h 92160"/>
                <a:gd name="textAreaBottom" fmla="*/ 7128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1435600">
              <a:off x="7360920" y="4855680"/>
              <a:ext cx="122040" cy="88920"/>
            </a:xfrm>
            <a:custGeom>
              <a:avLst/>
              <a:gdLst>
                <a:gd name="textAreaLeft" fmla="*/ 27720 w 122040"/>
                <a:gd name="textAreaRight" fmla="*/ 94320 w 12204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21435600">
              <a:off x="8343720" y="4809600"/>
              <a:ext cx="123480" cy="88920"/>
            </a:xfrm>
            <a:custGeom>
              <a:avLst/>
              <a:gdLst>
                <a:gd name="textAreaLeft" fmla="*/ 28080 w 123480"/>
                <a:gd name="textAreaRight" fmla="*/ 95400 w 12348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1435600">
              <a:off x="7527600" y="4847760"/>
              <a:ext cx="123840" cy="88920"/>
            </a:xfrm>
            <a:custGeom>
              <a:avLst/>
              <a:gdLst>
                <a:gd name="textAreaLeft" fmla="*/ 28080 w 123840"/>
                <a:gd name="textAreaRight" fmla="*/ 95760 w 12384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1435600">
              <a:off x="7840440" y="5143320"/>
              <a:ext cx="120600" cy="88560"/>
            </a:xfrm>
            <a:custGeom>
              <a:avLst/>
              <a:gdLst>
                <a:gd name="textAreaLeft" fmla="*/ 27360 w 120600"/>
                <a:gd name="textAreaRight" fmla="*/ 93240 w 120600"/>
                <a:gd name="textAreaTop" fmla="*/ 20160 h 88560"/>
                <a:gd name="textAreaBottom" fmla="*/ 684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1435600">
              <a:off x="6840000" y="4828680"/>
              <a:ext cx="119160" cy="90720"/>
            </a:xfrm>
            <a:custGeom>
              <a:avLst/>
              <a:gdLst>
                <a:gd name="textAreaLeft" fmla="*/ 27000 w 119160"/>
                <a:gd name="textAreaRight" fmla="*/ 92160 w 119160"/>
                <a:gd name="textAreaTop" fmla="*/ 20520 h 90720"/>
                <a:gd name="textAreaBottom" fmla="*/ 7020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1435600">
              <a:off x="6994080" y="4820760"/>
              <a:ext cx="122400" cy="90720"/>
            </a:xfrm>
            <a:custGeom>
              <a:avLst/>
              <a:gdLst>
                <a:gd name="textAreaLeft" fmla="*/ 27720 w 122400"/>
                <a:gd name="textAreaRight" fmla="*/ 94680 w 122400"/>
                <a:gd name="textAreaTop" fmla="*/ 20520 h 90720"/>
                <a:gd name="textAreaBottom" fmla="*/ 7020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1435600">
              <a:off x="7819560" y="4001760"/>
              <a:ext cx="119160" cy="90360"/>
            </a:xfrm>
            <a:custGeom>
              <a:avLst/>
              <a:gdLst>
                <a:gd name="textAreaLeft" fmla="*/ 27000 w 119160"/>
                <a:gd name="textAreaRight" fmla="*/ 92160 w 119160"/>
                <a:gd name="textAreaTop" fmla="*/ 20520 h 90360"/>
                <a:gd name="textAreaBottom" fmla="*/ 69840 h 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1435600">
              <a:off x="6278040" y="2072880"/>
              <a:ext cx="119160" cy="88920"/>
            </a:xfrm>
            <a:custGeom>
              <a:avLst/>
              <a:gdLst>
                <a:gd name="textAreaLeft" fmla="*/ 27000 w 119160"/>
                <a:gd name="textAreaRight" fmla="*/ 92160 w 11916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1435600">
              <a:off x="5938560" y="1439640"/>
              <a:ext cx="120600" cy="88920"/>
            </a:xfrm>
            <a:custGeom>
              <a:avLst/>
              <a:gdLst>
                <a:gd name="textAreaLeft" fmla="*/ 27360 w 120600"/>
                <a:gd name="textAreaRight" fmla="*/ 93240 w 12060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ff"/>
            </a:solidFill>
            <a:ln w="12600">
              <a:solidFill>
                <a:srgbClr val="262648"/>
              </a:solidFill>
              <a:miter/>
            </a:ln>
            <a:effectLst>
              <a:outerShdw dist="53966" dir="2700000" blurRad="0" rotWithShape="0">
                <a:srgbClr val="4b842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088160" y="794160"/>
            <a:ext cx="4478400" cy="4362840"/>
            <a:chOff x="4088160" y="794160"/>
            <a:chExt cx="4478400" cy="4362840"/>
          </a:xfrm>
        </p:grpSpPr>
        <p:sp>
          <p:nvSpPr>
            <p:cNvPr id="599" name=""/>
            <p:cNvSpPr/>
            <p:nvPr/>
          </p:nvSpPr>
          <p:spPr>
            <a:xfrm rot="21435600">
              <a:off x="6162480" y="1620360"/>
              <a:ext cx="806400" cy="349200"/>
            </a:xfrm>
            <a:prstGeom prst="ellipse">
              <a:avLst/>
            </a:prstGeom>
            <a:noFill/>
            <a:ln w="2844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677360" y="2010960"/>
              <a:ext cx="279720" cy="5630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90920" y="2008800"/>
              <a:ext cx="110880" cy="69588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56080" y="1977480"/>
              <a:ext cx="510480" cy="432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3160" y="1665000"/>
              <a:ext cx="59400" cy="28548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5198040" y="2968200"/>
              <a:ext cx="727560" cy="9662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716360" y="4384800"/>
              <a:ext cx="524160" cy="34416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29360" y="2968200"/>
              <a:ext cx="706320" cy="142740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38560" y="2967840"/>
              <a:ext cx="8280" cy="52308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6062400" y="4148640"/>
              <a:ext cx="76320" cy="46332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5983200" y="2976120"/>
              <a:ext cx="155160" cy="118512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213240" y="4142880"/>
              <a:ext cx="67320" cy="45612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6026040" y="2964240"/>
              <a:ext cx="254160" cy="12020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5068080" y="2129760"/>
              <a:ext cx="545400" cy="4694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067000" y="2127960"/>
              <a:ext cx="20520" cy="46368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43160" y="2125800"/>
              <a:ext cx="79920" cy="47592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88160" y="1973880"/>
              <a:ext cx="902520" cy="62892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39920" y="3601080"/>
              <a:ext cx="612360" cy="1152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7573320" y="3506760"/>
              <a:ext cx="469440" cy="11448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380000" y="3626280"/>
              <a:ext cx="93960" cy="86616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054200" y="3634920"/>
              <a:ext cx="385200" cy="119268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913800" y="3616920"/>
              <a:ext cx="480600" cy="12182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7549920" y="3629520"/>
              <a:ext cx="294840" cy="38808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7483680" y="3624840"/>
              <a:ext cx="875160" cy="121068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934040" y="4759200"/>
              <a:ext cx="113040" cy="39780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7484040" y="3625920"/>
              <a:ext cx="563400" cy="114372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429680" y="4512600"/>
              <a:ext cx="151920" cy="358560"/>
            </a:xfrm>
            <a:prstGeom prst="line">
              <a:avLst/>
            </a:prstGeom>
            <a:ln w="2556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7496640" y="3624120"/>
              <a:ext cx="86400" cy="895680"/>
            </a:xfrm>
            <a:prstGeom prst="line">
              <a:avLst/>
            </a:prstGeom>
            <a:ln w="2556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597800" y="4513320"/>
              <a:ext cx="130320" cy="3398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7496280" y="3632040"/>
              <a:ext cx="232200" cy="8996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462720" y="796320"/>
              <a:ext cx="277920" cy="4010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6432480" y="873000"/>
              <a:ext cx="312120" cy="882720"/>
            </a:xfrm>
            <a:prstGeom prst="line">
              <a:avLst/>
            </a:prstGeom>
            <a:ln w="3816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6818400" y="869760"/>
              <a:ext cx="221400" cy="57420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23520" y="1511640"/>
              <a:ext cx="284760" cy="2372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50480" y="1573200"/>
              <a:ext cx="730800" cy="2192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347160" y="1843920"/>
              <a:ext cx="32040" cy="23184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5957280" y="1845720"/>
              <a:ext cx="401400" cy="590760"/>
            </a:xfrm>
            <a:prstGeom prst="line">
              <a:avLst/>
            </a:prstGeom>
            <a:ln w="1260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5135040" y="2023920"/>
              <a:ext cx="1053720" cy="594000"/>
            </a:xfrm>
            <a:prstGeom prst="line">
              <a:avLst/>
            </a:prstGeom>
            <a:ln w="3816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416640" y="1844640"/>
              <a:ext cx="138240" cy="68400"/>
            </a:xfrm>
            <a:prstGeom prst="line">
              <a:avLst/>
            </a:prstGeom>
            <a:ln w="3816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6491160" y="1791720"/>
              <a:ext cx="90720" cy="5760"/>
            </a:xfrm>
            <a:prstGeom prst="line">
              <a:avLst/>
            </a:prstGeom>
            <a:ln w="3816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6788160" y="1824840"/>
              <a:ext cx="1048680" cy="163080"/>
            </a:xfrm>
            <a:prstGeom prst="line">
              <a:avLst/>
            </a:prstGeom>
            <a:ln w="3816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6742800" y="1838520"/>
              <a:ext cx="725760" cy="1689480"/>
            </a:xfrm>
            <a:prstGeom prst="line">
              <a:avLst/>
            </a:prstGeom>
            <a:ln w="3816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1435600">
              <a:off x="5247720" y="827640"/>
              <a:ext cx="1454400" cy="206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980"/>
                  </a:moveTo>
                  <a:arcTo wR="10800" hR="10800" stAng="57292" swAng="5349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980"/>
                  </a:moveTo>
                  <a:arcTo wR="10800" hR="10800" stAng="57292" swAng="5349128"/>
                </a:path>
              </a:pathLst>
            </a:custGeom>
            <a:noFill/>
            <a:ln cap="rnd" w="38160">
              <a:solidFill>
                <a:srgbClr val="3d6d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712800" y="4592520"/>
            <a:ext cx="1454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Site POP-BRX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9800" y="4656240"/>
            <a:ext cx="214560" cy="169920"/>
          </a:xfrm>
          <a:custGeom>
            <a:avLst/>
            <a:gdLst>
              <a:gd name="textAreaLeft" fmla="*/ 48960 w 214560"/>
              <a:gd name="textAreaRight" fmla="*/ 165600 w 214560"/>
              <a:gd name="textAreaTop" fmla="*/ 38520 h 169920"/>
              <a:gd name="textAreaBottom" fmla="*/ 131400 h 169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262648"/>
            </a:solidFill>
            <a:miter/>
          </a:ln>
          <a:effectLst>
            <a:outerShdw dist="53966" dir="2700000" blurRad="0" rotWithShape="0">
              <a:srgbClr val="2626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3880" y="5786280"/>
            <a:ext cx="21679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Liaison SDH 155 Mb/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2200" y="5970600"/>
            <a:ext cx="43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920840" y="790200"/>
            <a:ext cx="3131280" cy="2844720"/>
            <a:chOff x="4920840" y="790200"/>
            <a:chExt cx="3131280" cy="2844720"/>
          </a:xfrm>
        </p:grpSpPr>
        <p:grpSp>
          <p:nvGrpSpPr>
            <p:cNvPr id="647" name=""/>
            <p:cNvGrpSpPr/>
            <p:nvPr/>
          </p:nvGrpSpPr>
          <p:grpSpPr>
            <a:xfrm>
              <a:off x="4920840" y="2593440"/>
              <a:ext cx="222840" cy="105840"/>
              <a:chOff x="4920840" y="2593440"/>
              <a:chExt cx="222840" cy="105840"/>
            </a:xfrm>
          </p:grpSpPr>
          <p:sp>
            <p:nvSpPr>
              <p:cNvPr id="648" name=""/>
              <p:cNvSpPr/>
              <p:nvPr/>
            </p:nvSpPr>
            <p:spPr>
              <a:xfrm rot="21435600">
                <a:off x="4923000" y="2601000"/>
                <a:ext cx="133200" cy="950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21435600">
                <a:off x="5007240" y="2596320"/>
                <a:ext cx="134280" cy="950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7354080" y="3516840"/>
              <a:ext cx="246240" cy="118080"/>
              <a:chOff x="7354080" y="3516840"/>
              <a:chExt cx="246240" cy="118080"/>
            </a:xfrm>
          </p:grpSpPr>
          <p:sp>
            <p:nvSpPr>
              <p:cNvPr id="651" name=""/>
              <p:cNvSpPr/>
              <p:nvPr/>
            </p:nvSpPr>
            <p:spPr>
              <a:xfrm rot="21435600">
                <a:off x="7356240" y="3524760"/>
                <a:ext cx="146160" cy="10656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21435600">
                <a:off x="7448400" y="3520080"/>
                <a:ext cx="149040" cy="10656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7830720" y="1940760"/>
              <a:ext cx="221400" cy="110880"/>
              <a:chOff x="7830720" y="1940760"/>
              <a:chExt cx="221400" cy="110880"/>
            </a:xfrm>
          </p:grpSpPr>
          <p:sp>
            <p:nvSpPr>
              <p:cNvPr id="654" name=""/>
              <p:cNvSpPr/>
              <p:nvPr/>
            </p:nvSpPr>
            <p:spPr>
              <a:xfrm rot="21435600">
                <a:off x="7832880" y="1947960"/>
                <a:ext cx="134280" cy="1000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21435600">
                <a:off x="7916400" y="1943640"/>
                <a:ext cx="133200" cy="1000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6260400" y="1747440"/>
              <a:ext cx="227160" cy="109080"/>
              <a:chOff x="6260400" y="1747440"/>
              <a:chExt cx="227160" cy="109080"/>
            </a:xfrm>
          </p:grpSpPr>
          <p:sp>
            <p:nvSpPr>
              <p:cNvPr id="657" name=""/>
              <p:cNvSpPr/>
              <p:nvPr/>
            </p:nvSpPr>
            <p:spPr>
              <a:xfrm rot="21435600">
                <a:off x="6262560" y="1754640"/>
                <a:ext cx="132120" cy="986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21435600">
                <a:off x="6348600" y="1750320"/>
                <a:ext cx="136440" cy="986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841360" y="2868480"/>
              <a:ext cx="223560" cy="108720"/>
              <a:chOff x="5841360" y="2868480"/>
              <a:chExt cx="223560" cy="108720"/>
            </a:xfrm>
          </p:grpSpPr>
          <p:sp>
            <p:nvSpPr>
              <p:cNvPr id="660" name=""/>
              <p:cNvSpPr/>
              <p:nvPr/>
            </p:nvSpPr>
            <p:spPr>
              <a:xfrm rot="21435600">
                <a:off x="5843520" y="2875320"/>
                <a:ext cx="134640" cy="98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1435600">
                <a:off x="5927760" y="2871360"/>
                <a:ext cx="134640" cy="98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6668640" y="790200"/>
              <a:ext cx="222840" cy="107280"/>
              <a:chOff x="6668640" y="790200"/>
              <a:chExt cx="222840" cy="107280"/>
            </a:xfrm>
          </p:grpSpPr>
          <p:sp>
            <p:nvSpPr>
              <p:cNvPr id="663" name=""/>
              <p:cNvSpPr/>
              <p:nvPr/>
            </p:nvSpPr>
            <p:spPr>
              <a:xfrm rot="21435600">
                <a:off x="6670800" y="797040"/>
                <a:ext cx="134280" cy="96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21435600">
                <a:off x="6754680" y="793080"/>
                <a:ext cx="134640" cy="9684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4b842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"/>
          <p:cNvGrpSpPr/>
          <p:nvPr/>
        </p:nvGrpSpPr>
        <p:grpSpPr>
          <a:xfrm>
            <a:off x="387360" y="5013360"/>
            <a:ext cx="321840" cy="150840"/>
            <a:chOff x="387360" y="5013360"/>
            <a:chExt cx="321840" cy="150840"/>
          </a:xfrm>
        </p:grpSpPr>
        <p:sp>
          <p:nvSpPr>
            <p:cNvPr id="666" name=""/>
            <p:cNvSpPr/>
            <p:nvPr/>
          </p:nvSpPr>
          <p:spPr>
            <a:xfrm>
              <a:off x="387360" y="5013360"/>
              <a:ext cx="198360" cy="1508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2626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840" y="5013360"/>
              <a:ext cx="198360" cy="1508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2626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747000" y="4973760"/>
            <a:ext cx="20901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NR (Noeud Régional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71520" y="5408640"/>
            <a:ext cx="352440" cy="165240"/>
            <a:chOff x="371520" y="5408640"/>
            <a:chExt cx="352440" cy="165240"/>
          </a:xfrm>
        </p:grpSpPr>
        <p:sp>
          <p:nvSpPr>
            <p:cNvPr id="670" name=""/>
            <p:cNvSpPr/>
            <p:nvPr/>
          </p:nvSpPr>
          <p:spPr>
            <a:xfrm>
              <a:off x="371520" y="5408640"/>
              <a:ext cx="252360" cy="16524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2626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1600" y="5408640"/>
              <a:ext cx="252360" cy="16524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2626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759240" y="5383080"/>
            <a:ext cx="190116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NT (Noeud Transi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6381720"/>
            <a:ext cx="449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9560" y="6226200"/>
            <a:ext cx="153072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Liaison WDM </a:t>
            </a:r>
            <a:br>
              <a:rPr sz="1500"/>
            </a:br>
            <a:r>
              <a:rPr b="1" lang="fr-FR" sz="1500" spc="-1" strike="noStrike">
                <a:solidFill>
                  <a:srgbClr val="ffffff"/>
                </a:solidFill>
                <a:latin typeface="Arial"/>
              </a:rPr>
              <a:t>ou FO 2,5 Gb/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21435600">
            <a:off x="5126400" y="3382560"/>
            <a:ext cx="81288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mo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1567600">
            <a:off x="5636880" y="1001880"/>
            <a:ext cx="73656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mi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21567600">
            <a:off x="7108200" y="1277640"/>
            <a:ext cx="64368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21567600">
            <a:off x="7641000" y="4046040"/>
            <a:ext cx="85572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Greno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21567600">
            <a:off x="7846920" y="3502080"/>
            <a:ext cx="73656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nne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21567600">
            <a:off x="7899120" y="4719600"/>
            <a:ext cx="50796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N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21567600">
            <a:off x="5799600" y="3603600"/>
            <a:ext cx="151560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lermond-Ferr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21567600">
            <a:off x="6980400" y="4519080"/>
            <a:ext cx="79452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vign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21567600">
            <a:off x="4951440" y="1399680"/>
            <a:ext cx="55836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a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21567600">
            <a:off x="5915880" y="2176560"/>
            <a:ext cx="75492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Orlé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21567600">
            <a:off x="5820840" y="1214280"/>
            <a:ext cx="65916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ou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21567600">
            <a:off x="3837600" y="1676520"/>
            <a:ext cx="81288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i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21567600">
            <a:off x="5766840" y="2409840"/>
            <a:ext cx="60876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21567600">
            <a:off x="7697160" y="2743200"/>
            <a:ext cx="91512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esanç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21567600">
            <a:off x="7315200" y="2590560"/>
            <a:ext cx="56592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ij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21567600">
            <a:off x="6025320" y="2822400"/>
            <a:ext cx="89820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POITI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21567600">
            <a:off x="7381080" y="5314680"/>
            <a:ext cx="69264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oul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1567600">
            <a:off x="7536600" y="1479600"/>
            <a:ext cx="52344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Me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1567600">
            <a:off x="6171840" y="4854240"/>
            <a:ext cx="99900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Montpell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21567600">
            <a:off x="4268520" y="4728960"/>
            <a:ext cx="115884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ayo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21567600">
            <a:off x="4618440" y="2666880"/>
            <a:ext cx="81144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NAN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21567600">
            <a:off x="8148960" y="1976040"/>
            <a:ext cx="99900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Strasbou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21567600">
            <a:off x="5596560" y="1674360"/>
            <a:ext cx="62532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NRp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21567600">
            <a:off x="4696920" y="3990960"/>
            <a:ext cx="88920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Bordea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21567600">
            <a:off x="5351760" y="4659120"/>
            <a:ext cx="129744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Toulouse 1 e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21567600">
            <a:off x="4494240" y="1828440"/>
            <a:ext cx="117108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Rennes 1 e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567600">
            <a:off x="5256360" y="2069640"/>
            <a:ext cx="79632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e M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21567600">
            <a:off x="7083720" y="4887720"/>
            <a:ext cx="84024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Marseil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21567600">
            <a:off x="6248520" y="466560"/>
            <a:ext cx="2119320" cy="27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ille 1 et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21200" y="1720800"/>
            <a:ext cx="721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NA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64720" y="3276720"/>
            <a:ext cx="604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536520" y="1712880"/>
            <a:ext cx="270000" cy="130320"/>
            <a:chOff x="6536520" y="1712880"/>
            <a:chExt cx="270000" cy="130320"/>
          </a:xfrm>
        </p:grpSpPr>
        <p:sp>
          <p:nvSpPr>
            <p:cNvPr id="707" name=""/>
            <p:cNvSpPr/>
            <p:nvPr/>
          </p:nvSpPr>
          <p:spPr>
            <a:xfrm rot="21435600">
              <a:off x="6539040" y="1721160"/>
              <a:ext cx="186120" cy="1173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262648"/>
              </a:solidFill>
              <a:miter/>
            </a:ln>
            <a:effectLst>
              <a:outerShdw dist="17819" dir="2700000" blurRad="0" rotWithShape="0">
                <a:srgbClr val="2626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1435600">
              <a:off x="6617520" y="1717200"/>
              <a:ext cx="186120" cy="1173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262648"/>
              </a:solidFill>
              <a:miter/>
            </a:ln>
            <a:effectLst>
              <a:outerShdw dist="17819" dir="2700000" blurRad="0" rotWithShape="0">
                <a:srgbClr val="26264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Dorsal IP </a:t>
            </a:r>
            <a:br>
              <a:rPr sz="3300"/>
            </a:b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de France Télécom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36F-06E9-4BB8-A9DD-281F49C4E21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CC4FB-CF26-4CB6-AA93-04CC67721A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1197000" y="3700440"/>
            <a:ext cx="7947000" cy="380880"/>
            <a:chOff x="1197000" y="3700440"/>
            <a:chExt cx="7947000" cy="380880"/>
          </a:xfrm>
        </p:grpSpPr>
        <p:sp>
          <p:nvSpPr>
            <p:cNvPr id="711" name=""/>
            <p:cNvSpPr/>
            <p:nvPr/>
          </p:nvSpPr>
          <p:spPr>
            <a:xfrm>
              <a:off x="1390680" y="3700440"/>
              <a:ext cx="7426440" cy="38088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1000" y="3700440"/>
              <a:ext cx="76320" cy="38088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97000" y="3700440"/>
              <a:ext cx="0" cy="380880"/>
            </a:xfrm>
            <a:prstGeom prst="line">
              <a:avLst/>
            </a:prstGeom>
            <a:ln w="28440">
              <a:solidFill>
                <a:srgbClr val="79c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20120" y="3700440"/>
              <a:ext cx="1523880" cy="380880"/>
            </a:xfrm>
            <a:prstGeom prst="rect">
              <a:avLst/>
            </a:prstGeom>
            <a:gradFill rotWithShape="0">
              <a:gsLst>
                <a:gs pos="0">
                  <a:srgbClr val="6464ae"/>
                </a:gs>
                <a:gs pos="100000">
                  <a:srgbClr val="79cb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1197000" y="1187280"/>
            <a:ext cx="7947000" cy="381240"/>
            <a:chOff x="1197000" y="1187280"/>
            <a:chExt cx="7947000" cy="381240"/>
          </a:xfrm>
        </p:grpSpPr>
        <p:sp>
          <p:nvSpPr>
            <p:cNvPr id="716" name=""/>
            <p:cNvSpPr/>
            <p:nvPr/>
          </p:nvSpPr>
          <p:spPr>
            <a:xfrm>
              <a:off x="1390680" y="1187280"/>
              <a:ext cx="7426440" cy="3812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251000" y="1187280"/>
              <a:ext cx="76320" cy="3812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97000" y="1187280"/>
              <a:ext cx="0" cy="381240"/>
            </a:xfrm>
            <a:prstGeom prst="line">
              <a:avLst/>
            </a:prstGeom>
            <a:ln w="28440">
              <a:solidFill>
                <a:srgbClr val="79c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620120" y="1187280"/>
              <a:ext cx="1523880" cy="381240"/>
            </a:xfrm>
            <a:prstGeom prst="rect">
              <a:avLst/>
            </a:prstGeom>
            <a:gradFill rotWithShape="0">
              <a:gsLst>
                <a:gs pos="0">
                  <a:srgbClr val="6464ae"/>
                </a:gs>
                <a:gs pos="100000">
                  <a:srgbClr val="79cb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7016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1240" indent="-201240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De nouvelles utilisations du résea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3880" y="1697040"/>
            <a:ext cx="762012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37600" indent="-237600">
              <a:lnSpc>
                <a:spcPct val="95000"/>
              </a:lnSpc>
              <a:spcBef>
                <a:spcPts val="45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ansport données GPRS et UM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lnSpc>
                <a:spcPct val="95000"/>
              </a:lnSpc>
              <a:spcBef>
                <a:spcPts val="45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connexion des machines v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7600" indent="-237600">
              <a:lnSpc>
                <a:spcPct val="95000"/>
              </a:lnSpc>
              <a:spcBef>
                <a:spcPts val="45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ansport de voix sur IP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(@llo Internet call wait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7016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1240" indent="-201240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23880" y="421164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7680" indent="-247680">
              <a:lnSpc>
                <a:spcPct val="95000"/>
              </a:lnSpc>
              <a:spcBef>
                <a:spcPts val="45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PV 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189000">
              <a:lnSpc>
                <a:spcPct val="95000"/>
              </a:lnSpc>
              <a:spcBef>
                <a:spcPts val="125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Partage de réseau entre utilisateurs indépend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-11160" y="652320"/>
            <a:ext cx="3668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23880" y="5029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39680" indent="-139680">
              <a:lnSpc>
                <a:spcPct val="95000"/>
              </a:lnSpc>
              <a:spcBef>
                <a:spcPts val="45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n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8840" indent="-101880">
              <a:lnSpc>
                <a:spcPct val="95000"/>
              </a:lnSpc>
              <a:spcBef>
                <a:spcPts val="125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Introduction des mécanismes de QS différencié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8840" indent="-101880">
              <a:lnSpc>
                <a:spcPct val="95000"/>
              </a:lnSpc>
              <a:spcBef>
                <a:spcPts val="125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Mise en place du protocole MP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8840" indent="-101880">
              <a:lnSpc>
                <a:spcPct val="95000"/>
              </a:lnSpc>
              <a:spcBef>
                <a:spcPts val="125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Introduction de la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Le backbone IP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B54-BB66-465B-A013-27266E17CB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06736-BB78-4303-94BB-3E19282D5A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1066680" y="4581360"/>
            <a:ext cx="8077320" cy="752400"/>
            <a:chOff x="1066680" y="4581360"/>
            <a:chExt cx="8077320" cy="752400"/>
          </a:xfrm>
        </p:grpSpPr>
        <p:sp>
          <p:nvSpPr>
            <p:cNvPr id="728" name=""/>
            <p:cNvSpPr/>
            <p:nvPr/>
          </p:nvSpPr>
          <p:spPr>
            <a:xfrm>
              <a:off x="1260360" y="4581360"/>
              <a:ext cx="7426440" cy="75240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20680" y="4581360"/>
              <a:ext cx="76320" cy="75240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66680" y="4581360"/>
              <a:ext cx="0" cy="752400"/>
            </a:xfrm>
            <a:prstGeom prst="line">
              <a:avLst/>
            </a:prstGeom>
            <a:ln w="28440">
              <a:solidFill>
                <a:srgbClr val="79c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81880" y="4581360"/>
              <a:ext cx="762120" cy="752400"/>
            </a:xfrm>
            <a:prstGeom prst="rect">
              <a:avLst/>
            </a:prstGeom>
            <a:gradFill rotWithShape="0">
              <a:gsLst>
                <a:gs pos="0">
                  <a:srgbClr val="6464ae"/>
                </a:gs>
                <a:gs pos="100000">
                  <a:srgbClr val="79cb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066680" y="3200400"/>
            <a:ext cx="8077320" cy="752040"/>
            <a:chOff x="1066680" y="3200400"/>
            <a:chExt cx="8077320" cy="752040"/>
          </a:xfrm>
        </p:grpSpPr>
        <p:sp>
          <p:nvSpPr>
            <p:cNvPr id="733" name=""/>
            <p:cNvSpPr/>
            <p:nvPr/>
          </p:nvSpPr>
          <p:spPr>
            <a:xfrm>
              <a:off x="1260360" y="3200400"/>
              <a:ext cx="7426440" cy="752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0680" y="3200400"/>
              <a:ext cx="76320" cy="752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66680" y="3200400"/>
              <a:ext cx="0" cy="752040"/>
            </a:xfrm>
            <a:prstGeom prst="line">
              <a:avLst/>
            </a:prstGeom>
            <a:ln w="28440">
              <a:solidFill>
                <a:srgbClr val="79c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381880" y="3200400"/>
              <a:ext cx="762120" cy="752040"/>
            </a:xfrm>
            <a:prstGeom prst="rect">
              <a:avLst/>
            </a:prstGeom>
            <a:gradFill rotWithShape="0">
              <a:gsLst>
                <a:gs pos="0">
                  <a:srgbClr val="6464ae"/>
                </a:gs>
                <a:gs pos="100000">
                  <a:srgbClr val="79cb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1260360" y="1763640"/>
            <a:ext cx="7426440" cy="44604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20680" y="1763640"/>
            <a:ext cx="76320" cy="44604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66680" y="1763640"/>
            <a:ext cx="1800" cy="446040"/>
          </a:xfrm>
          <a:prstGeom prst="line">
            <a:avLst/>
          </a:prstGeom>
          <a:ln w="28440">
            <a:solidFill>
              <a:srgbClr val="79c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381880" y="1763640"/>
            <a:ext cx="762120" cy="44604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-11160" y="652320"/>
            <a:ext cx="7783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93840" y="1741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1240" indent="-201240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Une qualité de service de très bon niveau :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752480" y="2273400"/>
            <a:ext cx="7162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2276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99,8 % en effica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Un réseau téléphonique performan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293840" y="32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Un coût global du réseau qui diminue continû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93840" y="4581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Un réseau portant nombre de services </a:t>
            </a:r>
            <a:br>
              <a:rPr sz="2800"/>
            </a:b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en constante é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C2A-6840-4DBA-84A3-981647F3A12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1497A-98C9-49DB-8DCF-283DCC8FCB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955800" y="990720"/>
            <a:ext cx="7426080" cy="38088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6120" y="990720"/>
            <a:ext cx="75960" cy="38088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62120" y="990720"/>
            <a:ext cx="0" cy="380880"/>
          </a:xfrm>
          <a:prstGeom prst="line">
            <a:avLst/>
          </a:prstGeom>
          <a:ln w="28440">
            <a:solidFill>
              <a:srgbClr val="79c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-11160" y="652320"/>
            <a:ext cx="2220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8892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1240" indent="-201240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Quelle politiqu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Le RTC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1444680"/>
            <a:ext cx="800100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77480" indent="-177480">
              <a:lnSpc>
                <a:spcPct val="95000"/>
              </a:lnSpc>
              <a:spcBef>
                <a:spcPts val="374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oursuivre la baisse des coû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7480" indent="-177480">
              <a:lnSpc>
                <a:spcPct val="95000"/>
              </a:lnSpc>
              <a:spcBef>
                <a:spcPts val="374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évelopper des servic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7320" indent="-177480">
              <a:lnSpc>
                <a:spcPct val="95000"/>
              </a:lnSpc>
              <a:spcBef>
                <a:spcPts val="337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66"/>
                </a:solidFill>
                <a:latin typeface="Arial"/>
              </a:rPr>
              <a:t>Facilitant l’usage par les cli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480" indent="-177480">
              <a:lnSpc>
                <a:spcPct val="95000"/>
              </a:lnSpc>
              <a:spcBef>
                <a:spcPts val="374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atisfaire la demande de trafic en croiss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7480" indent="-177480">
              <a:lnSpc>
                <a:spcPct val="95000"/>
              </a:lnSpc>
              <a:spcBef>
                <a:spcPts val="374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électionner des investissements créateurs  de vale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55800" y="3570120"/>
            <a:ext cx="7426080" cy="38124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16120" y="3570120"/>
            <a:ext cx="75960" cy="38124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2120" y="3570120"/>
            <a:ext cx="0" cy="381240"/>
          </a:xfrm>
          <a:prstGeom prst="line">
            <a:avLst/>
          </a:prstGeom>
          <a:ln w="28440">
            <a:solidFill>
              <a:srgbClr val="79c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077320" y="990720"/>
            <a:ext cx="1066680" cy="38088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077320" y="3570120"/>
            <a:ext cx="1066680" cy="38124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1240" indent="-201240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Sa tra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66680" y="4035600"/>
            <a:ext cx="80010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118800" indent="-118800">
              <a:lnSpc>
                <a:spcPct val="95000"/>
              </a:lnSpc>
              <a:spcBef>
                <a:spcPts val="1125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éduction du nombre de commutat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8800" indent="-118800">
              <a:lnSpc>
                <a:spcPct val="95000"/>
              </a:lnSpc>
              <a:spcBef>
                <a:spcPts val="1125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as de renouvellement systématique des commutat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8800" indent="-118800">
              <a:lnSpc>
                <a:spcPct val="95000"/>
              </a:lnSpc>
              <a:spcBef>
                <a:spcPts val="1125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es extensions des capacités de trans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6800" indent="-118800">
              <a:lnSpc>
                <a:spcPct val="95000"/>
              </a:lnSpc>
              <a:spcBef>
                <a:spcPts val="337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66"/>
                </a:solidFill>
                <a:latin typeface="Arial"/>
              </a:rPr>
              <a:t>Tester de nouvelles architectures : NGN trans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8800" indent="-118800">
              <a:lnSpc>
                <a:spcPct val="95000"/>
              </a:lnSpc>
              <a:spcBef>
                <a:spcPts val="1125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tilisation des techniques de Réseau Intelli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8800" indent="-118800">
              <a:lnSpc>
                <a:spcPct val="95000"/>
              </a:lnSpc>
              <a:spcBef>
                <a:spcPts val="1125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Favoriser le développement des architectures multimé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6800" indent="-118800">
              <a:lnSpc>
                <a:spcPct val="95000"/>
              </a:lnSpc>
              <a:spcBef>
                <a:spcPts val="337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66"/>
                </a:solidFill>
                <a:latin typeface="Arial"/>
              </a:rPr>
              <a:t>Permettant de fournir des services que le RTC ne peut fourn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8800" indent="-118800">
              <a:lnSpc>
                <a:spcPct val="95000"/>
              </a:lnSpc>
              <a:spcBef>
                <a:spcPts val="1012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89A-B235-4C35-BD92-7A49C33AB18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884DC-FBDE-4D44-BC49-D1504F37E9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124080" y="5486400"/>
            <a:ext cx="11797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60920" y="5562720"/>
            <a:ext cx="9162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28800" y="2133720"/>
            <a:ext cx="152280" cy="26668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1447560" y="2133720"/>
            <a:ext cx="228600" cy="35812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752480"/>
            <a:ext cx="5410440" cy="358164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2133720"/>
            <a:ext cx="761760" cy="31240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133720" y="2057400"/>
            <a:ext cx="4495680" cy="3276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-11160" y="652320"/>
            <a:ext cx="3211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NGN Transi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2666880" y="5257800"/>
            <a:ext cx="517680" cy="456480"/>
            <a:chOff x="2666880" y="5257800"/>
            <a:chExt cx="517680" cy="456480"/>
          </a:xfrm>
        </p:grpSpPr>
        <p:sp>
          <p:nvSpPr>
            <p:cNvPr id="771" name=""/>
            <p:cNvSpPr/>
            <p:nvPr/>
          </p:nvSpPr>
          <p:spPr>
            <a:xfrm>
              <a:off x="2751120" y="5287680"/>
              <a:ext cx="433440" cy="42048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272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272" y="138"/>
                  </a:lnTo>
                  <a:lnTo>
                    <a:pt x="272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17800" y="5380920"/>
              <a:ext cx="108000" cy="16380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0" y="53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26"/>
                  </a:lnTo>
                  <a:lnTo>
                    <a:pt x="66" y="26"/>
                  </a:lnTo>
                  <a:lnTo>
                    <a:pt x="66" y="52"/>
                  </a:lnTo>
                  <a:lnTo>
                    <a:pt x="0" y="53"/>
                  </a:lnTo>
                </a:path>
              </a:pathLst>
            </a:custGeom>
            <a:solidFill>
              <a:srgbClr val="cdcdc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89280" y="5345280"/>
              <a:ext cx="357120" cy="51120"/>
            </a:xfrm>
            <a:custGeom>
              <a:avLst/>
              <a:gdLst/>
              <a:ahLst/>
              <a:rect l="l" t="t" r="r" b="b"/>
              <a:pathLst>
                <a:path w="225" h="17">
                  <a:moveTo>
                    <a:pt x="0" y="16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8"/>
                  </a:lnTo>
                  <a:lnTo>
                    <a:pt x="220" y="8"/>
                  </a:lnTo>
                  <a:lnTo>
                    <a:pt x="220" y="14"/>
                  </a:lnTo>
                  <a:lnTo>
                    <a:pt x="0" y="16"/>
                  </a:lnTo>
                </a:path>
              </a:pathLst>
            </a:custGeom>
            <a:solidFill>
              <a:srgbClr val="cdcdc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87480" y="5348160"/>
              <a:ext cx="349200" cy="51120"/>
            </a:xfrm>
            <a:custGeom>
              <a:avLst/>
              <a:gdLst/>
              <a:ahLst/>
              <a:rect l="l" t="t" r="r" b="b"/>
              <a:pathLst>
                <a:path w="220" h="17">
                  <a:moveTo>
                    <a:pt x="219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19" y="16"/>
                  </a:lnTo>
                  <a:lnTo>
                    <a:pt x="2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16000" y="5378400"/>
              <a:ext cx="109800" cy="163080"/>
            </a:xfrm>
            <a:custGeom>
              <a:avLst/>
              <a:gdLst/>
              <a:ahLst/>
              <a:rect l="l" t="t" r="r" b="b"/>
              <a:pathLst>
                <a:path w="69" h="54">
                  <a:moveTo>
                    <a:pt x="68" y="53"/>
                  </a:moveTo>
                  <a:lnTo>
                    <a:pt x="68" y="0"/>
                  </a:lnTo>
                  <a:lnTo>
                    <a:pt x="0" y="0"/>
                  </a:lnTo>
                  <a:lnTo>
                    <a:pt x="0" y="53"/>
                  </a:lnTo>
                  <a:lnTo>
                    <a:pt x="68" y="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17600" y="55087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3117240" y="55414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7600" y="55087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782800" y="55414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135240" y="55389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82800" y="5345280"/>
              <a:ext cx="27000" cy="19944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2" y="65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2"/>
                  </a:lnTo>
                  <a:lnTo>
                    <a:pt x="12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86040" y="5345280"/>
              <a:ext cx="358560" cy="51120"/>
            </a:xfrm>
            <a:custGeom>
              <a:avLst/>
              <a:gdLst/>
              <a:ahLst/>
              <a:rect l="l" t="t" r="r" b="b"/>
              <a:pathLst>
                <a:path w="226" h="17">
                  <a:moveTo>
                    <a:pt x="0" y="16"/>
                  </a:moveTo>
                  <a:lnTo>
                    <a:pt x="0" y="0"/>
                  </a:lnTo>
                  <a:lnTo>
                    <a:pt x="225" y="0"/>
                  </a:lnTo>
                  <a:lnTo>
                    <a:pt x="225" y="8"/>
                  </a:lnTo>
                  <a:lnTo>
                    <a:pt x="220" y="8"/>
                  </a:lnTo>
                  <a:lnTo>
                    <a:pt x="22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35240" y="5348160"/>
              <a:ext cx="27000" cy="1933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6" y="0"/>
                  </a:lnTo>
                  <a:lnTo>
                    <a:pt x="16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666880" y="5257800"/>
              <a:ext cx="515880" cy="51120"/>
            </a:xfrm>
            <a:custGeom>
              <a:avLst/>
              <a:gdLst/>
              <a:ahLst/>
              <a:rect l="l" t="t" r="r" b="b"/>
              <a:pathLst>
                <a:path w="325" h="17">
                  <a:moveTo>
                    <a:pt x="324" y="16"/>
                  </a:moveTo>
                  <a:lnTo>
                    <a:pt x="272" y="0"/>
                  </a:lnTo>
                  <a:lnTo>
                    <a:pt x="0" y="0"/>
                  </a:lnTo>
                  <a:lnTo>
                    <a:pt x="52" y="16"/>
                  </a:lnTo>
                  <a:lnTo>
                    <a:pt x="324" y="16"/>
                  </a:lnTo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39920" y="5538960"/>
              <a:ext cx="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784240" y="5538600"/>
              <a:ext cx="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84240" y="5538960"/>
              <a:ext cx="357480" cy="51120"/>
            </a:xfrm>
            <a:custGeom>
              <a:avLst/>
              <a:gdLst/>
              <a:ahLst/>
              <a:rect l="l" t="t" r="r" b="b"/>
              <a:pathLst>
                <a:path w="225" h="17">
                  <a:moveTo>
                    <a:pt x="224" y="0"/>
                  </a:moveTo>
                  <a:lnTo>
                    <a:pt x="22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38480" y="5375520"/>
              <a:ext cx="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786040" y="5375160"/>
              <a:ext cx="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86040" y="5375520"/>
              <a:ext cx="353880" cy="51120"/>
            </a:xfrm>
            <a:custGeom>
              <a:avLst/>
              <a:gdLst/>
              <a:ahLst/>
              <a:rect l="l" t="t" r="r" b="b"/>
              <a:pathLst>
                <a:path w="223" h="17">
                  <a:moveTo>
                    <a:pt x="222" y="0"/>
                  </a:moveTo>
                  <a:lnTo>
                    <a:pt x="2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66880" y="5257800"/>
              <a:ext cx="85680" cy="450360"/>
            </a:xfrm>
            <a:custGeom>
              <a:avLst/>
              <a:gdLst/>
              <a:ahLst/>
              <a:rect l="l" t="t" r="r" b="b"/>
              <a:pathLst>
                <a:path w="54" h="149">
                  <a:moveTo>
                    <a:pt x="52" y="11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53" y="148"/>
                  </a:lnTo>
                  <a:lnTo>
                    <a:pt x="52" y="11"/>
                  </a:lnTo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92160" y="5565600"/>
              <a:ext cx="346320" cy="51120"/>
            </a:xfrm>
            <a:custGeom>
              <a:avLst/>
              <a:gdLst/>
              <a:ahLst/>
              <a:rect l="l" t="t" r="r" b="b"/>
              <a:pathLst>
                <a:path w="218" h="17">
                  <a:moveTo>
                    <a:pt x="217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17" y="16"/>
                  </a:lnTo>
                  <a:lnTo>
                    <a:pt x="217" y="0"/>
                  </a:lnTo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92160" y="5617080"/>
              <a:ext cx="346320" cy="51120"/>
            </a:xfrm>
            <a:custGeom>
              <a:avLst/>
              <a:gdLst/>
              <a:ahLst/>
              <a:rect l="l" t="t" r="r" b="b"/>
              <a:pathLst>
                <a:path w="218" h="17">
                  <a:moveTo>
                    <a:pt x="2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17" y="14"/>
                  </a:lnTo>
                  <a:lnTo>
                    <a:pt x="216" y="0"/>
                  </a:lnTo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92160" y="5663160"/>
              <a:ext cx="347760" cy="51120"/>
            </a:xfrm>
            <a:custGeom>
              <a:avLst/>
              <a:gdLst/>
              <a:ahLst/>
              <a:rect l="l" t="t" r="r" b="b"/>
              <a:pathLst>
                <a:path w="219" h="17">
                  <a:moveTo>
                    <a:pt x="21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18" y="16"/>
                  </a:lnTo>
                  <a:lnTo>
                    <a:pt x="218" y="0"/>
                  </a:lnTo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33560" y="55087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2833200" y="55389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33560" y="55087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92240" y="550872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2892240" y="554148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92240" y="55087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950920" y="5508720"/>
              <a:ext cx="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950560" y="5541480"/>
              <a:ext cx="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950920" y="55087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60720" y="55087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060720" y="55389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060720" y="55087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003480" y="550872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003120" y="55414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03480" y="5508720"/>
              <a:ext cx="28440" cy="511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51200" y="5351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850840" y="55414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51200" y="5351040"/>
              <a:ext cx="27000" cy="1940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6" y="0"/>
                  </a:lnTo>
                  <a:lnTo>
                    <a:pt x="16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966400" y="5541480"/>
              <a:ext cx="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66760" y="5351040"/>
              <a:ext cx="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66760" y="5351040"/>
              <a:ext cx="27000" cy="1940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6" y="63"/>
                  </a:moveTo>
                  <a:lnTo>
                    <a:pt x="0" y="6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08080" y="53481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908080" y="554148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08080" y="5348160"/>
              <a:ext cx="27000" cy="19656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78000" y="534816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078000" y="55414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78000" y="5348160"/>
              <a:ext cx="27000" cy="19656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24000" y="53510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024000" y="554148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24000" y="5351040"/>
              <a:ext cx="27000" cy="1940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6" y="0"/>
                  </a:lnTo>
                  <a:lnTo>
                    <a:pt x="16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17600" y="5348160"/>
              <a:ext cx="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117240" y="5378400"/>
              <a:ext cx="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17600" y="53481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32120" y="53481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32120" y="537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32120" y="53481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90800" y="53481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2890800" y="537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90800" y="53481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49480" y="53481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2949120" y="5378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49480" y="53481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60720" y="534816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060720" y="53784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60720" y="53481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06720" y="53481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06720" y="537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06720" y="53481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79560" y="530568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2800" y="530568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040" y="531180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2" y="16"/>
                  </a:lnTo>
                  <a:lnTo>
                    <a:pt x="12" y="16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9" y="1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09480" y="5943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752480" y="556272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5029200"/>
            <a:ext cx="4572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67040" y="5681520"/>
            <a:ext cx="2047680" cy="71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asserel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’adap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ynchrone-paqu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4320" y="868320"/>
            <a:ext cx="2021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erveur d’app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400800" y="5334120"/>
            <a:ext cx="517680" cy="456480"/>
            <a:chOff x="6400800" y="5334120"/>
            <a:chExt cx="517680" cy="456480"/>
          </a:xfrm>
        </p:grpSpPr>
        <p:sp>
          <p:nvSpPr>
            <p:cNvPr id="852" name=""/>
            <p:cNvSpPr/>
            <p:nvPr/>
          </p:nvSpPr>
          <p:spPr>
            <a:xfrm>
              <a:off x="6485040" y="5364000"/>
              <a:ext cx="433440" cy="42048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272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272" y="138"/>
                  </a:lnTo>
                  <a:lnTo>
                    <a:pt x="272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51720" y="5457240"/>
              <a:ext cx="108000" cy="16380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0" y="53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26"/>
                  </a:lnTo>
                  <a:lnTo>
                    <a:pt x="66" y="26"/>
                  </a:lnTo>
                  <a:lnTo>
                    <a:pt x="66" y="52"/>
                  </a:lnTo>
                  <a:lnTo>
                    <a:pt x="0" y="53"/>
                  </a:lnTo>
                </a:path>
              </a:pathLst>
            </a:custGeom>
            <a:solidFill>
              <a:srgbClr val="cdcdc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23200" y="5421600"/>
              <a:ext cx="357120" cy="51120"/>
            </a:xfrm>
            <a:custGeom>
              <a:avLst/>
              <a:gdLst/>
              <a:ahLst/>
              <a:rect l="l" t="t" r="r" b="b"/>
              <a:pathLst>
                <a:path w="225" h="17">
                  <a:moveTo>
                    <a:pt x="0" y="16"/>
                  </a:moveTo>
                  <a:lnTo>
                    <a:pt x="0" y="0"/>
                  </a:lnTo>
                  <a:lnTo>
                    <a:pt x="224" y="0"/>
                  </a:lnTo>
                  <a:lnTo>
                    <a:pt x="224" y="8"/>
                  </a:lnTo>
                  <a:lnTo>
                    <a:pt x="220" y="8"/>
                  </a:lnTo>
                  <a:lnTo>
                    <a:pt x="220" y="14"/>
                  </a:lnTo>
                  <a:lnTo>
                    <a:pt x="0" y="16"/>
                  </a:lnTo>
                </a:path>
              </a:pathLst>
            </a:custGeom>
            <a:solidFill>
              <a:srgbClr val="cdcdc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521400" y="5424480"/>
              <a:ext cx="349200" cy="51120"/>
            </a:xfrm>
            <a:custGeom>
              <a:avLst/>
              <a:gdLst/>
              <a:ahLst/>
              <a:rect l="l" t="t" r="r" b="b"/>
              <a:pathLst>
                <a:path w="220" h="17">
                  <a:moveTo>
                    <a:pt x="219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19" y="16"/>
                  </a:lnTo>
                  <a:lnTo>
                    <a:pt x="2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49920" y="5454720"/>
              <a:ext cx="109800" cy="163080"/>
            </a:xfrm>
            <a:custGeom>
              <a:avLst/>
              <a:gdLst/>
              <a:ahLst/>
              <a:rect l="l" t="t" r="r" b="b"/>
              <a:pathLst>
                <a:path w="69" h="54">
                  <a:moveTo>
                    <a:pt x="68" y="53"/>
                  </a:moveTo>
                  <a:lnTo>
                    <a:pt x="68" y="0"/>
                  </a:lnTo>
                  <a:lnTo>
                    <a:pt x="0" y="0"/>
                  </a:lnTo>
                  <a:lnTo>
                    <a:pt x="0" y="53"/>
                  </a:lnTo>
                  <a:lnTo>
                    <a:pt x="68" y="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51520" y="55850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6851160" y="56178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51520" y="558504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516720" y="56178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869160" y="561528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16720" y="5421600"/>
              <a:ext cx="27000" cy="19944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12" y="65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2"/>
                  </a:lnTo>
                  <a:lnTo>
                    <a:pt x="12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19960" y="5421600"/>
              <a:ext cx="358560" cy="51120"/>
            </a:xfrm>
            <a:custGeom>
              <a:avLst/>
              <a:gdLst/>
              <a:ahLst/>
              <a:rect l="l" t="t" r="r" b="b"/>
              <a:pathLst>
                <a:path w="226" h="17">
                  <a:moveTo>
                    <a:pt x="0" y="16"/>
                  </a:moveTo>
                  <a:lnTo>
                    <a:pt x="0" y="0"/>
                  </a:lnTo>
                  <a:lnTo>
                    <a:pt x="225" y="0"/>
                  </a:lnTo>
                  <a:lnTo>
                    <a:pt x="225" y="8"/>
                  </a:lnTo>
                  <a:lnTo>
                    <a:pt x="220" y="8"/>
                  </a:lnTo>
                  <a:lnTo>
                    <a:pt x="220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69160" y="5424480"/>
              <a:ext cx="27000" cy="1933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6" y="0"/>
                  </a:lnTo>
                  <a:lnTo>
                    <a:pt x="16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00800" y="5334120"/>
              <a:ext cx="515880" cy="51120"/>
            </a:xfrm>
            <a:custGeom>
              <a:avLst/>
              <a:gdLst/>
              <a:ahLst/>
              <a:rect l="l" t="t" r="r" b="b"/>
              <a:pathLst>
                <a:path w="325" h="17">
                  <a:moveTo>
                    <a:pt x="324" y="16"/>
                  </a:moveTo>
                  <a:lnTo>
                    <a:pt x="272" y="0"/>
                  </a:lnTo>
                  <a:lnTo>
                    <a:pt x="0" y="0"/>
                  </a:lnTo>
                  <a:lnTo>
                    <a:pt x="52" y="16"/>
                  </a:lnTo>
                  <a:lnTo>
                    <a:pt x="324" y="16"/>
                  </a:lnTo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73840" y="5615280"/>
              <a:ext cx="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518160" y="5614920"/>
              <a:ext cx="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18160" y="5615280"/>
              <a:ext cx="357480" cy="51120"/>
            </a:xfrm>
            <a:custGeom>
              <a:avLst/>
              <a:gdLst/>
              <a:ahLst/>
              <a:rect l="l" t="t" r="r" b="b"/>
              <a:pathLst>
                <a:path w="225" h="17">
                  <a:moveTo>
                    <a:pt x="224" y="0"/>
                  </a:moveTo>
                  <a:lnTo>
                    <a:pt x="22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2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72400" y="5451840"/>
              <a:ext cx="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519960" y="5451480"/>
              <a:ext cx="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19960" y="5451840"/>
              <a:ext cx="353880" cy="51120"/>
            </a:xfrm>
            <a:custGeom>
              <a:avLst/>
              <a:gdLst/>
              <a:ahLst/>
              <a:rect l="l" t="t" r="r" b="b"/>
              <a:pathLst>
                <a:path w="223" h="17">
                  <a:moveTo>
                    <a:pt x="222" y="0"/>
                  </a:moveTo>
                  <a:lnTo>
                    <a:pt x="2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00800" y="5334120"/>
              <a:ext cx="85680" cy="450360"/>
            </a:xfrm>
            <a:custGeom>
              <a:avLst/>
              <a:gdLst/>
              <a:ahLst/>
              <a:rect l="l" t="t" r="r" b="b"/>
              <a:pathLst>
                <a:path w="54" h="149">
                  <a:moveTo>
                    <a:pt x="52" y="11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53" y="148"/>
                  </a:lnTo>
                  <a:lnTo>
                    <a:pt x="52" y="11"/>
                  </a:lnTo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26080" y="5641920"/>
              <a:ext cx="346320" cy="51120"/>
            </a:xfrm>
            <a:custGeom>
              <a:avLst/>
              <a:gdLst/>
              <a:ahLst/>
              <a:rect l="l" t="t" r="r" b="b"/>
              <a:pathLst>
                <a:path w="218" h="17">
                  <a:moveTo>
                    <a:pt x="217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17" y="16"/>
                  </a:lnTo>
                  <a:lnTo>
                    <a:pt x="217" y="0"/>
                  </a:lnTo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26080" y="5693400"/>
              <a:ext cx="346320" cy="51120"/>
            </a:xfrm>
            <a:custGeom>
              <a:avLst/>
              <a:gdLst/>
              <a:ahLst/>
              <a:rect l="l" t="t" r="r" b="b"/>
              <a:pathLst>
                <a:path w="218" h="17">
                  <a:moveTo>
                    <a:pt x="2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17" y="14"/>
                  </a:lnTo>
                  <a:lnTo>
                    <a:pt x="216" y="0"/>
                  </a:lnTo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526080" y="5739480"/>
              <a:ext cx="347760" cy="51120"/>
            </a:xfrm>
            <a:custGeom>
              <a:avLst/>
              <a:gdLst/>
              <a:ahLst/>
              <a:rect l="l" t="t" r="r" b="b"/>
              <a:pathLst>
                <a:path w="219" h="17">
                  <a:moveTo>
                    <a:pt x="21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18" y="16"/>
                  </a:lnTo>
                  <a:lnTo>
                    <a:pt x="218" y="0"/>
                  </a:lnTo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67480" y="55850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6567120" y="5615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67480" y="558504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26160" y="558504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626160" y="56178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26160" y="558504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84840" y="5585040"/>
              <a:ext cx="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6684480" y="5617800"/>
              <a:ext cx="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4840" y="558504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94640" y="55850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794640" y="56152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94640" y="558504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37400" y="55850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6737040" y="561780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37400" y="5585040"/>
              <a:ext cx="28440" cy="511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85120" y="542736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584760" y="56178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585120" y="5427360"/>
              <a:ext cx="27000" cy="1940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6" y="0"/>
                  </a:lnTo>
                  <a:lnTo>
                    <a:pt x="16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700320" y="5617800"/>
              <a:ext cx="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00680" y="5427360"/>
              <a:ext cx="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700680" y="5427360"/>
              <a:ext cx="27000" cy="1940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6" y="63"/>
                  </a:moveTo>
                  <a:lnTo>
                    <a:pt x="0" y="6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42000" y="542448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6642000" y="56178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42000" y="5424480"/>
              <a:ext cx="27000" cy="19656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11920" y="54244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811920" y="56178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11920" y="5424480"/>
              <a:ext cx="27000" cy="19656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0" y="0"/>
                  </a:moveTo>
                  <a:lnTo>
                    <a:pt x="16" y="0"/>
                  </a:lnTo>
                  <a:lnTo>
                    <a:pt x="16" y="64"/>
                  </a:ln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57920" y="54273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757920" y="56178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57920" y="5427360"/>
              <a:ext cx="27000" cy="1940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16" y="0"/>
                  </a:lnTo>
                  <a:lnTo>
                    <a:pt x="16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51520" y="5424480"/>
              <a:ext cx="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6851160" y="5454720"/>
              <a:ext cx="2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1520" y="542448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66040" y="54244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566040" y="54547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66040" y="542448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24720" y="54244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6624720" y="54547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24720" y="542448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83400" y="54244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683040" y="54547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83400" y="542448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94640" y="542448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6794640" y="545472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94640" y="542448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740640" y="54244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6740640" y="54547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40640" y="542448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13480" y="538200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16720" y="538200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519960" y="53881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12" y="16"/>
                  </a:lnTo>
                  <a:lnTo>
                    <a:pt x="12" y="16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9" y="1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1066680" y="5029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7315200" y="5334120"/>
            <a:ext cx="609120" cy="426600"/>
            <a:chOff x="7315200" y="5334120"/>
            <a:chExt cx="609120" cy="426600"/>
          </a:xfrm>
        </p:grpSpPr>
        <p:grpSp>
          <p:nvGrpSpPr>
            <p:cNvPr id="929" name=""/>
            <p:cNvGrpSpPr/>
            <p:nvPr/>
          </p:nvGrpSpPr>
          <p:grpSpPr>
            <a:xfrm>
              <a:off x="7321680" y="5337000"/>
              <a:ext cx="602640" cy="423720"/>
              <a:chOff x="7321680" y="5337000"/>
              <a:chExt cx="602640" cy="423720"/>
            </a:xfrm>
          </p:grpSpPr>
          <p:sp>
            <p:nvSpPr>
              <p:cNvPr id="930" name=""/>
              <p:cNvSpPr/>
              <p:nvPr/>
            </p:nvSpPr>
            <p:spPr>
              <a:xfrm>
                <a:off x="7879320" y="5341320"/>
                <a:ext cx="37800" cy="419400"/>
              </a:xfrm>
              <a:custGeom>
                <a:avLst/>
                <a:gdLst/>
                <a:ahLst/>
                <a:rect l="l" t="t" r="r" b="b"/>
                <a:pathLst>
                  <a:path w="27" h="170">
                    <a:moveTo>
                      <a:pt x="0" y="13"/>
                    </a:moveTo>
                    <a:lnTo>
                      <a:pt x="26" y="0"/>
                    </a:lnTo>
                    <a:lnTo>
                      <a:pt x="26" y="156"/>
                    </a:lnTo>
                    <a:lnTo>
                      <a:pt x="0" y="16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879320" y="5341320"/>
                <a:ext cx="43560" cy="4194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0" y="13"/>
                    </a:moveTo>
                    <a:lnTo>
                      <a:pt x="30" y="0"/>
                    </a:lnTo>
                    <a:lnTo>
                      <a:pt x="30" y="156"/>
                    </a:lnTo>
                    <a:lnTo>
                      <a:pt x="0" y="16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879320" y="5341320"/>
                <a:ext cx="43560" cy="4194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0" y="13"/>
                    </a:moveTo>
                    <a:lnTo>
                      <a:pt x="30" y="0"/>
                    </a:lnTo>
                    <a:lnTo>
                      <a:pt x="30" y="156"/>
                    </a:lnTo>
                    <a:lnTo>
                      <a:pt x="0" y="169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325640" y="5373720"/>
                <a:ext cx="557640" cy="38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422840" y="536868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508880" y="536868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07520" y="536868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700400" y="536868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790760" y="536868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27080" y="556596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7435440" y="5585760"/>
                <a:ext cx="64800" cy="102960"/>
                <a:chOff x="7435440" y="5585760"/>
                <a:chExt cx="64800" cy="10296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7435440" y="55857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35440" y="55954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435440" y="560520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35440" y="56152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35440" y="56296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35440" y="563760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35440" y="564480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435440" y="565704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35440" y="56692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35440" y="56764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35440" y="568872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7345440" y="5585760"/>
                <a:ext cx="60120" cy="102960"/>
                <a:chOff x="7345440" y="5585760"/>
                <a:chExt cx="60120" cy="10296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7345440" y="55857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345440" y="55954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345440" y="560520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45440" y="56152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345440" y="56296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345440" y="563760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345440" y="564480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345440" y="565704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345440" y="56692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45440" y="56764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45440" y="568872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" name=""/>
              <p:cNvSpPr/>
              <p:nvPr/>
            </p:nvSpPr>
            <p:spPr>
              <a:xfrm>
                <a:off x="7321680" y="5337000"/>
                <a:ext cx="597600" cy="41760"/>
              </a:xfrm>
              <a:custGeom>
                <a:avLst/>
                <a:gdLst/>
                <a:ahLst/>
                <a:rect l="l" t="t" r="r" b="b"/>
                <a:pathLst>
                  <a:path w="424" h="17">
                    <a:moveTo>
                      <a:pt x="28" y="0"/>
                    </a:moveTo>
                    <a:lnTo>
                      <a:pt x="423" y="0"/>
                    </a:lnTo>
                    <a:lnTo>
                      <a:pt x="394" y="16"/>
                    </a:lnTo>
                    <a:lnTo>
                      <a:pt x="0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325640" y="5341320"/>
                <a:ext cx="598680" cy="41760"/>
              </a:xfrm>
              <a:custGeom>
                <a:avLst/>
                <a:gdLst/>
                <a:ahLst/>
                <a:rect l="l" t="t" r="r" b="b"/>
                <a:pathLst>
                  <a:path w="425" h="17">
                    <a:moveTo>
                      <a:pt x="28" y="0"/>
                    </a:moveTo>
                    <a:lnTo>
                      <a:pt x="424" y="0"/>
                    </a:lnTo>
                    <a:lnTo>
                      <a:pt x="395" y="16"/>
                    </a:lnTo>
                    <a:lnTo>
                      <a:pt x="0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325640" y="5341320"/>
                <a:ext cx="598680" cy="41760"/>
              </a:xfrm>
              <a:custGeom>
                <a:avLst/>
                <a:gdLst/>
                <a:ahLst/>
                <a:rect l="l" t="t" r="r" b="b"/>
                <a:pathLst>
                  <a:path w="425" h="17">
                    <a:moveTo>
                      <a:pt x="28" y="0"/>
                    </a:moveTo>
                    <a:lnTo>
                      <a:pt x="424" y="0"/>
                    </a:lnTo>
                    <a:lnTo>
                      <a:pt x="395" y="16"/>
                    </a:lnTo>
                    <a:lnTo>
                      <a:pt x="0" y="16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7878600" y="5334120"/>
              <a:ext cx="39960" cy="422280"/>
            </a:xfrm>
            <a:custGeom>
              <a:avLst/>
              <a:gdLst/>
              <a:ahLst/>
              <a:rect l="l" t="t" r="r" b="b"/>
              <a:pathLst>
                <a:path w="29" h="171">
                  <a:moveTo>
                    <a:pt x="0" y="13"/>
                  </a:moveTo>
                  <a:lnTo>
                    <a:pt x="28" y="0"/>
                  </a:lnTo>
                  <a:lnTo>
                    <a:pt x="28" y="157"/>
                  </a:lnTo>
                  <a:lnTo>
                    <a:pt x="0" y="170"/>
                  </a:lnTo>
                  <a:lnTo>
                    <a:pt x="0" y="13"/>
                  </a:lnTo>
                </a:path>
              </a:pathLst>
            </a:cu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878600" y="5334120"/>
              <a:ext cx="39960" cy="422280"/>
            </a:xfrm>
            <a:custGeom>
              <a:avLst/>
              <a:gdLst/>
              <a:ahLst/>
              <a:rect l="l" t="t" r="r" b="b"/>
              <a:pathLst>
                <a:path w="29" h="171">
                  <a:moveTo>
                    <a:pt x="0" y="13"/>
                  </a:moveTo>
                  <a:lnTo>
                    <a:pt x="28" y="0"/>
                  </a:lnTo>
                  <a:lnTo>
                    <a:pt x="28" y="157"/>
                  </a:lnTo>
                  <a:lnTo>
                    <a:pt x="0" y="170"/>
                  </a:lnTo>
                  <a:lnTo>
                    <a:pt x="0" y="13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a5a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5200" y="5365800"/>
              <a:ext cx="563400" cy="387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410600" y="536400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00960" y="536400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599240" y="536400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93200" y="536400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80320" y="536400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21680" y="5560920"/>
              <a:ext cx="547560" cy="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315200" y="5334120"/>
              <a:ext cx="603360" cy="41040"/>
            </a:xfrm>
            <a:custGeom>
              <a:avLst/>
              <a:gdLst/>
              <a:ahLst/>
              <a:rect l="l" t="t" r="r" b="b"/>
              <a:pathLst>
                <a:path w="428" h="17">
                  <a:moveTo>
                    <a:pt x="28" y="0"/>
                  </a:moveTo>
                  <a:lnTo>
                    <a:pt x="427" y="0"/>
                  </a:lnTo>
                  <a:lnTo>
                    <a:pt x="398" y="16"/>
                  </a:lnTo>
                  <a:lnTo>
                    <a:pt x="0" y="16"/>
                  </a:lnTo>
                  <a:lnTo>
                    <a:pt x="28" y="0"/>
                  </a:lnTo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15200" y="5334120"/>
              <a:ext cx="603360" cy="41040"/>
            </a:xfrm>
            <a:custGeom>
              <a:avLst/>
              <a:gdLst/>
              <a:ahLst/>
              <a:rect l="l" t="t" r="r" b="b"/>
              <a:pathLst>
                <a:path w="428" h="17">
                  <a:moveTo>
                    <a:pt x="28" y="0"/>
                  </a:moveTo>
                  <a:lnTo>
                    <a:pt x="427" y="0"/>
                  </a:lnTo>
                  <a:lnTo>
                    <a:pt x="398" y="16"/>
                  </a:lnTo>
                  <a:lnTo>
                    <a:pt x="0" y="16"/>
                  </a:lnTo>
                  <a:lnTo>
                    <a:pt x="28" y="0"/>
                  </a:lnTo>
                </a:path>
              </a:pathLst>
            </a:custGeom>
            <a:solidFill>
              <a:srgbClr val="f8f8f8"/>
            </a:solidFill>
            <a:ln cap="rnd" w="12600">
              <a:solidFill>
                <a:srgbClr val="c9c9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792468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934320" y="556272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1280" y="5235480"/>
            <a:ext cx="2357640" cy="50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mutate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’abonn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62320" y="2819520"/>
            <a:ext cx="1752480" cy="175248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ffffff"/>
            </a:solidFill>
            <a:miter/>
          </a:ln>
          <a:effectLst>
            <a:outerShdw dist="81185" dir="307803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526480" y="3238560"/>
            <a:ext cx="14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48"/>
                </a:solidFill>
                <a:latin typeface="Arial"/>
              </a:rPr>
              <a:t>Contrôle </a:t>
            </a:r>
            <a:br>
              <a:rPr sz="1800"/>
            </a:br>
            <a:r>
              <a:rPr b="1" lang="fr-FR" sz="1800" spc="-1" strike="noStrike">
                <a:solidFill>
                  <a:srgbClr val="262648"/>
                </a:solidFill>
                <a:latin typeface="Arial"/>
              </a:rPr>
              <a:t>des </a:t>
            </a:r>
            <a:br>
              <a:rPr sz="1800"/>
            </a:br>
            <a:r>
              <a:rPr b="1" lang="fr-FR" sz="1800" spc="-1" strike="noStrike">
                <a:solidFill>
                  <a:srgbClr val="262648"/>
                </a:solidFill>
                <a:latin typeface="Arial"/>
              </a:rPr>
              <a:t>passerel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262160" y="2906640"/>
            <a:ext cx="976320" cy="97632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ffffff"/>
            </a:solidFill>
            <a:miter/>
          </a:ln>
          <a:effectLst>
            <a:outerShdw dist="81185" dir="307803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43600" y="3211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48"/>
                </a:solidFill>
                <a:latin typeface="Arial"/>
              </a:rPr>
              <a:t>SS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06720" y="4629240"/>
            <a:ext cx="1808280" cy="1807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  <a:effectLst>
            <a:outerShdw dist="81185" dir="307803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159080" y="4998960"/>
            <a:ext cx="1305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62648"/>
                </a:solidFill>
                <a:latin typeface="Arial"/>
              </a:rPr>
              <a:t>Réseau </a:t>
            </a:r>
            <a:br>
              <a:rPr sz="1600"/>
            </a:br>
            <a:r>
              <a:rPr b="1" lang="fr-FR" sz="1600" spc="-1" strike="noStrike">
                <a:solidFill>
                  <a:srgbClr val="262648"/>
                </a:solidFill>
                <a:latin typeface="Arial"/>
              </a:rPr>
              <a:t>de type </a:t>
            </a:r>
            <a:br>
              <a:rPr sz="1600"/>
            </a:br>
            <a:r>
              <a:rPr b="1" lang="fr-FR" sz="1600" spc="-1" strike="noStrike">
                <a:solidFill>
                  <a:srgbClr val="262648"/>
                </a:solidFill>
                <a:latin typeface="Arial"/>
              </a:rPr>
              <a:t>paqu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62648"/>
                </a:solidFill>
                <a:latin typeface="Arial"/>
              </a:rPr>
              <a:t>(IP ou AT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8305920" y="5362560"/>
            <a:ext cx="438840" cy="351000"/>
            <a:chOff x="8305920" y="5362560"/>
            <a:chExt cx="438840" cy="351000"/>
          </a:xfrm>
        </p:grpSpPr>
        <p:grpSp>
          <p:nvGrpSpPr>
            <p:cNvPr id="988" name=""/>
            <p:cNvGrpSpPr/>
            <p:nvPr/>
          </p:nvGrpSpPr>
          <p:grpSpPr>
            <a:xfrm>
              <a:off x="8325720" y="5377320"/>
              <a:ext cx="419040" cy="336240"/>
              <a:chOff x="8325720" y="5377320"/>
              <a:chExt cx="419040" cy="336240"/>
            </a:xfrm>
          </p:grpSpPr>
          <p:sp>
            <p:nvSpPr>
              <p:cNvPr id="989" name=""/>
              <p:cNvSpPr/>
              <p:nvPr/>
            </p:nvSpPr>
            <p:spPr>
              <a:xfrm>
                <a:off x="8325720" y="5377320"/>
                <a:ext cx="419040" cy="12636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12" y="5"/>
                    </a:moveTo>
                    <a:lnTo>
                      <a:pt x="0" y="20"/>
                    </a:lnTo>
                    <a:lnTo>
                      <a:pt x="0" y="33"/>
                    </a:lnTo>
                    <a:lnTo>
                      <a:pt x="35" y="26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92" y="25"/>
                    </a:lnTo>
                    <a:lnTo>
                      <a:pt x="92" y="35"/>
                    </a:lnTo>
                    <a:lnTo>
                      <a:pt x="122" y="26"/>
                    </a:lnTo>
                    <a:lnTo>
                      <a:pt x="152" y="35"/>
                    </a:lnTo>
                    <a:lnTo>
                      <a:pt x="159" y="25"/>
                    </a:lnTo>
                    <a:lnTo>
                      <a:pt x="139" y="2"/>
                    </a:lnTo>
                    <a:lnTo>
                      <a:pt x="104" y="0"/>
                    </a:lnTo>
                    <a:lnTo>
                      <a:pt x="55" y="0"/>
                    </a:lnTo>
                    <a:lnTo>
                      <a:pt x="12" y="2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344080" y="5419440"/>
                <a:ext cx="374400" cy="238680"/>
              </a:xfrm>
              <a:custGeom>
                <a:avLst/>
                <a:gdLst/>
                <a:ahLst/>
                <a:rect l="l" t="t" r="r" b="b"/>
                <a:pathLst>
                  <a:path w="143" h="68">
                    <a:moveTo>
                      <a:pt x="25" y="3"/>
                    </a:moveTo>
                    <a:lnTo>
                      <a:pt x="0" y="43"/>
                    </a:lnTo>
                    <a:lnTo>
                      <a:pt x="0" y="67"/>
                    </a:lnTo>
                    <a:lnTo>
                      <a:pt x="142" y="67"/>
                    </a:lnTo>
                    <a:lnTo>
                      <a:pt x="142" y="43"/>
                    </a:lnTo>
                    <a:lnTo>
                      <a:pt x="110" y="3"/>
                    </a:lnTo>
                    <a:lnTo>
                      <a:pt x="105" y="3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95" y="3"/>
                    </a:lnTo>
                    <a:lnTo>
                      <a:pt x="45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33" y="3"/>
                    </a:lnTo>
                    <a:lnTo>
                      <a:pt x="25" y="3"/>
                    </a:lnTo>
                    <a:lnTo>
                      <a:pt x="25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364960" y="5654160"/>
                <a:ext cx="59760" cy="594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0"/>
                    </a:moveTo>
                    <a:lnTo>
                      <a:pt x="22" y="0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650800" y="5654160"/>
                <a:ext cx="62280" cy="594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0"/>
                    </a:moveTo>
                    <a:lnTo>
                      <a:pt x="23" y="0"/>
                    </a:lnTo>
                    <a:lnTo>
                      <a:pt x="23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443440" y="5464800"/>
                <a:ext cx="170280" cy="10908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0" y="0"/>
                    </a:moveTo>
                    <a:lnTo>
                      <a:pt x="64" y="0"/>
                    </a:lnTo>
                    <a:lnTo>
                      <a:pt x="64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487720" y="5447160"/>
                <a:ext cx="0" cy="1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558640" y="5447160"/>
                <a:ext cx="0" cy="1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409240" y="5499720"/>
                <a:ext cx="2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409240" y="5535720"/>
                <a:ext cx="2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8305920" y="5362560"/>
              <a:ext cx="421200" cy="12672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13" y="6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92" y="24"/>
                  </a:lnTo>
                  <a:lnTo>
                    <a:pt x="92" y="35"/>
                  </a:lnTo>
                  <a:lnTo>
                    <a:pt x="125" y="27"/>
                  </a:lnTo>
                  <a:lnTo>
                    <a:pt x="155" y="35"/>
                  </a:lnTo>
                  <a:lnTo>
                    <a:pt x="160" y="24"/>
                  </a:lnTo>
                  <a:lnTo>
                    <a:pt x="142" y="4"/>
                  </a:lnTo>
                  <a:lnTo>
                    <a:pt x="105" y="0"/>
                  </a:lnTo>
                  <a:lnTo>
                    <a:pt x="55" y="0"/>
                  </a:lnTo>
                  <a:lnTo>
                    <a:pt x="13" y="4"/>
                  </a:lnTo>
                  <a:lnTo>
                    <a:pt x="13" y="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325720" y="5404680"/>
              <a:ext cx="375480" cy="245520"/>
            </a:xfrm>
            <a:custGeom>
              <a:avLst/>
              <a:gdLst/>
              <a:ahLst/>
              <a:rect l="l" t="t" r="r" b="b"/>
              <a:pathLst>
                <a:path w="143" h="70">
                  <a:moveTo>
                    <a:pt x="27" y="2"/>
                  </a:moveTo>
                  <a:lnTo>
                    <a:pt x="0" y="45"/>
                  </a:lnTo>
                  <a:lnTo>
                    <a:pt x="0" y="69"/>
                  </a:lnTo>
                  <a:lnTo>
                    <a:pt x="142" y="69"/>
                  </a:lnTo>
                  <a:lnTo>
                    <a:pt x="142" y="45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45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7" y="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353080" y="5646960"/>
              <a:ext cx="60480" cy="60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22" y="0"/>
                  </a:ln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637120" y="5646960"/>
              <a:ext cx="54720" cy="601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422920" y="5446800"/>
              <a:ext cx="177480" cy="119160"/>
            </a:xfrm>
            <a:custGeom>
              <a:avLst/>
              <a:gdLst/>
              <a:ahLst/>
              <a:rect l="l" t="t" r="r" b="b"/>
              <a:pathLst>
                <a:path w="68" h="34">
                  <a:moveTo>
                    <a:pt x="0" y="0"/>
                  </a:moveTo>
                  <a:lnTo>
                    <a:pt x="67" y="0"/>
                  </a:lnTo>
                  <a:lnTo>
                    <a:pt x="67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476200" y="5432400"/>
              <a:ext cx="0" cy="16668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542080" y="5432400"/>
              <a:ext cx="0" cy="16668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97000" y="5485680"/>
              <a:ext cx="21420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97000" y="5520600"/>
              <a:ext cx="21420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380880" y="5749920"/>
            <a:ext cx="439200" cy="351000"/>
            <a:chOff x="380880" y="5749920"/>
            <a:chExt cx="439200" cy="351000"/>
          </a:xfrm>
        </p:grpSpPr>
        <p:grpSp>
          <p:nvGrpSpPr>
            <p:cNvPr id="1008" name=""/>
            <p:cNvGrpSpPr/>
            <p:nvPr/>
          </p:nvGrpSpPr>
          <p:grpSpPr>
            <a:xfrm>
              <a:off x="400680" y="5764680"/>
              <a:ext cx="419400" cy="336240"/>
              <a:chOff x="400680" y="5764680"/>
              <a:chExt cx="419400" cy="336240"/>
            </a:xfrm>
          </p:grpSpPr>
          <p:sp>
            <p:nvSpPr>
              <p:cNvPr id="1009" name=""/>
              <p:cNvSpPr/>
              <p:nvPr/>
            </p:nvSpPr>
            <p:spPr>
              <a:xfrm>
                <a:off x="400680" y="5764680"/>
                <a:ext cx="419400" cy="12636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12" y="5"/>
                    </a:moveTo>
                    <a:lnTo>
                      <a:pt x="0" y="20"/>
                    </a:lnTo>
                    <a:lnTo>
                      <a:pt x="0" y="33"/>
                    </a:lnTo>
                    <a:lnTo>
                      <a:pt x="35" y="26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92" y="25"/>
                    </a:lnTo>
                    <a:lnTo>
                      <a:pt x="92" y="35"/>
                    </a:lnTo>
                    <a:lnTo>
                      <a:pt x="122" y="26"/>
                    </a:lnTo>
                    <a:lnTo>
                      <a:pt x="152" y="35"/>
                    </a:lnTo>
                    <a:lnTo>
                      <a:pt x="159" y="25"/>
                    </a:lnTo>
                    <a:lnTo>
                      <a:pt x="139" y="2"/>
                    </a:lnTo>
                    <a:lnTo>
                      <a:pt x="104" y="0"/>
                    </a:lnTo>
                    <a:lnTo>
                      <a:pt x="55" y="0"/>
                    </a:lnTo>
                    <a:lnTo>
                      <a:pt x="12" y="2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19040" y="5806800"/>
                <a:ext cx="374760" cy="238680"/>
              </a:xfrm>
              <a:custGeom>
                <a:avLst/>
                <a:gdLst/>
                <a:ahLst/>
                <a:rect l="l" t="t" r="r" b="b"/>
                <a:pathLst>
                  <a:path w="143" h="68">
                    <a:moveTo>
                      <a:pt x="25" y="3"/>
                    </a:moveTo>
                    <a:lnTo>
                      <a:pt x="0" y="43"/>
                    </a:lnTo>
                    <a:lnTo>
                      <a:pt x="0" y="67"/>
                    </a:lnTo>
                    <a:lnTo>
                      <a:pt x="142" y="67"/>
                    </a:lnTo>
                    <a:lnTo>
                      <a:pt x="142" y="43"/>
                    </a:lnTo>
                    <a:lnTo>
                      <a:pt x="110" y="3"/>
                    </a:lnTo>
                    <a:lnTo>
                      <a:pt x="105" y="3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95" y="3"/>
                    </a:lnTo>
                    <a:lnTo>
                      <a:pt x="45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33" y="3"/>
                    </a:lnTo>
                    <a:lnTo>
                      <a:pt x="25" y="3"/>
                    </a:lnTo>
                    <a:lnTo>
                      <a:pt x="25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39920" y="6041520"/>
                <a:ext cx="59760" cy="594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0"/>
                    </a:moveTo>
                    <a:lnTo>
                      <a:pt x="22" y="0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26120" y="6041520"/>
                <a:ext cx="62280" cy="594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0"/>
                    </a:moveTo>
                    <a:lnTo>
                      <a:pt x="23" y="0"/>
                    </a:lnTo>
                    <a:lnTo>
                      <a:pt x="23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18400" y="5852160"/>
                <a:ext cx="170640" cy="10908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0" y="0"/>
                    </a:moveTo>
                    <a:lnTo>
                      <a:pt x="64" y="0"/>
                    </a:lnTo>
                    <a:lnTo>
                      <a:pt x="64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3040" y="5834520"/>
                <a:ext cx="0" cy="1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33600" y="5834520"/>
                <a:ext cx="0" cy="1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84560" y="5887080"/>
                <a:ext cx="2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84560" y="5923080"/>
                <a:ext cx="2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380880" y="5749920"/>
              <a:ext cx="421560" cy="12672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13" y="6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92" y="24"/>
                  </a:lnTo>
                  <a:lnTo>
                    <a:pt x="92" y="35"/>
                  </a:lnTo>
                  <a:lnTo>
                    <a:pt x="125" y="27"/>
                  </a:lnTo>
                  <a:lnTo>
                    <a:pt x="155" y="35"/>
                  </a:lnTo>
                  <a:lnTo>
                    <a:pt x="160" y="24"/>
                  </a:lnTo>
                  <a:lnTo>
                    <a:pt x="142" y="4"/>
                  </a:lnTo>
                  <a:lnTo>
                    <a:pt x="105" y="0"/>
                  </a:lnTo>
                  <a:lnTo>
                    <a:pt x="55" y="0"/>
                  </a:lnTo>
                  <a:lnTo>
                    <a:pt x="13" y="4"/>
                  </a:lnTo>
                  <a:lnTo>
                    <a:pt x="13" y="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0680" y="5792040"/>
              <a:ext cx="375480" cy="245520"/>
            </a:xfrm>
            <a:custGeom>
              <a:avLst/>
              <a:gdLst/>
              <a:ahLst/>
              <a:rect l="l" t="t" r="r" b="b"/>
              <a:pathLst>
                <a:path w="143" h="70">
                  <a:moveTo>
                    <a:pt x="27" y="2"/>
                  </a:moveTo>
                  <a:lnTo>
                    <a:pt x="0" y="45"/>
                  </a:lnTo>
                  <a:lnTo>
                    <a:pt x="0" y="69"/>
                  </a:lnTo>
                  <a:lnTo>
                    <a:pt x="142" y="69"/>
                  </a:lnTo>
                  <a:lnTo>
                    <a:pt x="142" y="45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45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7" y="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8040" y="6034320"/>
              <a:ext cx="60480" cy="60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22" y="0"/>
                  </a:ln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12440" y="6034320"/>
              <a:ext cx="54720" cy="601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97880" y="5834160"/>
              <a:ext cx="177840" cy="119160"/>
            </a:xfrm>
            <a:custGeom>
              <a:avLst/>
              <a:gdLst/>
              <a:ahLst/>
              <a:rect l="l" t="t" r="r" b="b"/>
              <a:pathLst>
                <a:path w="68" h="34">
                  <a:moveTo>
                    <a:pt x="0" y="0"/>
                  </a:moveTo>
                  <a:lnTo>
                    <a:pt x="67" y="0"/>
                  </a:lnTo>
                  <a:lnTo>
                    <a:pt x="67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51160" y="5819760"/>
              <a:ext cx="0" cy="16668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400" y="5819760"/>
              <a:ext cx="0" cy="16668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72320" y="5873040"/>
              <a:ext cx="21420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72320" y="5907960"/>
              <a:ext cx="21420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92000" y="4869000"/>
            <a:ext cx="439200" cy="351000"/>
            <a:chOff x="792000" y="4869000"/>
            <a:chExt cx="439200" cy="351000"/>
          </a:xfrm>
        </p:grpSpPr>
        <p:grpSp>
          <p:nvGrpSpPr>
            <p:cNvPr id="1028" name=""/>
            <p:cNvGrpSpPr/>
            <p:nvPr/>
          </p:nvGrpSpPr>
          <p:grpSpPr>
            <a:xfrm>
              <a:off x="811800" y="4883760"/>
              <a:ext cx="419400" cy="336240"/>
              <a:chOff x="811800" y="4883760"/>
              <a:chExt cx="419400" cy="336240"/>
            </a:xfrm>
          </p:grpSpPr>
          <p:sp>
            <p:nvSpPr>
              <p:cNvPr id="1029" name=""/>
              <p:cNvSpPr/>
              <p:nvPr/>
            </p:nvSpPr>
            <p:spPr>
              <a:xfrm>
                <a:off x="811800" y="4883760"/>
                <a:ext cx="419400" cy="126360"/>
              </a:xfrm>
              <a:custGeom>
                <a:avLst/>
                <a:gdLst/>
                <a:ahLst/>
                <a:rect l="l" t="t" r="r" b="b"/>
                <a:pathLst>
                  <a:path w="160" h="36">
                    <a:moveTo>
                      <a:pt x="12" y="5"/>
                    </a:moveTo>
                    <a:lnTo>
                      <a:pt x="0" y="20"/>
                    </a:lnTo>
                    <a:lnTo>
                      <a:pt x="0" y="33"/>
                    </a:lnTo>
                    <a:lnTo>
                      <a:pt x="35" y="26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92" y="25"/>
                    </a:lnTo>
                    <a:lnTo>
                      <a:pt x="92" y="35"/>
                    </a:lnTo>
                    <a:lnTo>
                      <a:pt x="122" y="26"/>
                    </a:lnTo>
                    <a:lnTo>
                      <a:pt x="152" y="35"/>
                    </a:lnTo>
                    <a:lnTo>
                      <a:pt x="159" y="25"/>
                    </a:lnTo>
                    <a:lnTo>
                      <a:pt x="139" y="2"/>
                    </a:lnTo>
                    <a:lnTo>
                      <a:pt x="104" y="0"/>
                    </a:lnTo>
                    <a:lnTo>
                      <a:pt x="55" y="0"/>
                    </a:lnTo>
                    <a:lnTo>
                      <a:pt x="12" y="2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30160" y="4925880"/>
                <a:ext cx="374760" cy="238680"/>
              </a:xfrm>
              <a:custGeom>
                <a:avLst/>
                <a:gdLst/>
                <a:ahLst/>
                <a:rect l="l" t="t" r="r" b="b"/>
                <a:pathLst>
                  <a:path w="143" h="68">
                    <a:moveTo>
                      <a:pt x="25" y="3"/>
                    </a:moveTo>
                    <a:lnTo>
                      <a:pt x="0" y="43"/>
                    </a:lnTo>
                    <a:lnTo>
                      <a:pt x="0" y="67"/>
                    </a:lnTo>
                    <a:lnTo>
                      <a:pt x="142" y="67"/>
                    </a:lnTo>
                    <a:lnTo>
                      <a:pt x="142" y="43"/>
                    </a:lnTo>
                    <a:lnTo>
                      <a:pt x="110" y="3"/>
                    </a:lnTo>
                    <a:lnTo>
                      <a:pt x="105" y="3"/>
                    </a:lnTo>
                    <a:lnTo>
                      <a:pt x="100" y="0"/>
                    </a:lnTo>
                    <a:lnTo>
                      <a:pt x="95" y="0"/>
                    </a:lnTo>
                    <a:lnTo>
                      <a:pt x="95" y="3"/>
                    </a:lnTo>
                    <a:lnTo>
                      <a:pt x="45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33" y="3"/>
                    </a:lnTo>
                    <a:lnTo>
                      <a:pt x="25" y="3"/>
                    </a:lnTo>
                    <a:lnTo>
                      <a:pt x="25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51040" y="5160600"/>
                <a:ext cx="59760" cy="594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0"/>
                    </a:moveTo>
                    <a:lnTo>
                      <a:pt x="22" y="0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137240" y="5160600"/>
                <a:ext cx="62280" cy="594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0"/>
                    </a:moveTo>
                    <a:lnTo>
                      <a:pt x="23" y="0"/>
                    </a:lnTo>
                    <a:lnTo>
                      <a:pt x="23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929520" y="4971240"/>
                <a:ext cx="170640" cy="10908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0" y="0"/>
                    </a:moveTo>
                    <a:lnTo>
                      <a:pt x="64" y="0"/>
                    </a:lnTo>
                    <a:lnTo>
                      <a:pt x="64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974160" y="4953600"/>
                <a:ext cx="0" cy="1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044720" y="4953600"/>
                <a:ext cx="0" cy="16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95680" y="5006160"/>
                <a:ext cx="2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95680" y="5042160"/>
                <a:ext cx="2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92000" y="4869000"/>
              <a:ext cx="421560" cy="12672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13" y="6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92" y="24"/>
                  </a:lnTo>
                  <a:lnTo>
                    <a:pt x="92" y="35"/>
                  </a:lnTo>
                  <a:lnTo>
                    <a:pt x="125" y="27"/>
                  </a:lnTo>
                  <a:lnTo>
                    <a:pt x="155" y="35"/>
                  </a:lnTo>
                  <a:lnTo>
                    <a:pt x="160" y="24"/>
                  </a:lnTo>
                  <a:lnTo>
                    <a:pt x="142" y="4"/>
                  </a:lnTo>
                  <a:lnTo>
                    <a:pt x="105" y="0"/>
                  </a:lnTo>
                  <a:lnTo>
                    <a:pt x="55" y="0"/>
                  </a:lnTo>
                  <a:lnTo>
                    <a:pt x="13" y="4"/>
                  </a:lnTo>
                  <a:lnTo>
                    <a:pt x="13" y="6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1800" y="4911120"/>
              <a:ext cx="375480" cy="245520"/>
            </a:xfrm>
            <a:custGeom>
              <a:avLst/>
              <a:gdLst/>
              <a:ahLst/>
              <a:rect l="l" t="t" r="r" b="b"/>
              <a:pathLst>
                <a:path w="143" h="70">
                  <a:moveTo>
                    <a:pt x="27" y="2"/>
                  </a:moveTo>
                  <a:lnTo>
                    <a:pt x="0" y="45"/>
                  </a:lnTo>
                  <a:lnTo>
                    <a:pt x="0" y="69"/>
                  </a:lnTo>
                  <a:lnTo>
                    <a:pt x="142" y="69"/>
                  </a:lnTo>
                  <a:lnTo>
                    <a:pt x="142" y="45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45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7" y="2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9160" y="5153400"/>
              <a:ext cx="60480" cy="6012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22" y="0"/>
                  </a:ln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123560" y="5153400"/>
              <a:ext cx="54720" cy="601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09000" y="4953240"/>
              <a:ext cx="177840" cy="119160"/>
            </a:xfrm>
            <a:custGeom>
              <a:avLst/>
              <a:gdLst/>
              <a:ahLst/>
              <a:rect l="l" t="t" r="r" b="b"/>
              <a:pathLst>
                <a:path w="68" h="34">
                  <a:moveTo>
                    <a:pt x="0" y="0"/>
                  </a:moveTo>
                  <a:lnTo>
                    <a:pt x="67" y="0"/>
                  </a:lnTo>
                  <a:lnTo>
                    <a:pt x="67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962280" y="4938840"/>
              <a:ext cx="0" cy="16668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28520" y="4938840"/>
              <a:ext cx="0" cy="16668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83440" y="4992120"/>
              <a:ext cx="21420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83440" y="5027040"/>
              <a:ext cx="214200" cy="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1376280" y="1246320"/>
            <a:ext cx="115272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262648"/>
            </a:solidFill>
            <a:miter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1494000" y="1324080"/>
            <a:ext cx="914400" cy="803160"/>
          </a:xfrm>
          <a:prstGeom prst="rect">
            <a:avLst/>
          </a:prstGeom>
          <a:ln w="0">
            <a:noFill/>
          </a:ln>
        </p:spPr>
      </p:pic>
      <p:grpSp>
        <p:nvGrpSpPr>
          <p:cNvPr id="1049" name=""/>
          <p:cNvGrpSpPr/>
          <p:nvPr/>
        </p:nvGrpSpPr>
        <p:grpSpPr>
          <a:xfrm>
            <a:off x="1600200" y="4800600"/>
            <a:ext cx="609120" cy="426600"/>
            <a:chOff x="1600200" y="4800600"/>
            <a:chExt cx="609120" cy="426600"/>
          </a:xfrm>
        </p:grpSpPr>
        <p:grpSp>
          <p:nvGrpSpPr>
            <p:cNvPr id="1050" name=""/>
            <p:cNvGrpSpPr/>
            <p:nvPr/>
          </p:nvGrpSpPr>
          <p:grpSpPr>
            <a:xfrm>
              <a:off x="1606680" y="4803480"/>
              <a:ext cx="602640" cy="423720"/>
              <a:chOff x="1606680" y="4803480"/>
              <a:chExt cx="602640" cy="423720"/>
            </a:xfrm>
          </p:grpSpPr>
          <p:sp>
            <p:nvSpPr>
              <p:cNvPr id="1051" name=""/>
              <p:cNvSpPr/>
              <p:nvPr/>
            </p:nvSpPr>
            <p:spPr>
              <a:xfrm>
                <a:off x="2164320" y="4807800"/>
                <a:ext cx="37800" cy="419400"/>
              </a:xfrm>
              <a:custGeom>
                <a:avLst/>
                <a:gdLst/>
                <a:ahLst/>
                <a:rect l="l" t="t" r="r" b="b"/>
                <a:pathLst>
                  <a:path w="27" h="170">
                    <a:moveTo>
                      <a:pt x="0" y="13"/>
                    </a:moveTo>
                    <a:lnTo>
                      <a:pt x="26" y="0"/>
                    </a:lnTo>
                    <a:lnTo>
                      <a:pt x="26" y="156"/>
                    </a:lnTo>
                    <a:lnTo>
                      <a:pt x="0" y="16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164320" y="4807800"/>
                <a:ext cx="43560" cy="4194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0" y="13"/>
                    </a:moveTo>
                    <a:lnTo>
                      <a:pt x="30" y="0"/>
                    </a:lnTo>
                    <a:lnTo>
                      <a:pt x="30" y="156"/>
                    </a:lnTo>
                    <a:lnTo>
                      <a:pt x="0" y="16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164320" y="4807800"/>
                <a:ext cx="43560" cy="4194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0" y="13"/>
                    </a:moveTo>
                    <a:lnTo>
                      <a:pt x="30" y="0"/>
                    </a:lnTo>
                    <a:lnTo>
                      <a:pt x="30" y="156"/>
                    </a:lnTo>
                    <a:lnTo>
                      <a:pt x="0" y="169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610640" y="4840200"/>
                <a:ext cx="557640" cy="38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07840" y="48351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793880" y="48351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892520" y="48351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85400" y="48351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75760" y="48351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612080" y="503244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1720440" y="5052240"/>
                <a:ext cx="64800" cy="102960"/>
                <a:chOff x="1720440" y="5052240"/>
                <a:chExt cx="64800" cy="10296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1720440" y="505224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1720440" y="50619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720440" y="50716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720440" y="50817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720440" y="50961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720440" y="51040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720440" y="51112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720440" y="512352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720440" y="51357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720440" y="51429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720440" y="515520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1630440" y="5052240"/>
                <a:ext cx="60120" cy="102960"/>
                <a:chOff x="1630440" y="5052240"/>
                <a:chExt cx="60120" cy="1029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1630440" y="505224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630440" y="50619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1630440" y="50716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1630440" y="50817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630440" y="50961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630440" y="51040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630440" y="51112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630440" y="512352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630440" y="51357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630440" y="51429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1630440" y="515520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" name=""/>
              <p:cNvSpPr/>
              <p:nvPr/>
            </p:nvSpPr>
            <p:spPr>
              <a:xfrm>
                <a:off x="1606680" y="4803480"/>
                <a:ext cx="597600" cy="41760"/>
              </a:xfrm>
              <a:custGeom>
                <a:avLst/>
                <a:gdLst/>
                <a:ahLst/>
                <a:rect l="l" t="t" r="r" b="b"/>
                <a:pathLst>
                  <a:path w="424" h="17">
                    <a:moveTo>
                      <a:pt x="28" y="0"/>
                    </a:moveTo>
                    <a:lnTo>
                      <a:pt x="423" y="0"/>
                    </a:lnTo>
                    <a:lnTo>
                      <a:pt x="394" y="16"/>
                    </a:lnTo>
                    <a:lnTo>
                      <a:pt x="0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610640" y="4807800"/>
                <a:ext cx="598680" cy="41760"/>
              </a:xfrm>
              <a:custGeom>
                <a:avLst/>
                <a:gdLst/>
                <a:ahLst/>
                <a:rect l="l" t="t" r="r" b="b"/>
                <a:pathLst>
                  <a:path w="425" h="17">
                    <a:moveTo>
                      <a:pt x="28" y="0"/>
                    </a:moveTo>
                    <a:lnTo>
                      <a:pt x="424" y="0"/>
                    </a:lnTo>
                    <a:lnTo>
                      <a:pt x="395" y="16"/>
                    </a:lnTo>
                    <a:lnTo>
                      <a:pt x="0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610640" y="4807800"/>
                <a:ext cx="598680" cy="41760"/>
              </a:xfrm>
              <a:custGeom>
                <a:avLst/>
                <a:gdLst/>
                <a:ahLst/>
                <a:rect l="l" t="t" r="r" b="b"/>
                <a:pathLst>
                  <a:path w="425" h="17">
                    <a:moveTo>
                      <a:pt x="28" y="0"/>
                    </a:moveTo>
                    <a:lnTo>
                      <a:pt x="424" y="0"/>
                    </a:lnTo>
                    <a:lnTo>
                      <a:pt x="395" y="16"/>
                    </a:lnTo>
                    <a:lnTo>
                      <a:pt x="0" y="16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2163600" y="4800600"/>
              <a:ext cx="39960" cy="422280"/>
            </a:xfrm>
            <a:custGeom>
              <a:avLst/>
              <a:gdLst/>
              <a:ahLst/>
              <a:rect l="l" t="t" r="r" b="b"/>
              <a:pathLst>
                <a:path w="29" h="171">
                  <a:moveTo>
                    <a:pt x="0" y="13"/>
                  </a:moveTo>
                  <a:lnTo>
                    <a:pt x="28" y="0"/>
                  </a:lnTo>
                  <a:lnTo>
                    <a:pt x="28" y="157"/>
                  </a:lnTo>
                  <a:lnTo>
                    <a:pt x="0" y="170"/>
                  </a:lnTo>
                  <a:lnTo>
                    <a:pt x="0" y="13"/>
                  </a:lnTo>
                </a:path>
              </a:pathLst>
            </a:cu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63600" y="4800600"/>
              <a:ext cx="39960" cy="422280"/>
            </a:xfrm>
            <a:custGeom>
              <a:avLst/>
              <a:gdLst/>
              <a:ahLst/>
              <a:rect l="l" t="t" r="r" b="b"/>
              <a:pathLst>
                <a:path w="29" h="171">
                  <a:moveTo>
                    <a:pt x="0" y="13"/>
                  </a:moveTo>
                  <a:lnTo>
                    <a:pt x="28" y="0"/>
                  </a:lnTo>
                  <a:lnTo>
                    <a:pt x="28" y="157"/>
                  </a:lnTo>
                  <a:lnTo>
                    <a:pt x="0" y="170"/>
                  </a:lnTo>
                  <a:lnTo>
                    <a:pt x="0" y="13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a5a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600200" y="4832280"/>
              <a:ext cx="563400" cy="387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95600" y="48304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785960" y="48304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884240" y="48304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78200" y="48304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65320" y="48304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606680" y="5027400"/>
              <a:ext cx="547560" cy="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4800600"/>
              <a:ext cx="603360" cy="41040"/>
            </a:xfrm>
            <a:custGeom>
              <a:avLst/>
              <a:gdLst/>
              <a:ahLst/>
              <a:rect l="l" t="t" r="r" b="b"/>
              <a:pathLst>
                <a:path w="428" h="17">
                  <a:moveTo>
                    <a:pt x="28" y="0"/>
                  </a:moveTo>
                  <a:lnTo>
                    <a:pt x="427" y="0"/>
                  </a:lnTo>
                  <a:lnTo>
                    <a:pt x="398" y="16"/>
                  </a:lnTo>
                  <a:lnTo>
                    <a:pt x="0" y="16"/>
                  </a:lnTo>
                  <a:lnTo>
                    <a:pt x="28" y="0"/>
                  </a:lnTo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4800600"/>
              <a:ext cx="603360" cy="41040"/>
            </a:xfrm>
            <a:custGeom>
              <a:avLst/>
              <a:gdLst/>
              <a:ahLst/>
              <a:rect l="l" t="t" r="r" b="b"/>
              <a:pathLst>
                <a:path w="428" h="17">
                  <a:moveTo>
                    <a:pt x="28" y="0"/>
                  </a:moveTo>
                  <a:lnTo>
                    <a:pt x="427" y="0"/>
                  </a:lnTo>
                  <a:lnTo>
                    <a:pt x="398" y="16"/>
                  </a:lnTo>
                  <a:lnTo>
                    <a:pt x="0" y="16"/>
                  </a:lnTo>
                  <a:lnTo>
                    <a:pt x="28" y="0"/>
                  </a:lnTo>
                </a:path>
              </a:pathLst>
            </a:custGeom>
            <a:solidFill>
              <a:srgbClr val="f8f8f8"/>
            </a:solidFill>
            <a:ln cap="rnd" w="12600">
              <a:solidFill>
                <a:srgbClr val="c9c9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143000" y="5715000"/>
            <a:ext cx="609120" cy="426600"/>
            <a:chOff x="1143000" y="5715000"/>
            <a:chExt cx="609120" cy="426600"/>
          </a:xfrm>
        </p:grpSpPr>
        <p:grpSp>
          <p:nvGrpSpPr>
            <p:cNvPr id="1100" name=""/>
            <p:cNvGrpSpPr/>
            <p:nvPr/>
          </p:nvGrpSpPr>
          <p:grpSpPr>
            <a:xfrm>
              <a:off x="1149480" y="5717880"/>
              <a:ext cx="602640" cy="423720"/>
              <a:chOff x="1149480" y="5717880"/>
              <a:chExt cx="602640" cy="423720"/>
            </a:xfrm>
          </p:grpSpPr>
          <p:sp>
            <p:nvSpPr>
              <p:cNvPr id="1101" name=""/>
              <p:cNvSpPr/>
              <p:nvPr/>
            </p:nvSpPr>
            <p:spPr>
              <a:xfrm>
                <a:off x="1707120" y="5722200"/>
                <a:ext cx="37800" cy="419400"/>
              </a:xfrm>
              <a:custGeom>
                <a:avLst/>
                <a:gdLst/>
                <a:ahLst/>
                <a:rect l="l" t="t" r="r" b="b"/>
                <a:pathLst>
                  <a:path w="27" h="170">
                    <a:moveTo>
                      <a:pt x="0" y="13"/>
                    </a:moveTo>
                    <a:lnTo>
                      <a:pt x="26" y="0"/>
                    </a:lnTo>
                    <a:lnTo>
                      <a:pt x="26" y="156"/>
                    </a:lnTo>
                    <a:lnTo>
                      <a:pt x="0" y="16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707120" y="5722200"/>
                <a:ext cx="43560" cy="4194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0" y="13"/>
                    </a:moveTo>
                    <a:lnTo>
                      <a:pt x="30" y="0"/>
                    </a:lnTo>
                    <a:lnTo>
                      <a:pt x="30" y="156"/>
                    </a:lnTo>
                    <a:lnTo>
                      <a:pt x="0" y="16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707120" y="5722200"/>
                <a:ext cx="43560" cy="419400"/>
              </a:xfrm>
              <a:custGeom>
                <a:avLst/>
                <a:gdLst/>
                <a:ahLst/>
                <a:rect l="l" t="t" r="r" b="b"/>
                <a:pathLst>
                  <a:path w="31" h="170">
                    <a:moveTo>
                      <a:pt x="0" y="13"/>
                    </a:moveTo>
                    <a:lnTo>
                      <a:pt x="30" y="0"/>
                    </a:lnTo>
                    <a:lnTo>
                      <a:pt x="30" y="156"/>
                    </a:lnTo>
                    <a:lnTo>
                      <a:pt x="0" y="169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153440" y="5754600"/>
                <a:ext cx="557640" cy="38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250640" y="57495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336680" y="57495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435320" y="57495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528200" y="57495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618560" y="5749560"/>
                <a:ext cx="0" cy="38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154880" y="5946840"/>
                <a:ext cx="55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1" name=""/>
              <p:cNvGrpSpPr/>
              <p:nvPr/>
            </p:nvGrpSpPr>
            <p:grpSpPr>
              <a:xfrm>
                <a:off x="1263240" y="5966640"/>
                <a:ext cx="64800" cy="102960"/>
                <a:chOff x="1263240" y="5966640"/>
                <a:chExt cx="64800" cy="10296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63240" y="596664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63240" y="59763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1263240" y="59860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263240" y="59961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263240" y="60105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263240" y="60184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1263240" y="602568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1263240" y="603792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263240" y="60501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263240" y="605736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263240" y="6069600"/>
                  <a:ext cx="64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1173240" y="5966640"/>
                <a:ext cx="60120" cy="102960"/>
                <a:chOff x="1173240" y="5966640"/>
                <a:chExt cx="60120" cy="10296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1173240" y="596664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1173240" y="59763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1173240" y="59860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173240" y="59961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1173240" y="60105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173240" y="60184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1173240" y="602568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173240" y="603792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173240" y="60501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1173240" y="605736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1173240" y="6069600"/>
                  <a:ext cx="6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" name=""/>
              <p:cNvSpPr/>
              <p:nvPr/>
            </p:nvSpPr>
            <p:spPr>
              <a:xfrm>
                <a:off x="1149480" y="5717880"/>
                <a:ext cx="597600" cy="41760"/>
              </a:xfrm>
              <a:custGeom>
                <a:avLst/>
                <a:gdLst/>
                <a:ahLst/>
                <a:rect l="l" t="t" r="r" b="b"/>
                <a:pathLst>
                  <a:path w="424" h="17">
                    <a:moveTo>
                      <a:pt x="28" y="0"/>
                    </a:moveTo>
                    <a:lnTo>
                      <a:pt x="423" y="0"/>
                    </a:lnTo>
                    <a:lnTo>
                      <a:pt x="394" y="16"/>
                    </a:lnTo>
                    <a:lnTo>
                      <a:pt x="0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153440" y="5722200"/>
                <a:ext cx="598680" cy="41760"/>
              </a:xfrm>
              <a:custGeom>
                <a:avLst/>
                <a:gdLst/>
                <a:ahLst/>
                <a:rect l="l" t="t" r="r" b="b"/>
                <a:pathLst>
                  <a:path w="425" h="17">
                    <a:moveTo>
                      <a:pt x="28" y="0"/>
                    </a:moveTo>
                    <a:lnTo>
                      <a:pt x="424" y="0"/>
                    </a:lnTo>
                    <a:lnTo>
                      <a:pt x="395" y="16"/>
                    </a:lnTo>
                    <a:lnTo>
                      <a:pt x="0" y="1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153440" y="5722200"/>
                <a:ext cx="598680" cy="41760"/>
              </a:xfrm>
              <a:custGeom>
                <a:avLst/>
                <a:gdLst/>
                <a:ahLst/>
                <a:rect l="l" t="t" r="r" b="b"/>
                <a:pathLst>
                  <a:path w="425" h="17">
                    <a:moveTo>
                      <a:pt x="28" y="0"/>
                    </a:moveTo>
                    <a:lnTo>
                      <a:pt x="424" y="0"/>
                    </a:lnTo>
                    <a:lnTo>
                      <a:pt x="395" y="16"/>
                    </a:lnTo>
                    <a:lnTo>
                      <a:pt x="0" y="16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"/>
            <p:cNvSpPr/>
            <p:nvPr/>
          </p:nvSpPr>
          <p:spPr>
            <a:xfrm>
              <a:off x="1706400" y="5715000"/>
              <a:ext cx="39960" cy="422280"/>
            </a:xfrm>
            <a:custGeom>
              <a:avLst/>
              <a:gdLst/>
              <a:ahLst/>
              <a:rect l="l" t="t" r="r" b="b"/>
              <a:pathLst>
                <a:path w="29" h="171">
                  <a:moveTo>
                    <a:pt x="0" y="13"/>
                  </a:moveTo>
                  <a:lnTo>
                    <a:pt x="28" y="0"/>
                  </a:lnTo>
                  <a:lnTo>
                    <a:pt x="28" y="157"/>
                  </a:lnTo>
                  <a:lnTo>
                    <a:pt x="0" y="170"/>
                  </a:lnTo>
                  <a:lnTo>
                    <a:pt x="0" y="13"/>
                  </a:lnTo>
                </a:path>
              </a:pathLst>
            </a:cu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06400" y="5715000"/>
              <a:ext cx="39960" cy="422280"/>
            </a:xfrm>
            <a:custGeom>
              <a:avLst/>
              <a:gdLst/>
              <a:ahLst/>
              <a:rect l="l" t="t" r="r" b="b"/>
              <a:pathLst>
                <a:path w="29" h="171">
                  <a:moveTo>
                    <a:pt x="0" y="13"/>
                  </a:moveTo>
                  <a:lnTo>
                    <a:pt x="28" y="0"/>
                  </a:lnTo>
                  <a:lnTo>
                    <a:pt x="28" y="157"/>
                  </a:lnTo>
                  <a:lnTo>
                    <a:pt x="0" y="170"/>
                  </a:lnTo>
                  <a:lnTo>
                    <a:pt x="0" y="13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a5a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43000" y="5746680"/>
              <a:ext cx="563400" cy="387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238400" y="57448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328760" y="57448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427040" y="57448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21000" y="57448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08120" y="5744880"/>
              <a:ext cx="0" cy="38448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49480" y="5941800"/>
              <a:ext cx="547560" cy="0"/>
            </a:xfrm>
            <a:prstGeom prst="line">
              <a:avLst/>
            </a:prstGeom>
            <a:ln w="12600">
              <a:solidFill>
                <a:srgbClr val="6262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43000" y="5715000"/>
              <a:ext cx="603360" cy="41040"/>
            </a:xfrm>
            <a:custGeom>
              <a:avLst/>
              <a:gdLst/>
              <a:ahLst/>
              <a:rect l="l" t="t" r="r" b="b"/>
              <a:pathLst>
                <a:path w="428" h="17">
                  <a:moveTo>
                    <a:pt x="28" y="0"/>
                  </a:moveTo>
                  <a:lnTo>
                    <a:pt x="427" y="0"/>
                  </a:lnTo>
                  <a:lnTo>
                    <a:pt x="398" y="16"/>
                  </a:lnTo>
                  <a:lnTo>
                    <a:pt x="0" y="16"/>
                  </a:lnTo>
                  <a:lnTo>
                    <a:pt x="28" y="0"/>
                  </a:lnTo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143000" y="5715000"/>
              <a:ext cx="603360" cy="41040"/>
            </a:xfrm>
            <a:custGeom>
              <a:avLst/>
              <a:gdLst/>
              <a:ahLst/>
              <a:rect l="l" t="t" r="r" b="b"/>
              <a:pathLst>
                <a:path w="428" h="17">
                  <a:moveTo>
                    <a:pt x="28" y="0"/>
                  </a:moveTo>
                  <a:lnTo>
                    <a:pt x="427" y="0"/>
                  </a:lnTo>
                  <a:lnTo>
                    <a:pt x="398" y="16"/>
                  </a:lnTo>
                  <a:lnTo>
                    <a:pt x="0" y="16"/>
                  </a:lnTo>
                  <a:lnTo>
                    <a:pt x="28" y="0"/>
                  </a:lnTo>
                </a:path>
              </a:pathLst>
            </a:custGeom>
            <a:solidFill>
              <a:srgbClr val="f8f8f8"/>
            </a:solidFill>
            <a:ln cap="rnd" w="12600">
              <a:solidFill>
                <a:srgbClr val="c9c9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AE1-F2AB-4E5E-B177-1068122327D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64311-D970-48DD-A55B-21FA44EDA5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698920" y="4822920"/>
            <a:ext cx="6445080" cy="91440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57440" y="4822920"/>
            <a:ext cx="77760" cy="91440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503440" y="4822920"/>
            <a:ext cx="1800" cy="914400"/>
          </a:xfrm>
          <a:prstGeom prst="line">
            <a:avLst/>
          </a:prstGeom>
          <a:ln w="28440">
            <a:solidFill>
              <a:srgbClr val="79c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32560" y="482292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698920" y="3341520"/>
            <a:ext cx="644508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7440" y="3341520"/>
            <a:ext cx="7776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03440" y="3341520"/>
            <a:ext cx="1800" cy="914400"/>
          </a:xfrm>
          <a:prstGeom prst="line">
            <a:avLst/>
          </a:prstGeom>
          <a:ln w="28440">
            <a:solidFill>
              <a:srgbClr val="9191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432560" y="334152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9191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-11160" y="652320"/>
            <a:ext cx="3287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Présent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770200" y="3408480"/>
            <a:ext cx="7278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La montée en débit </a:t>
            </a:r>
            <a:br>
              <a:rPr sz="3000"/>
            </a:b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dans le réseau coeu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770200" y="4898880"/>
            <a:ext cx="7364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La construction 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d’un réseau mondi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20680" y="1844640"/>
            <a:ext cx="128448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191c5"/>
                </a:solidFill>
                <a:latin typeface="Arial"/>
              </a:rPr>
              <a:t>1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20680" y="3386160"/>
            <a:ext cx="1284480" cy="77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191c5"/>
                </a:solidFill>
                <a:latin typeface="Arial"/>
              </a:rPr>
              <a:t>2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120680" y="4832280"/>
            <a:ext cx="128448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9ff66"/>
                </a:solidFill>
                <a:latin typeface="Arial"/>
              </a:rPr>
              <a:t>3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698920" y="1828800"/>
            <a:ext cx="644508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7440" y="1828800"/>
            <a:ext cx="7776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03440" y="1828800"/>
            <a:ext cx="1800" cy="914400"/>
          </a:xfrm>
          <a:prstGeom prst="line">
            <a:avLst/>
          </a:prstGeom>
          <a:ln w="28440">
            <a:solidFill>
              <a:srgbClr val="9191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432560" y="182880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9191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770200" y="1890720"/>
            <a:ext cx="7107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La croissance des données </a:t>
            </a:r>
            <a:br>
              <a:rPr sz="3000"/>
            </a:b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et la montée en débit à l’accè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64B-16A2-467D-9501-B88C8DC4839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D34D0-0651-40A7-897C-502507D3F4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MONDE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307040" cy="2481120"/>
          </a:xfrm>
          <a:prstGeom prst="rect">
            <a:avLst/>
          </a:prstGeom>
          <a:ln w="0">
            <a:noFill/>
          </a:ln>
        </p:spPr>
      </p:pic>
      <p:grpSp>
        <p:nvGrpSpPr>
          <p:cNvPr id="1170" name=""/>
          <p:cNvGrpSpPr/>
          <p:nvPr/>
        </p:nvGrpSpPr>
        <p:grpSpPr>
          <a:xfrm>
            <a:off x="4133880" y="1600200"/>
            <a:ext cx="6267240" cy="6266880"/>
            <a:chOff x="4133880" y="1600200"/>
            <a:chExt cx="6267240" cy="6266880"/>
          </a:xfrm>
        </p:grpSpPr>
        <p:sp>
          <p:nvSpPr>
            <p:cNvPr id="1171" name=""/>
            <p:cNvSpPr/>
            <p:nvPr/>
          </p:nvSpPr>
          <p:spPr>
            <a:xfrm>
              <a:off x="4949640" y="2241000"/>
              <a:ext cx="4227120" cy="4616640"/>
            </a:xfrm>
            <a:custGeom>
              <a:avLst/>
              <a:gdLst/>
              <a:ahLst/>
              <a:rect l="l" t="t" r="r" b="b"/>
              <a:pathLst>
                <a:path w="3120" h="3408">
                  <a:moveTo>
                    <a:pt x="0" y="3408"/>
                  </a:moveTo>
                  <a:lnTo>
                    <a:pt x="3120" y="3408"/>
                  </a:lnTo>
                  <a:lnTo>
                    <a:pt x="3120" y="0"/>
                  </a:lnTo>
                  <a:lnTo>
                    <a:pt x="1632" y="1824"/>
                  </a:lnTo>
                  <a:lnTo>
                    <a:pt x="0" y="3408"/>
                  </a:lnTo>
                  <a:close/>
                </a:path>
              </a:pathLst>
            </a:cu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1600200"/>
              <a:ext cx="6267240" cy="626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0" y="18110"/>
                  </a:moveTo>
                  <a:arcTo wR="10800" hR="10800" stAng="8244061" swAng="102195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0" y="18110"/>
                  </a:moveTo>
                  <a:arcTo wR="10800" hR="10800" stAng="8244061" swAng="10219567"/>
                </a:path>
              </a:pathLst>
            </a:custGeom>
            <a:solidFill>
              <a:srgbClr val="79cb4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La construction </a:t>
            </a:r>
            <a:br>
              <a:rPr sz="3300"/>
            </a:b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d’un réseau mondia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3276360" y="2362320"/>
            <a:ext cx="71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140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Afin d’accompagner 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la croissance explosive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des données 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en protocole IP,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140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France Télécom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140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déploie 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un réseau mondi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-11160" y="1066680"/>
            <a:ext cx="481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23744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2E00-11CE-482F-AF1E-66B1524476B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F25-A628-4CB9-94FE-51FD6E92F6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FDF2B-42F9-4556-BF51-0B39B71C04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c0000" descr=""/>
          <p:cNvPicPr/>
          <p:nvPr/>
        </p:nvPicPr>
        <p:blipFill>
          <a:blip r:embed="rId1"/>
          <a:stretch/>
        </p:blipFill>
        <p:spPr>
          <a:xfrm>
            <a:off x="782640" y="820800"/>
            <a:ext cx="7978680" cy="4964040"/>
          </a:xfrm>
          <a:prstGeom prst="rect">
            <a:avLst/>
          </a:prstGeom>
          <a:ln w="0">
            <a:noFill/>
          </a:ln>
        </p:spPr>
      </p:pic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ffff"/>
                </a:solidFill>
                <a:latin typeface="Arial"/>
              </a:rPr>
              <a:t>European Backbone Network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-11160" y="652320"/>
            <a:ext cx="656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-919080" y="1141560"/>
            <a:ext cx="2913840" cy="2874240"/>
            <a:chOff x="-919080" y="1141560"/>
            <a:chExt cx="2913840" cy="2874240"/>
          </a:xfrm>
        </p:grpSpPr>
        <p:sp>
          <p:nvSpPr>
            <p:cNvPr id="1181" name=""/>
            <p:cNvSpPr/>
            <p:nvPr/>
          </p:nvSpPr>
          <p:spPr>
            <a:xfrm rot="5400000">
              <a:off x="-929520" y="2134800"/>
              <a:ext cx="2712960" cy="863280"/>
            </a:xfrm>
            <a:prstGeom prst="triangle">
              <a:avLst>
                <a:gd name="adj" fmla="val 53120"/>
              </a:avLst>
            </a:prstGeom>
            <a:solidFill>
              <a:srgbClr val="3d3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-919080" y="1141560"/>
              <a:ext cx="2913840" cy="287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858" y="745"/>
                  </a:moveTo>
                  <a:arcTo wR="10800" hR="10800" stAng="-6684459" swAng="13396092"/>
                  <a:lnTo>
                    <a:pt x="10800" y="10800"/>
                  </a:lnTo>
                  <a:close/>
                </a:path>
                <a:path fill="none" w="21600" h="21600">
                  <a:moveTo>
                    <a:pt x="6858" y="745"/>
                  </a:moveTo>
                  <a:arcTo wR="10800" hR="10800" stAng="-6684459" swAng="13396092"/>
                </a:path>
              </a:pathLst>
            </a:custGeom>
            <a:solidFill>
              <a:srgbClr val="3d3d75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770400" y="1773360"/>
            <a:ext cx="7520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0400" y="2155680"/>
            <a:ext cx="7520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37960" y="1962000"/>
            <a:ext cx="5763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37960" y="2344680"/>
            <a:ext cx="576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7960" y="2763720"/>
            <a:ext cx="576360" cy="0"/>
          </a:xfrm>
          <a:prstGeom prst="line">
            <a:avLst/>
          </a:prstGeom>
          <a:ln w="50760">
            <a:solidFill>
              <a:srgbClr val="bb57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70400" y="2576520"/>
            <a:ext cx="7520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9120" y="3017880"/>
            <a:ext cx="272880" cy="258840"/>
          </a:xfrm>
          <a:prstGeom prst="star5">
            <a:avLst/>
          </a:prstGeom>
          <a:solidFill>
            <a:srgbClr val="ff7d5f"/>
          </a:solidFill>
          <a:ln w="9360">
            <a:solidFill>
              <a:srgbClr val="ff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94520" y="3025800"/>
            <a:ext cx="721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6048360"/>
            <a:ext cx="412740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000" y="6048360"/>
            <a:ext cx="426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0305a"/>
                </a:solidFill>
                <a:latin typeface="Arial"/>
              </a:rPr>
              <a:t>Situation  fin 2000 </a:t>
            </a:r>
            <a:r>
              <a:rPr b="1" lang="fr-FR" sz="2200" spc="-1" strike="noStrike">
                <a:solidFill>
                  <a:srgbClr val="30305a"/>
                </a:solidFill>
                <a:latin typeface="Wingdings"/>
                <a:ea typeface="Wingdings"/>
              </a:rPr>
              <a:t></a:t>
            </a:r>
            <a:r>
              <a:rPr b="1" lang="fr-FR" sz="2200" spc="-1" strike="noStrike">
                <a:solidFill>
                  <a:srgbClr val="30305a"/>
                </a:solidFill>
                <a:latin typeface="Arial"/>
              </a:rPr>
              <a:t>  fin 2001</a:t>
            </a:r>
            <a:r>
              <a:rPr b="1" lang="fr-FR" sz="1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5400000">
            <a:off x="4092840" y="6158520"/>
            <a:ext cx="457200" cy="23652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75160" y="5746680"/>
            <a:ext cx="3449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626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952560"/>
                <a:tab algn="r" pos="1563840"/>
                <a:tab algn="l" pos="1787400"/>
                <a:tab algn="r" pos="266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Pays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8</a:t>
            </a:r>
            <a:r>
              <a:rPr b="1" lang="fr-FR" sz="1900" spc="-1" strike="noStrike">
                <a:solidFill>
                  <a:srgbClr val="26264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fr-FR" sz="1900" spc="-1" strike="noStrike">
                <a:solidFill>
                  <a:srgbClr val="262648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1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952560"/>
                <a:tab algn="r" pos="1563840"/>
                <a:tab algn="l" pos="1787400"/>
                <a:tab algn="r" pos="266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Villes 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19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5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952560"/>
                <a:tab algn="r" pos="1563840"/>
                <a:tab algn="l" pos="1787400"/>
                <a:tab algn="r" pos="266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POP 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21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fr-FR" sz="1900" spc="-1" strike="noStrike">
                <a:solidFill>
                  <a:srgbClr val="ff9933"/>
                </a:solidFill>
                <a:latin typeface="Arial"/>
              </a:rPr>
              <a:t>+ 6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C14-366F-430B-A0F2-9CF82524E40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F6E4F-9054-4253-A3EB-5831690247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752400" y="968400"/>
            <a:ext cx="8391600" cy="336600"/>
            <a:chOff x="752400" y="968400"/>
            <a:chExt cx="8391600" cy="336600"/>
          </a:xfrm>
        </p:grpSpPr>
        <p:grpSp>
          <p:nvGrpSpPr>
            <p:cNvPr id="1196" name=""/>
            <p:cNvGrpSpPr/>
            <p:nvPr/>
          </p:nvGrpSpPr>
          <p:grpSpPr>
            <a:xfrm>
              <a:off x="752400" y="968400"/>
              <a:ext cx="8391600" cy="336600"/>
              <a:chOff x="752400" y="968400"/>
              <a:chExt cx="8391600" cy="336600"/>
            </a:xfrm>
          </p:grpSpPr>
          <p:sp>
            <p:nvSpPr>
              <p:cNvPr id="1197" name=""/>
              <p:cNvSpPr/>
              <p:nvPr/>
            </p:nvSpPr>
            <p:spPr>
              <a:xfrm>
                <a:off x="946080" y="968400"/>
                <a:ext cx="8197920" cy="336600"/>
              </a:xfrm>
              <a:prstGeom prst="rect">
                <a:avLst/>
              </a:prstGeom>
              <a:solidFill>
                <a:srgbClr val="79cb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06400" y="968400"/>
                <a:ext cx="76320" cy="336600"/>
              </a:xfrm>
              <a:prstGeom prst="rect">
                <a:avLst/>
              </a:prstGeom>
              <a:solidFill>
                <a:srgbClr val="79cb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52400" y="968400"/>
                <a:ext cx="0" cy="336600"/>
              </a:xfrm>
              <a:prstGeom prst="line">
                <a:avLst/>
              </a:prstGeom>
              <a:ln w="28440">
                <a:solidFill>
                  <a:srgbClr val="79cb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7620120" y="968400"/>
              <a:ext cx="1523880" cy="336600"/>
            </a:xfrm>
            <a:prstGeom prst="rect">
              <a:avLst/>
            </a:prstGeom>
            <a:gradFill rotWithShape="0">
              <a:gsLst>
                <a:gs pos="0">
                  <a:srgbClr val="6464ae"/>
                </a:gs>
                <a:gs pos="100000">
                  <a:srgbClr val="79cb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752400" y="2328840"/>
            <a:ext cx="8391600" cy="336600"/>
            <a:chOff x="752400" y="2328840"/>
            <a:chExt cx="8391600" cy="336600"/>
          </a:xfrm>
        </p:grpSpPr>
        <p:grpSp>
          <p:nvGrpSpPr>
            <p:cNvPr id="1202" name=""/>
            <p:cNvGrpSpPr/>
            <p:nvPr/>
          </p:nvGrpSpPr>
          <p:grpSpPr>
            <a:xfrm>
              <a:off x="752400" y="2328840"/>
              <a:ext cx="8391600" cy="336600"/>
              <a:chOff x="752400" y="2328840"/>
              <a:chExt cx="8391600" cy="336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946080" y="2328840"/>
                <a:ext cx="8197920" cy="336600"/>
              </a:xfrm>
              <a:prstGeom prst="rect">
                <a:avLst/>
              </a:prstGeom>
              <a:solidFill>
                <a:srgbClr val="79cb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06400" y="2328840"/>
                <a:ext cx="76320" cy="336600"/>
              </a:xfrm>
              <a:prstGeom prst="rect">
                <a:avLst/>
              </a:prstGeom>
              <a:solidFill>
                <a:srgbClr val="79cb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52400" y="2328840"/>
                <a:ext cx="0" cy="336600"/>
              </a:xfrm>
              <a:prstGeom prst="line">
                <a:avLst/>
              </a:prstGeom>
              <a:ln w="28440">
                <a:solidFill>
                  <a:srgbClr val="79cb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6" name=""/>
            <p:cNvSpPr/>
            <p:nvPr/>
          </p:nvSpPr>
          <p:spPr>
            <a:xfrm>
              <a:off x="7620120" y="2328840"/>
              <a:ext cx="1523880" cy="336600"/>
            </a:xfrm>
            <a:prstGeom prst="rect">
              <a:avLst/>
            </a:prstGeom>
            <a:gradFill rotWithShape="0">
              <a:gsLst>
                <a:gs pos="0">
                  <a:srgbClr val="6464ae"/>
                </a:gs>
                <a:gs pos="100000">
                  <a:srgbClr val="79cb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-11160" y="652320"/>
            <a:ext cx="2525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988920" y="9032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62648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988920" y="2286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9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62648"/>
                </a:solidFill>
                <a:latin typeface="Arial"/>
              </a:rPr>
              <a:t>Constit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03160" y="2666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173880" indent="-173880">
              <a:lnSpc>
                <a:spcPct val="95000"/>
              </a:lnSpc>
              <a:spcBef>
                <a:spcPts val="374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Un réseau haut débit reliant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78080" indent="-139680">
              <a:lnSpc>
                <a:spcPct val="95000"/>
              </a:lnSpc>
              <a:spcBef>
                <a:spcPts val="113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66"/>
                </a:solidFill>
                <a:latin typeface="Arial"/>
              </a:rPr>
              <a:t>28 villes en Amérique du nord dont 3 au Canad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Le NAB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03160" y="13604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lnSpc>
                <a:spcPct val="85000"/>
              </a:lnSpc>
              <a:spcBef>
                <a:spcPts val="249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ticiper l’explosion du trafic transatlantique :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ternet, données, voix et multiméd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3160" y="3421080"/>
            <a:ext cx="8175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93960" indent="-93960">
              <a:lnSpc>
                <a:spcPct val="95000"/>
              </a:lnSpc>
              <a:spcBef>
                <a:spcPts val="374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nterconnecté av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58480" indent="-75600">
              <a:lnSpc>
                <a:spcPct val="95000"/>
              </a:lnSpc>
              <a:spcBef>
                <a:spcPts val="113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66"/>
                </a:solidFill>
                <a:latin typeface="Arial"/>
              </a:rPr>
              <a:t>Le Réseau pan-européen de France Téléc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8480" indent="-75600">
              <a:lnSpc>
                <a:spcPct val="95000"/>
              </a:lnSpc>
              <a:spcBef>
                <a:spcPts val="113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ff66"/>
                </a:solidFill>
                <a:latin typeface="Arial"/>
              </a:rPr>
              <a:t>Et les principaux câbles sous-marins mondiaux </a:t>
            </a:r>
            <a:br>
              <a:rPr sz="1800"/>
            </a:br>
            <a:r>
              <a:rPr b="1" lang="fr-FR" sz="1800" spc="-1" strike="noStrike">
                <a:solidFill>
                  <a:srgbClr val="99ff66"/>
                </a:solidFill>
                <a:latin typeface="Arial"/>
              </a:rPr>
              <a:t>(TAT-14, Americas-II, 360americas, Japan-US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03160" y="4670280"/>
            <a:ext cx="8612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ans couture et auto-sécurisé, support de tout type de trafic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Fondé sur DWDM et SONET (jusqu’à 10 Gbits/s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ong de 24 000km , un débit pouvant évoluer jusqu’à 1,6 terabit/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ise en service de la première boucle en 2001, achèvement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u réseau 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F0D-C7DD-42B3-B45F-F255A53FCB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38283-597D-423C-9843-730FB0EE36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500040" y="795240"/>
            <a:ext cx="8461440" cy="5399280"/>
            <a:chOff x="500040" y="795240"/>
            <a:chExt cx="8461440" cy="5399280"/>
          </a:xfrm>
        </p:grpSpPr>
        <p:pic>
          <p:nvPicPr>
            <p:cNvPr id="1216" name="c3" descr=""/>
            <p:cNvPicPr/>
            <p:nvPr/>
          </p:nvPicPr>
          <p:blipFill>
            <a:blip r:embed="rId1"/>
            <a:stretch/>
          </p:blipFill>
          <p:spPr>
            <a:xfrm>
              <a:off x="500040" y="795240"/>
              <a:ext cx="846144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"/>
            <p:cNvSpPr/>
            <p:nvPr/>
          </p:nvSpPr>
          <p:spPr>
            <a:xfrm>
              <a:off x="588960" y="873000"/>
              <a:ext cx="8299440" cy="5227920"/>
            </a:xfrm>
            <a:prstGeom prst="roundRect">
              <a:avLst>
                <a:gd name="adj" fmla="val 3111"/>
              </a:avLst>
            </a:prstGeom>
            <a:noFill/>
            <a:ln w="28440">
              <a:solidFill>
                <a:srgbClr val="3d3d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ffff"/>
                </a:solidFill>
                <a:latin typeface="Arial"/>
              </a:rPr>
              <a:t>North American Backbone Network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-11160" y="652320"/>
            <a:ext cx="785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150840" y="3819600"/>
            <a:ext cx="914400" cy="871560"/>
            <a:chOff x="150840" y="3819600"/>
            <a:chExt cx="914400" cy="871560"/>
          </a:xfrm>
        </p:grpSpPr>
        <p:sp>
          <p:nvSpPr>
            <p:cNvPr id="1221" name=""/>
            <p:cNvSpPr/>
            <p:nvPr/>
          </p:nvSpPr>
          <p:spPr>
            <a:xfrm>
              <a:off x="169560" y="3819600"/>
              <a:ext cx="872280" cy="871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50840" y="40514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0305a"/>
                  </a:solidFill>
                  <a:latin typeface="Arial"/>
                </a:rPr>
                <a:t>Asia</a:t>
              </a:r>
              <a:r>
                <a:rPr b="1" lang="fr-FR" sz="1800" spc="-1" strike="noStrike">
                  <a:solidFill>
                    <a:srgbClr val="ff9933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7545240" y="5769000"/>
            <a:ext cx="979560" cy="97956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418520" y="6022800"/>
            <a:ext cx="123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0305a"/>
                </a:solidFill>
                <a:latin typeface="Arial"/>
              </a:rPr>
              <a:t>South Amer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147160" y="3224160"/>
            <a:ext cx="944280" cy="94464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028000" y="4224240"/>
            <a:ext cx="121932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626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360 americ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34400" y="3403440"/>
            <a:ext cx="13716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0305a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0305a"/>
                </a:solidFill>
                <a:latin typeface="Arial"/>
              </a:rPr>
              <a:t>(EB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846920" y="5160960"/>
            <a:ext cx="1371600" cy="34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626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Americas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360 americ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242200" y="2830680"/>
            <a:ext cx="86832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626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TAT 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1480" y="3157560"/>
            <a:ext cx="86868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626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JAPAN-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975-8AD3-4C9E-A7F9-C7E43E1F3A8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AE5E3-62BC-4AB0-8C9C-B8C3D686AB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98920" y="4822920"/>
            <a:ext cx="644508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57440" y="4822920"/>
            <a:ext cx="7776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3440" y="4822920"/>
            <a:ext cx="1800" cy="914400"/>
          </a:xfrm>
          <a:prstGeom prst="line">
            <a:avLst/>
          </a:prstGeom>
          <a:ln w="28440">
            <a:solidFill>
              <a:srgbClr val="9191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32560" y="482292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9191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8920" y="3341520"/>
            <a:ext cx="644508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57440" y="3341520"/>
            <a:ext cx="7776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3440" y="3341520"/>
            <a:ext cx="1800" cy="914400"/>
          </a:xfrm>
          <a:prstGeom prst="line">
            <a:avLst/>
          </a:prstGeom>
          <a:ln w="28440">
            <a:solidFill>
              <a:srgbClr val="9191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32560" y="334152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9191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11160" y="652320"/>
            <a:ext cx="3135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Présent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0200" y="3408480"/>
            <a:ext cx="7278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La montée en débit </a:t>
            </a:r>
            <a:br>
              <a:rPr sz="3000"/>
            </a:b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dans le réseau coeu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70200" y="4898880"/>
            <a:ext cx="7364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La construction </a:t>
            </a:r>
            <a:br>
              <a:rPr sz="3000"/>
            </a:b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d’un réseau mondi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0680" y="1844640"/>
            <a:ext cx="128448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9ff66"/>
                </a:solidFill>
                <a:latin typeface="Arial"/>
              </a:rPr>
              <a:t>1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20680" y="3386160"/>
            <a:ext cx="1284480" cy="77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191c5"/>
                </a:solidFill>
                <a:latin typeface="Arial"/>
              </a:rPr>
              <a:t>2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20680" y="4832280"/>
            <a:ext cx="128448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191c5"/>
                </a:solidFill>
                <a:latin typeface="Arial"/>
              </a:rPr>
              <a:t>3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503440" y="1828800"/>
            <a:ext cx="6640200" cy="914040"/>
            <a:chOff x="2503440" y="1828800"/>
            <a:chExt cx="6640200" cy="914040"/>
          </a:xfrm>
        </p:grpSpPr>
        <p:sp>
          <p:nvSpPr>
            <p:cNvPr id="153" name=""/>
            <p:cNvSpPr/>
            <p:nvPr/>
          </p:nvSpPr>
          <p:spPr>
            <a:xfrm>
              <a:off x="2699280" y="1828800"/>
              <a:ext cx="6444360" cy="914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7800" y="1828800"/>
              <a:ext cx="77040" cy="91404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3440" y="1828800"/>
              <a:ext cx="1800" cy="914040"/>
            </a:xfrm>
            <a:prstGeom prst="line">
              <a:avLst/>
            </a:prstGeom>
            <a:ln w="28440">
              <a:solidFill>
                <a:srgbClr val="79c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432560" y="182880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0200" y="1890720"/>
            <a:ext cx="7107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La croissance des données 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et la montée en débit à l’accè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356-9840-4117-9B18-87C380555C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CAA66-CC3C-461B-B132-B67E692CEA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 rot="5400000">
            <a:off x="6605280" y="3654360"/>
            <a:ext cx="414360" cy="2430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  <a:effectLst>
            <a:outerShdw dist="53966" dir="2700000" blurRad="0" rotWithShape="0">
              <a:srgbClr val="4848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5400000">
            <a:off x="6605280" y="2805120"/>
            <a:ext cx="414360" cy="2430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  <a:effectLst>
            <a:outerShdw dist="53966" dir="2700000" blurRad="0" rotWithShape="0">
              <a:srgbClr val="4848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0" y="2719440"/>
            <a:ext cx="6575400" cy="2092320"/>
            <a:chOff x="0" y="2719440"/>
            <a:chExt cx="6575400" cy="2092320"/>
          </a:xfrm>
        </p:grpSpPr>
        <p:sp>
          <p:nvSpPr>
            <p:cNvPr id="1234" name=""/>
            <p:cNvSpPr/>
            <p:nvPr/>
          </p:nvSpPr>
          <p:spPr>
            <a:xfrm>
              <a:off x="0" y="3568680"/>
              <a:ext cx="6575400" cy="414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  <a:effectLst>
              <a:outerShdw dist="53966" dir="2700000" blurRad="0" rotWithShape="0">
                <a:srgbClr val="4848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0" y="2719440"/>
              <a:ext cx="6575400" cy="414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  <a:effectLst>
              <a:outerShdw dist="53966" dir="2700000" blurRad="0" rotWithShape="0">
                <a:srgbClr val="4848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0" y="4397400"/>
              <a:ext cx="6575400" cy="4143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  <a:effectLst>
              <a:outerShdw dist="53966" dir="2700000" blurRad="0" rotWithShape="0">
                <a:srgbClr val="4848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 rot="5400000">
            <a:off x="6605280" y="4483080"/>
            <a:ext cx="414360" cy="2430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  <a:effectLst>
            <a:outerShdw dist="53966" dir="2700000" blurRad="0" rotWithShape="0">
              <a:srgbClr val="4848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-11160" y="1066680"/>
            <a:ext cx="572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Investissement total de capacités</a:t>
            </a:r>
            <a:br>
              <a:rPr sz="3300"/>
            </a:b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hors de France sur 3 an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9480" y="2687760"/>
            <a:ext cx="5867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5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262648"/>
                </a:solidFill>
                <a:latin typeface="Arial"/>
              </a:rPr>
              <a:t>European Backbone Networ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262648"/>
                </a:solidFill>
                <a:latin typeface="Arial"/>
              </a:rPr>
              <a:t>North American Backbone Networ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62648"/>
                </a:solidFill>
                <a:latin typeface="Arial"/>
              </a:rPr>
              <a:t>Câbles sous-marin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7092000" y="2306520"/>
            <a:ext cx="2990520" cy="2950560"/>
            <a:chOff x="7092000" y="2306520"/>
            <a:chExt cx="2990520" cy="2950560"/>
          </a:xfrm>
        </p:grpSpPr>
        <p:sp>
          <p:nvSpPr>
            <p:cNvPr id="1242" name=""/>
            <p:cNvSpPr/>
            <p:nvPr/>
          </p:nvSpPr>
          <p:spPr>
            <a:xfrm flipH="1" rot="16200000">
              <a:off x="7308360" y="3326400"/>
              <a:ext cx="2784960" cy="885960"/>
            </a:xfrm>
            <a:prstGeom prst="triangle">
              <a:avLst>
                <a:gd name="adj" fmla="val 53120"/>
              </a:avLst>
            </a:prstGeom>
            <a:solidFill>
              <a:srgbClr val="3d3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7091640" y="2306520"/>
              <a:ext cx="2990520" cy="295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858" y="745"/>
                  </a:moveTo>
                  <a:arcTo wR="10800" hR="10800" stAng="-6684459" swAng="13396092"/>
                  <a:lnTo>
                    <a:pt x="10800" y="10800"/>
                  </a:lnTo>
                  <a:close/>
                </a:path>
                <a:path fill="none" w="21600" h="21600">
                  <a:moveTo>
                    <a:pt x="6858" y="745"/>
                  </a:moveTo>
                  <a:arcTo wR="10800" hR="10800" stAng="-6684459" swAng="13396092"/>
                </a:path>
              </a:pathLst>
            </a:custGeom>
            <a:solidFill>
              <a:srgbClr val="3d3d75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7162920" y="3276720"/>
            <a:ext cx="158904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000" spc="-1" strike="noStrike">
                <a:solidFill>
                  <a:srgbClr val="ffffff"/>
                </a:solidFill>
                <a:latin typeface="Arial"/>
              </a:rPr>
              <a:t>5 GF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357-DE45-46CE-A29C-A55BE2F5C84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91304-869E-49F3-A607-AF3671B8E9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-11160" y="652320"/>
            <a:ext cx="656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Réseau Global de Transmiss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7" name="C4" descr=""/>
          <p:cNvPicPr/>
          <p:nvPr/>
        </p:nvPicPr>
        <p:blipFill>
          <a:blip r:embed="rId1"/>
          <a:stretch/>
        </p:blipFill>
        <p:spPr>
          <a:xfrm>
            <a:off x="630360" y="947880"/>
            <a:ext cx="8281800" cy="5219640"/>
          </a:xfrm>
          <a:prstGeom prst="rect">
            <a:avLst/>
          </a:prstGeom>
          <a:ln w="0">
            <a:noFill/>
          </a:ln>
        </p:spPr>
      </p:pic>
      <p:sp>
        <p:nvSpPr>
          <p:cNvPr id="1248" name=""/>
          <p:cNvSpPr/>
          <p:nvPr/>
        </p:nvSpPr>
        <p:spPr>
          <a:xfrm>
            <a:off x="727200" y="1008000"/>
            <a:ext cx="8113680" cy="5040360"/>
          </a:xfrm>
          <a:prstGeom prst="roundRect">
            <a:avLst>
              <a:gd name="adj" fmla="val 3111"/>
            </a:avLst>
          </a:prstGeom>
          <a:noFill/>
          <a:ln w="28440">
            <a:solidFill>
              <a:srgbClr val="3d3d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60B-F34A-4036-B5E1-7C824E091D2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6CC9E-6C36-4561-BE67-F104D7B701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11160" y="1066680"/>
            <a:ext cx="694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L ’accès à Internet </a:t>
            </a:r>
            <a:br>
              <a:rPr sz="3300"/>
            </a:b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par la ligne ADSL « Netissimo »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535040" y="277272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554120" y="4208400"/>
            <a:ext cx="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1828800"/>
            <a:ext cx="8534160" cy="4191120"/>
            <a:chOff x="304920" y="1828800"/>
            <a:chExt cx="8534160" cy="4191120"/>
          </a:xfrm>
        </p:grpSpPr>
        <p:sp>
          <p:nvSpPr>
            <p:cNvPr id="163" name=""/>
            <p:cNvSpPr/>
            <p:nvPr/>
          </p:nvSpPr>
          <p:spPr>
            <a:xfrm>
              <a:off x="304920" y="1828800"/>
              <a:ext cx="8534160" cy="4191120"/>
            </a:xfrm>
            <a:prstGeom prst="roundRect">
              <a:avLst>
                <a:gd name="adj" fmla="val 8051"/>
              </a:avLst>
            </a:prstGeom>
            <a:solidFill>
              <a:srgbClr val="38386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9440" y="2489040"/>
              <a:ext cx="0" cy="275760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43360" y="3112920"/>
              <a:ext cx="74520" cy="228600"/>
            </a:xfrm>
            <a:prstGeom prst="rect">
              <a:avLst/>
            </a:prstGeom>
            <a:solidFill>
              <a:srgbClr val="383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098960" y="2930040"/>
              <a:ext cx="666720" cy="6289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8960" y="3711600"/>
              <a:ext cx="628560" cy="6476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37040" y="4359240"/>
              <a:ext cx="3621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27760" y="4359240"/>
              <a:ext cx="38088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75200" y="2949480"/>
              <a:ext cx="304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27760" y="2949480"/>
              <a:ext cx="342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80160" y="2911320"/>
              <a:ext cx="809640" cy="333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727680" y="4054320"/>
              <a:ext cx="657360" cy="2476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556000" y="3711240"/>
              <a:ext cx="1143000" cy="6476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6920" y="2930400"/>
              <a:ext cx="1162080" cy="7048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9040" y="2514600"/>
              <a:ext cx="0" cy="275580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520" y="2438280"/>
              <a:ext cx="1187280" cy="1189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73240" y="2712960"/>
              <a:ext cx="45540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25320" y="2712960"/>
              <a:ext cx="54792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flipV="1">
              <a:off x="1081080" y="2804760"/>
              <a:ext cx="9216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355760" y="29142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55760" y="289548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10680" y="271764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odem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55760" y="32623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080720" y="33526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2128680" y="2654280"/>
              <a:ext cx="476280" cy="64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3664080" y="3448080"/>
              <a:ext cx="456840" cy="364680"/>
              <a:chOff x="3664080" y="3448080"/>
              <a:chExt cx="456840" cy="364680"/>
            </a:xfrm>
          </p:grpSpPr>
          <p:sp>
            <p:nvSpPr>
              <p:cNvPr id="188" name=""/>
              <p:cNvSpPr/>
              <p:nvPr/>
            </p:nvSpPr>
            <p:spPr>
              <a:xfrm>
                <a:off x="3671280" y="3703320"/>
                <a:ext cx="444240" cy="109440"/>
              </a:xfrm>
              <a:prstGeom prst="ellipse">
                <a:avLst/>
              </a:prstGeom>
              <a:solidFill>
                <a:srgbClr val="0078aa"/>
              </a:solidFill>
              <a:ln w="68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64080" y="3502440"/>
                <a:ext cx="455760" cy="2552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64080" y="3502440"/>
                <a:ext cx="455760" cy="2552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71280" y="3448080"/>
                <a:ext cx="444240" cy="110160"/>
              </a:xfrm>
              <a:prstGeom prst="ellipse">
                <a:avLst/>
              </a:prstGeom>
              <a:solidFill>
                <a:srgbClr val="00b4ff"/>
              </a:solidFill>
              <a:ln w="68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3731400" y="3455640"/>
                <a:ext cx="316800" cy="91440"/>
                <a:chOff x="3731400" y="3455640"/>
                <a:chExt cx="316800" cy="914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3731400" y="3455640"/>
                  <a:ext cx="316080" cy="90720"/>
                  <a:chOff x="3731400" y="3455640"/>
                  <a:chExt cx="316080" cy="907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3896280" y="3458520"/>
                    <a:ext cx="1512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30"/>
                        </a:moveTo>
                        <a:lnTo>
                          <a:pt x="32" y="40"/>
                        </a:lnTo>
                        <a:lnTo>
                          <a:pt x="107" y="14"/>
                        </a:lnTo>
                        <a:lnTo>
                          <a:pt x="141" y="22"/>
                        </a:lnTo>
                        <a:lnTo>
                          <a:pt x="123" y="0"/>
                        </a:lnTo>
                        <a:lnTo>
                          <a:pt x="33" y="0"/>
                        </a:lnTo>
                        <a:lnTo>
                          <a:pt x="71" y="7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896280" y="3458520"/>
                    <a:ext cx="1512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30"/>
                        </a:moveTo>
                        <a:lnTo>
                          <a:pt x="32" y="40"/>
                        </a:lnTo>
                        <a:lnTo>
                          <a:pt x="107" y="14"/>
                        </a:lnTo>
                        <a:lnTo>
                          <a:pt x="141" y="22"/>
                        </a:lnTo>
                        <a:lnTo>
                          <a:pt x="123" y="0"/>
                        </a:lnTo>
                        <a:lnTo>
                          <a:pt x="33" y="0"/>
                        </a:lnTo>
                        <a:lnTo>
                          <a:pt x="71" y="7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731400" y="3502440"/>
                    <a:ext cx="1512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3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7" y="26"/>
                        </a:lnTo>
                        <a:lnTo>
                          <a:pt x="0" y="18"/>
                        </a:lnTo>
                        <a:lnTo>
                          <a:pt x="20" y="43"/>
                        </a:lnTo>
                        <a:lnTo>
                          <a:pt x="109" y="43"/>
                        </a:lnTo>
                        <a:lnTo>
                          <a:pt x="70" y="33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731400" y="3502440"/>
                    <a:ext cx="1512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3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7" y="26"/>
                        </a:lnTo>
                        <a:lnTo>
                          <a:pt x="0" y="18"/>
                        </a:lnTo>
                        <a:lnTo>
                          <a:pt x="20" y="43"/>
                        </a:lnTo>
                        <a:lnTo>
                          <a:pt x="109" y="43"/>
                        </a:lnTo>
                        <a:lnTo>
                          <a:pt x="70" y="33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741120" y="3455640"/>
                    <a:ext cx="1490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2">
                        <a:moveTo>
                          <a:pt x="0" y="10"/>
                        </a:moveTo>
                        <a:lnTo>
                          <a:pt x="30" y="0"/>
                        </a:lnTo>
                        <a:lnTo>
                          <a:pt x="106" y="25"/>
                        </a:lnTo>
                        <a:lnTo>
                          <a:pt x="139" y="18"/>
                        </a:lnTo>
                        <a:lnTo>
                          <a:pt x="121" y="42"/>
                        </a:lnTo>
                        <a:lnTo>
                          <a:pt x="34" y="42"/>
                        </a:lnTo>
                        <a:lnTo>
                          <a:pt x="69" y="3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741120" y="3455640"/>
                    <a:ext cx="14904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2">
                        <a:moveTo>
                          <a:pt x="0" y="10"/>
                        </a:moveTo>
                        <a:lnTo>
                          <a:pt x="30" y="0"/>
                        </a:lnTo>
                        <a:lnTo>
                          <a:pt x="106" y="25"/>
                        </a:lnTo>
                        <a:lnTo>
                          <a:pt x="139" y="18"/>
                        </a:lnTo>
                        <a:lnTo>
                          <a:pt x="121" y="42"/>
                        </a:lnTo>
                        <a:lnTo>
                          <a:pt x="34" y="42"/>
                        </a:lnTo>
                        <a:lnTo>
                          <a:pt x="69" y="3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890160" y="3507480"/>
                    <a:ext cx="1512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1">
                        <a:moveTo>
                          <a:pt x="141" y="31"/>
                        </a:moveTo>
                        <a:lnTo>
                          <a:pt x="111" y="41"/>
                        </a:lnTo>
                        <a:lnTo>
                          <a:pt x="38" y="13"/>
                        </a:lnTo>
                        <a:lnTo>
                          <a:pt x="0" y="21"/>
                        </a:lnTo>
                        <a:lnTo>
                          <a:pt x="20" y="0"/>
                        </a:lnTo>
                        <a:lnTo>
                          <a:pt x="111" y="0"/>
                        </a:lnTo>
                        <a:lnTo>
                          <a:pt x="70" y="6"/>
                        </a:lnTo>
                        <a:lnTo>
                          <a:pt x="141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890160" y="3507480"/>
                    <a:ext cx="1512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1">
                        <a:moveTo>
                          <a:pt x="141" y="31"/>
                        </a:moveTo>
                        <a:lnTo>
                          <a:pt x="111" y="41"/>
                        </a:lnTo>
                        <a:lnTo>
                          <a:pt x="38" y="13"/>
                        </a:lnTo>
                        <a:lnTo>
                          <a:pt x="0" y="21"/>
                        </a:lnTo>
                        <a:lnTo>
                          <a:pt x="20" y="0"/>
                        </a:lnTo>
                        <a:lnTo>
                          <a:pt x="111" y="0"/>
                        </a:lnTo>
                        <a:lnTo>
                          <a:pt x="70" y="6"/>
                        </a:lnTo>
                        <a:lnTo>
                          <a:pt x="141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3734280" y="3458520"/>
                  <a:ext cx="313920" cy="88560"/>
                  <a:chOff x="3734280" y="3458520"/>
                  <a:chExt cx="313920" cy="885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3899160" y="3459960"/>
                    <a:ext cx="1490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1">
                        <a:moveTo>
                          <a:pt x="0" y="30"/>
                        </a:moveTo>
                        <a:lnTo>
                          <a:pt x="30" y="41"/>
                        </a:lnTo>
                        <a:lnTo>
                          <a:pt x="106" y="13"/>
                        </a:lnTo>
                        <a:lnTo>
                          <a:pt x="139" y="21"/>
                        </a:lnTo>
                        <a:lnTo>
                          <a:pt x="121" y="0"/>
                        </a:lnTo>
                        <a:lnTo>
                          <a:pt x="33" y="0"/>
                        </a:lnTo>
                        <a:lnTo>
                          <a:pt x="69" y="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899160" y="3459960"/>
                    <a:ext cx="1490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1">
                        <a:moveTo>
                          <a:pt x="0" y="30"/>
                        </a:moveTo>
                        <a:lnTo>
                          <a:pt x="30" y="41"/>
                        </a:lnTo>
                        <a:lnTo>
                          <a:pt x="106" y="13"/>
                        </a:lnTo>
                        <a:lnTo>
                          <a:pt x="139" y="21"/>
                        </a:lnTo>
                        <a:lnTo>
                          <a:pt x="121" y="0"/>
                        </a:lnTo>
                        <a:lnTo>
                          <a:pt x="33" y="0"/>
                        </a:lnTo>
                        <a:lnTo>
                          <a:pt x="69" y="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734280" y="3504240"/>
                    <a:ext cx="1512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4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6" y="27"/>
                        </a:lnTo>
                        <a:lnTo>
                          <a:pt x="0" y="19"/>
                        </a:lnTo>
                        <a:lnTo>
                          <a:pt x="18" y="44"/>
                        </a:lnTo>
                        <a:lnTo>
                          <a:pt x="109" y="44"/>
                        </a:lnTo>
                        <a:lnTo>
                          <a:pt x="70" y="34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734280" y="3504240"/>
                    <a:ext cx="1512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4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6" y="27"/>
                        </a:lnTo>
                        <a:lnTo>
                          <a:pt x="0" y="19"/>
                        </a:lnTo>
                        <a:lnTo>
                          <a:pt x="18" y="44"/>
                        </a:lnTo>
                        <a:lnTo>
                          <a:pt x="109" y="44"/>
                        </a:lnTo>
                        <a:lnTo>
                          <a:pt x="70" y="34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742920" y="3458520"/>
                    <a:ext cx="150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8"/>
                        </a:moveTo>
                        <a:lnTo>
                          <a:pt x="32" y="0"/>
                        </a:lnTo>
                        <a:lnTo>
                          <a:pt x="107" y="23"/>
                        </a:lnTo>
                        <a:lnTo>
                          <a:pt x="141" y="18"/>
                        </a:lnTo>
                        <a:lnTo>
                          <a:pt x="122" y="40"/>
                        </a:lnTo>
                        <a:lnTo>
                          <a:pt x="34" y="40"/>
                        </a:lnTo>
                        <a:lnTo>
                          <a:pt x="70" y="32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742920" y="3458520"/>
                    <a:ext cx="150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8"/>
                        </a:moveTo>
                        <a:lnTo>
                          <a:pt x="32" y="0"/>
                        </a:lnTo>
                        <a:lnTo>
                          <a:pt x="107" y="23"/>
                        </a:lnTo>
                        <a:lnTo>
                          <a:pt x="141" y="18"/>
                        </a:lnTo>
                        <a:lnTo>
                          <a:pt x="122" y="40"/>
                        </a:lnTo>
                        <a:lnTo>
                          <a:pt x="34" y="40"/>
                        </a:lnTo>
                        <a:lnTo>
                          <a:pt x="70" y="32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894120" y="3510000"/>
                    <a:ext cx="1501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9">
                        <a:moveTo>
                          <a:pt x="140" y="31"/>
                        </a:moveTo>
                        <a:lnTo>
                          <a:pt x="109" y="39"/>
                        </a:lnTo>
                        <a:lnTo>
                          <a:pt x="35" y="13"/>
                        </a:lnTo>
                        <a:lnTo>
                          <a:pt x="0" y="21"/>
                        </a:lnTo>
                        <a:lnTo>
                          <a:pt x="17" y="0"/>
                        </a:lnTo>
                        <a:lnTo>
                          <a:pt x="109" y="0"/>
                        </a:lnTo>
                        <a:lnTo>
                          <a:pt x="70" y="6"/>
                        </a:lnTo>
                        <a:lnTo>
                          <a:pt x="140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894120" y="3510000"/>
                    <a:ext cx="1501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9">
                        <a:moveTo>
                          <a:pt x="140" y="31"/>
                        </a:moveTo>
                        <a:lnTo>
                          <a:pt x="109" y="39"/>
                        </a:lnTo>
                        <a:lnTo>
                          <a:pt x="35" y="13"/>
                        </a:lnTo>
                        <a:lnTo>
                          <a:pt x="0" y="21"/>
                        </a:lnTo>
                        <a:lnTo>
                          <a:pt x="17" y="0"/>
                        </a:lnTo>
                        <a:lnTo>
                          <a:pt x="109" y="0"/>
                        </a:lnTo>
                        <a:lnTo>
                          <a:pt x="70" y="6"/>
                        </a:lnTo>
                        <a:lnTo>
                          <a:pt x="140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1" name=""/>
              <p:cNvSpPr/>
              <p:nvPr/>
            </p:nvSpPr>
            <p:spPr>
              <a:xfrm>
                <a:off x="3664080" y="3501000"/>
                <a:ext cx="1080" cy="259200"/>
              </a:xfrm>
              <a:prstGeom prst="line">
                <a:avLst/>
              </a:prstGeom>
              <a:ln w="68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19840" y="3501000"/>
                <a:ext cx="1080" cy="259200"/>
              </a:xfrm>
              <a:prstGeom prst="line">
                <a:avLst/>
              </a:prstGeom>
              <a:ln w="68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3715560" y="3569760"/>
                <a:ext cx="350280" cy="217800"/>
                <a:chOff x="3715560" y="3569760"/>
                <a:chExt cx="350280" cy="2178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715560" y="3569760"/>
                  <a:ext cx="348480" cy="216720"/>
                </a:xfrm>
                <a:custGeom>
                  <a:avLst/>
                  <a:gdLst/>
                  <a:ahLst/>
                  <a:rect l="l" t="t" r="r" b="b"/>
                  <a:pathLst>
                    <a:path w="325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3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5" y="36"/>
                      </a:lnTo>
                      <a:lnTo>
                        <a:pt x="278" y="72"/>
                      </a:lnTo>
                      <a:lnTo>
                        <a:pt x="278" y="47"/>
                      </a:lnTo>
                      <a:lnTo>
                        <a:pt x="225" y="47"/>
                      </a:lnTo>
                      <a:lnTo>
                        <a:pt x="179" y="114"/>
                      </a:lnTo>
                      <a:lnTo>
                        <a:pt x="225" y="181"/>
                      </a:lnTo>
                      <a:lnTo>
                        <a:pt x="278" y="181"/>
                      </a:lnTo>
                      <a:lnTo>
                        <a:pt x="278" y="156"/>
                      </a:lnTo>
                      <a:lnTo>
                        <a:pt x="325" y="189"/>
                      </a:lnTo>
                      <a:lnTo>
                        <a:pt x="278" y="226"/>
                      </a:lnTo>
                      <a:lnTo>
                        <a:pt x="278" y="198"/>
                      </a:lnTo>
                      <a:lnTo>
                        <a:pt x="202" y="198"/>
                      </a:lnTo>
                      <a:lnTo>
                        <a:pt x="160" y="136"/>
                      </a:lnTo>
                      <a:lnTo>
                        <a:pt x="123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89"/>
                      </a:lnTo>
                      <a:lnTo>
                        <a:pt x="47" y="156"/>
                      </a:lnTo>
                      <a:lnTo>
                        <a:pt x="47" y="181"/>
                      </a:lnTo>
                      <a:lnTo>
                        <a:pt x="99" y="181"/>
                      </a:lnTo>
                      <a:lnTo>
                        <a:pt x="145" y="114"/>
                      </a:lnTo>
                      <a:lnTo>
                        <a:pt x="99" y="47"/>
                      </a:lnTo>
                      <a:lnTo>
                        <a:pt x="47" y="47"/>
                      </a:lnTo>
                      <a:lnTo>
                        <a:pt x="47" y="68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715560" y="3569760"/>
                  <a:ext cx="348480" cy="216720"/>
                </a:xfrm>
                <a:custGeom>
                  <a:avLst/>
                  <a:gdLst/>
                  <a:ahLst/>
                  <a:rect l="l" t="t" r="r" b="b"/>
                  <a:pathLst>
                    <a:path w="325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3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5" y="36"/>
                      </a:lnTo>
                      <a:lnTo>
                        <a:pt x="278" y="72"/>
                      </a:lnTo>
                      <a:lnTo>
                        <a:pt x="278" y="47"/>
                      </a:lnTo>
                      <a:lnTo>
                        <a:pt x="225" y="47"/>
                      </a:lnTo>
                      <a:lnTo>
                        <a:pt x="179" y="114"/>
                      </a:lnTo>
                      <a:lnTo>
                        <a:pt x="225" y="181"/>
                      </a:lnTo>
                      <a:lnTo>
                        <a:pt x="278" y="181"/>
                      </a:lnTo>
                      <a:lnTo>
                        <a:pt x="278" y="156"/>
                      </a:lnTo>
                      <a:lnTo>
                        <a:pt x="325" y="189"/>
                      </a:lnTo>
                      <a:lnTo>
                        <a:pt x="278" y="226"/>
                      </a:lnTo>
                      <a:lnTo>
                        <a:pt x="278" y="198"/>
                      </a:lnTo>
                      <a:lnTo>
                        <a:pt x="202" y="198"/>
                      </a:lnTo>
                      <a:lnTo>
                        <a:pt x="160" y="136"/>
                      </a:lnTo>
                      <a:lnTo>
                        <a:pt x="123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89"/>
                      </a:lnTo>
                      <a:lnTo>
                        <a:pt x="47" y="156"/>
                      </a:lnTo>
                      <a:lnTo>
                        <a:pt x="47" y="181"/>
                      </a:lnTo>
                      <a:lnTo>
                        <a:pt x="99" y="181"/>
                      </a:lnTo>
                      <a:lnTo>
                        <a:pt x="145" y="114"/>
                      </a:lnTo>
                      <a:lnTo>
                        <a:pt x="99" y="47"/>
                      </a:lnTo>
                      <a:lnTo>
                        <a:pt x="47" y="47"/>
                      </a:lnTo>
                      <a:lnTo>
                        <a:pt x="47" y="68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18440" y="3570840"/>
                  <a:ext cx="347400" cy="216720"/>
                </a:xfrm>
                <a:custGeom>
                  <a:avLst/>
                  <a:gdLst/>
                  <a:ahLst/>
                  <a:rect l="l" t="t" r="r" b="b"/>
                  <a:pathLst>
                    <a:path w="324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1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4" y="36"/>
                      </a:lnTo>
                      <a:lnTo>
                        <a:pt x="278" y="73"/>
                      </a:lnTo>
                      <a:lnTo>
                        <a:pt x="278" y="47"/>
                      </a:lnTo>
                      <a:lnTo>
                        <a:pt x="223" y="47"/>
                      </a:lnTo>
                      <a:lnTo>
                        <a:pt x="180" y="114"/>
                      </a:lnTo>
                      <a:lnTo>
                        <a:pt x="223" y="183"/>
                      </a:lnTo>
                      <a:lnTo>
                        <a:pt x="278" y="183"/>
                      </a:lnTo>
                      <a:lnTo>
                        <a:pt x="278" y="158"/>
                      </a:lnTo>
                      <a:lnTo>
                        <a:pt x="324" y="191"/>
                      </a:lnTo>
                      <a:lnTo>
                        <a:pt x="278" y="226"/>
                      </a:lnTo>
                      <a:lnTo>
                        <a:pt x="278" y="200"/>
                      </a:lnTo>
                      <a:lnTo>
                        <a:pt x="202" y="200"/>
                      </a:lnTo>
                      <a:lnTo>
                        <a:pt x="160" y="137"/>
                      </a:lnTo>
                      <a:lnTo>
                        <a:pt x="121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91"/>
                      </a:lnTo>
                      <a:lnTo>
                        <a:pt x="47" y="158"/>
                      </a:lnTo>
                      <a:lnTo>
                        <a:pt x="47" y="183"/>
                      </a:lnTo>
                      <a:lnTo>
                        <a:pt x="97" y="183"/>
                      </a:lnTo>
                      <a:lnTo>
                        <a:pt x="145" y="114"/>
                      </a:lnTo>
                      <a:lnTo>
                        <a:pt x="97" y="47"/>
                      </a:lnTo>
                      <a:lnTo>
                        <a:pt x="47" y="47"/>
                      </a:lnTo>
                      <a:lnTo>
                        <a:pt x="47" y="71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718440" y="3570840"/>
                  <a:ext cx="347400" cy="216720"/>
                </a:xfrm>
                <a:custGeom>
                  <a:avLst/>
                  <a:gdLst/>
                  <a:ahLst/>
                  <a:rect l="l" t="t" r="r" b="b"/>
                  <a:pathLst>
                    <a:path w="324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1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4" y="36"/>
                      </a:lnTo>
                      <a:lnTo>
                        <a:pt x="278" y="73"/>
                      </a:lnTo>
                      <a:lnTo>
                        <a:pt x="278" y="47"/>
                      </a:lnTo>
                      <a:lnTo>
                        <a:pt x="223" y="47"/>
                      </a:lnTo>
                      <a:lnTo>
                        <a:pt x="180" y="114"/>
                      </a:lnTo>
                      <a:lnTo>
                        <a:pt x="223" y="183"/>
                      </a:lnTo>
                      <a:lnTo>
                        <a:pt x="278" y="183"/>
                      </a:lnTo>
                      <a:lnTo>
                        <a:pt x="278" y="158"/>
                      </a:lnTo>
                      <a:lnTo>
                        <a:pt x="324" y="191"/>
                      </a:lnTo>
                      <a:lnTo>
                        <a:pt x="278" y="226"/>
                      </a:lnTo>
                      <a:lnTo>
                        <a:pt x="278" y="200"/>
                      </a:lnTo>
                      <a:lnTo>
                        <a:pt x="202" y="200"/>
                      </a:lnTo>
                      <a:lnTo>
                        <a:pt x="160" y="137"/>
                      </a:lnTo>
                      <a:lnTo>
                        <a:pt x="121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91"/>
                      </a:lnTo>
                      <a:lnTo>
                        <a:pt x="47" y="158"/>
                      </a:lnTo>
                      <a:lnTo>
                        <a:pt x="47" y="183"/>
                      </a:lnTo>
                      <a:lnTo>
                        <a:pt x="97" y="183"/>
                      </a:lnTo>
                      <a:lnTo>
                        <a:pt x="145" y="114"/>
                      </a:lnTo>
                      <a:lnTo>
                        <a:pt x="97" y="47"/>
                      </a:lnTo>
                      <a:lnTo>
                        <a:pt x="47" y="47"/>
                      </a:lnTo>
                      <a:lnTo>
                        <a:pt x="47" y="71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2128680" y="4110120"/>
              <a:ext cx="476280" cy="63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" name=""/>
            <p:cNvGrpSpPr/>
            <p:nvPr/>
          </p:nvGrpSpPr>
          <p:grpSpPr>
            <a:xfrm>
              <a:off x="4719600" y="2792520"/>
              <a:ext cx="274680" cy="274680"/>
              <a:chOff x="4719600" y="2792520"/>
              <a:chExt cx="274680" cy="274680"/>
            </a:xfrm>
          </p:grpSpPr>
          <p:sp>
            <p:nvSpPr>
              <p:cNvPr id="220" name=""/>
              <p:cNvSpPr/>
              <p:nvPr/>
            </p:nvSpPr>
            <p:spPr>
              <a:xfrm>
                <a:off x="4724280" y="2984400"/>
                <a:ext cx="266760" cy="82800"/>
              </a:xfrm>
              <a:prstGeom prst="ellipse">
                <a:avLst/>
              </a:prstGeom>
              <a:solidFill>
                <a:srgbClr val="3366ff"/>
              </a:solidFill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19600" y="2833920"/>
                <a:ext cx="274680" cy="1918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19600" y="2833920"/>
                <a:ext cx="274680" cy="1918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24280" y="2792520"/>
                <a:ext cx="266760" cy="82440"/>
              </a:xfrm>
              <a:prstGeom prst="ellipse">
                <a:avLst/>
              </a:prstGeom>
              <a:solidFill>
                <a:srgbClr val="91abff"/>
              </a:solidFill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4761000" y="2799000"/>
                <a:ext cx="190080" cy="68040"/>
                <a:chOff x="4761000" y="2799000"/>
                <a:chExt cx="190080" cy="68040"/>
              </a:xfrm>
            </p:grpSpPr>
            <p:grpSp>
              <p:nvGrpSpPr>
                <p:cNvPr id="225" name=""/>
                <p:cNvGrpSpPr/>
                <p:nvPr/>
              </p:nvGrpSpPr>
              <p:grpSpPr>
                <a:xfrm>
                  <a:off x="4761000" y="2799000"/>
                  <a:ext cx="189720" cy="66960"/>
                  <a:chOff x="4761000" y="2799000"/>
                  <a:chExt cx="189720" cy="669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4860000" y="2801160"/>
                    <a:ext cx="907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30"/>
                        </a:moveTo>
                        <a:lnTo>
                          <a:pt x="32" y="40"/>
                        </a:lnTo>
                        <a:lnTo>
                          <a:pt x="107" y="14"/>
                        </a:lnTo>
                        <a:lnTo>
                          <a:pt x="141" y="22"/>
                        </a:lnTo>
                        <a:lnTo>
                          <a:pt x="123" y="0"/>
                        </a:lnTo>
                        <a:lnTo>
                          <a:pt x="33" y="0"/>
                        </a:lnTo>
                        <a:lnTo>
                          <a:pt x="71" y="7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4860000" y="2801160"/>
                    <a:ext cx="907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30"/>
                        </a:moveTo>
                        <a:lnTo>
                          <a:pt x="32" y="40"/>
                        </a:lnTo>
                        <a:lnTo>
                          <a:pt x="107" y="14"/>
                        </a:lnTo>
                        <a:lnTo>
                          <a:pt x="141" y="22"/>
                        </a:lnTo>
                        <a:lnTo>
                          <a:pt x="123" y="0"/>
                        </a:lnTo>
                        <a:lnTo>
                          <a:pt x="33" y="0"/>
                        </a:lnTo>
                        <a:lnTo>
                          <a:pt x="71" y="7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761000" y="2833560"/>
                    <a:ext cx="907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3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7" y="26"/>
                        </a:lnTo>
                        <a:lnTo>
                          <a:pt x="0" y="18"/>
                        </a:lnTo>
                        <a:lnTo>
                          <a:pt x="20" y="43"/>
                        </a:lnTo>
                        <a:lnTo>
                          <a:pt x="109" y="43"/>
                        </a:lnTo>
                        <a:lnTo>
                          <a:pt x="70" y="33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761000" y="2833560"/>
                    <a:ext cx="907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3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7" y="26"/>
                        </a:lnTo>
                        <a:lnTo>
                          <a:pt x="0" y="18"/>
                        </a:lnTo>
                        <a:lnTo>
                          <a:pt x="20" y="43"/>
                        </a:lnTo>
                        <a:lnTo>
                          <a:pt x="109" y="43"/>
                        </a:lnTo>
                        <a:lnTo>
                          <a:pt x="70" y="33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766760" y="2799000"/>
                    <a:ext cx="892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2">
                        <a:moveTo>
                          <a:pt x="0" y="10"/>
                        </a:moveTo>
                        <a:lnTo>
                          <a:pt x="30" y="0"/>
                        </a:lnTo>
                        <a:lnTo>
                          <a:pt x="106" y="25"/>
                        </a:lnTo>
                        <a:lnTo>
                          <a:pt x="139" y="18"/>
                        </a:lnTo>
                        <a:lnTo>
                          <a:pt x="121" y="42"/>
                        </a:lnTo>
                        <a:lnTo>
                          <a:pt x="34" y="42"/>
                        </a:lnTo>
                        <a:lnTo>
                          <a:pt x="69" y="3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766760" y="2799000"/>
                    <a:ext cx="892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2">
                        <a:moveTo>
                          <a:pt x="0" y="10"/>
                        </a:moveTo>
                        <a:lnTo>
                          <a:pt x="30" y="0"/>
                        </a:lnTo>
                        <a:lnTo>
                          <a:pt x="106" y="25"/>
                        </a:lnTo>
                        <a:lnTo>
                          <a:pt x="139" y="18"/>
                        </a:lnTo>
                        <a:lnTo>
                          <a:pt x="121" y="42"/>
                        </a:lnTo>
                        <a:lnTo>
                          <a:pt x="34" y="42"/>
                        </a:lnTo>
                        <a:lnTo>
                          <a:pt x="69" y="3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856040" y="2837160"/>
                    <a:ext cx="90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1">
                        <a:moveTo>
                          <a:pt x="141" y="31"/>
                        </a:moveTo>
                        <a:lnTo>
                          <a:pt x="111" y="41"/>
                        </a:lnTo>
                        <a:lnTo>
                          <a:pt x="38" y="13"/>
                        </a:lnTo>
                        <a:lnTo>
                          <a:pt x="0" y="21"/>
                        </a:lnTo>
                        <a:lnTo>
                          <a:pt x="20" y="0"/>
                        </a:lnTo>
                        <a:lnTo>
                          <a:pt x="111" y="0"/>
                        </a:lnTo>
                        <a:lnTo>
                          <a:pt x="70" y="6"/>
                        </a:lnTo>
                        <a:lnTo>
                          <a:pt x="141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56040" y="2837160"/>
                    <a:ext cx="90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1">
                        <a:moveTo>
                          <a:pt x="141" y="31"/>
                        </a:moveTo>
                        <a:lnTo>
                          <a:pt x="111" y="41"/>
                        </a:lnTo>
                        <a:lnTo>
                          <a:pt x="38" y="13"/>
                        </a:lnTo>
                        <a:lnTo>
                          <a:pt x="0" y="21"/>
                        </a:lnTo>
                        <a:lnTo>
                          <a:pt x="20" y="0"/>
                        </a:lnTo>
                        <a:lnTo>
                          <a:pt x="111" y="0"/>
                        </a:lnTo>
                        <a:lnTo>
                          <a:pt x="70" y="6"/>
                        </a:lnTo>
                        <a:lnTo>
                          <a:pt x="141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4762800" y="2801160"/>
                  <a:ext cx="188280" cy="65880"/>
                  <a:chOff x="4762800" y="2801160"/>
                  <a:chExt cx="188280" cy="65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4861800" y="2802240"/>
                    <a:ext cx="892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1">
                        <a:moveTo>
                          <a:pt x="0" y="30"/>
                        </a:moveTo>
                        <a:lnTo>
                          <a:pt x="30" y="41"/>
                        </a:lnTo>
                        <a:lnTo>
                          <a:pt x="106" y="13"/>
                        </a:lnTo>
                        <a:lnTo>
                          <a:pt x="139" y="21"/>
                        </a:lnTo>
                        <a:lnTo>
                          <a:pt x="121" y="0"/>
                        </a:lnTo>
                        <a:lnTo>
                          <a:pt x="33" y="0"/>
                        </a:lnTo>
                        <a:lnTo>
                          <a:pt x="69" y="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861800" y="2802240"/>
                    <a:ext cx="892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1">
                        <a:moveTo>
                          <a:pt x="0" y="30"/>
                        </a:moveTo>
                        <a:lnTo>
                          <a:pt x="30" y="41"/>
                        </a:lnTo>
                        <a:lnTo>
                          <a:pt x="106" y="13"/>
                        </a:lnTo>
                        <a:lnTo>
                          <a:pt x="139" y="21"/>
                        </a:lnTo>
                        <a:lnTo>
                          <a:pt x="121" y="0"/>
                        </a:lnTo>
                        <a:lnTo>
                          <a:pt x="33" y="0"/>
                        </a:lnTo>
                        <a:lnTo>
                          <a:pt x="69" y="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762800" y="2835000"/>
                    <a:ext cx="907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4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6" y="27"/>
                        </a:lnTo>
                        <a:lnTo>
                          <a:pt x="0" y="19"/>
                        </a:lnTo>
                        <a:lnTo>
                          <a:pt x="18" y="44"/>
                        </a:lnTo>
                        <a:lnTo>
                          <a:pt x="109" y="44"/>
                        </a:lnTo>
                        <a:lnTo>
                          <a:pt x="70" y="34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762800" y="2835000"/>
                    <a:ext cx="907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4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6" y="27"/>
                        </a:lnTo>
                        <a:lnTo>
                          <a:pt x="0" y="19"/>
                        </a:lnTo>
                        <a:lnTo>
                          <a:pt x="18" y="44"/>
                        </a:lnTo>
                        <a:lnTo>
                          <a:pt x="109" y="44"/>
                        </a:lnTo>
                        <a:lnTo>
                          <a:pt x="70" y="34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767840" y="2801160"/>
                    <a:ext cx="907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8"/>
                        </a:moveTo>
                        <a:lnTo>
                          <a:pt x="32" y="0"/>
                        </a:lnTo>
                        <a:lnTo>
                          <a:pt x="107" y="23"/>
                        </a:lnTo>
                        <a:lnTo>
                          <a:pt x="141" y="18"/>
                        </a:lnTo>
                        <a:lnTo>
                          <a:pt x="122" y="40"/>
                        </a:lnTo>
                        <a:lnTo>
                          <a:pt x="34" y="40"/>
                        </a:lnTo>
                        <a:lnTo>
                          <a:pt x="70" y="32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767840" y="2801160"/>
                    <a:ext cx="907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8"/>
                        </a:moveTo>
                        <a:lnTo>
                          <a:pt x="32" y="0"/>
                        </a:lnTo>
                        <a:lnTo>
                          <a:pt x="107" y="23"/>
                        </a:lnTo>
                        <a:lnTo>
                          <a:pt x="141" y="18"/>
                        </a:lnTo>
                        <a:lnTo>
                          <a:pt x="122" y="40"/>
                        </a:lnTo>
                        <a:lnTo>
                          <a:pt x="34" y="40"/>
                        </a:lnTo>
                        <a:lnTo>
                          <a:pt x="70" y="32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858560" y="2839320"/>
                    <a:ext cx="900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9">
                        <a:moveTo>
                          <a:pt x="140" y="31"/>
                        </a:moveTo>
                        <a:lnTo>
                          <a:pt x="109" y="39"/>
                        </a:lnTo>
                        <a:lnTo>
                          <a:pt x="35" y="13"/>
                        </a:lnTo>
                        <a:lnTo>
                          <a:pt x="0" y="21"/>
                        </a:lnTo>
                        <a:lnTo>
                          <a:pt x="17" y="0"/>
                        </a:lnTo>
                        <a:lnTo>
                          <a:pt x="109" y="0"/>
                        </a:lnTo>
                        <a:lnTo>
                          <a:pt x="70" y="6"/>
                        </a:lnTo>
                        <a:lnTo>
                          <a:pt x="140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858560" y="2839320"/>
                    <a:ext cx="900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9">
                        <a:moveTo>
                          <a:pt x="140" y="31"/>
                        </a:moveTo>
                        <a:lnTo>
                          <a:pt x="109" y="39"/>
                        </a:lnTo>
                        <a:lnTo>
                          <a:pt x="35" y="13"/>
                        </a:lnTo>
                        <a:lnTo>
                          <a:pt x="0" y="21"/>
                        </a:lnTo>
                        <a:lnTo>
                          <a:pt x="17" y="0"/>
                        </a:lnTo>
                        <a:lnTo>
                          <a:pt x="109" y="0"/>
                        </a:lnTo>
                        <a:lnTo>
                          <a:pt x="70" y="6"/>
                        </a:lnTo>
                        <a:lnTo>
                          <a:pt x="140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3" name=""/>
              <p:cNvSpPr/>
              <p:nvPr/>
            </p:nvSpPr>
            <p:spPr>
              <a:xfrm>
                <a:off x="4719600" y="2832120"/>
                <a:ext cx="0" cy="195480"/>
              </a:xfrm>
              <a:prstGeom prst="line">
                <a:avLst/>
              </a:prstGeom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94280" y="2832120"/>
                <a:ext cx="0" cy="195480"/>
              </a:xfrm>
              <a:prstGeom prst="line">
                <a:avLst/>
              </a:prstGeom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4749840" y="2884680"/>
                <a:ext cx="210960" cy="163440"/>
                <a:chOff x="4749840" y="2884680"/>
                <a:chExt cx="210960" cy="1634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749840" y="2884680"/>
                  <a:ext cx="209520" cy="162720"/>
                </a:xfrm>
                <a:custGeom>
                  <a:avLst/>
                  <a:gdLst/>
                  <a:ahLst/>
                  <a:rect l="l" t="t" r="r" b="b"/>
                  <a:pathLst>
                    <a:path w="325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3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5" y="36"/>
                      </a:lnTo>
                      <a:lnTo>
                        <a:pt x="278" y="72"/>
                      </a:lnTo>
                      <a:lnTo>
                        <a:pt x="278" y="47"/>
                      </a:lnTo>
                      <a:lnTo>
                        <a:pt x="225" y="47"/>
                      </a:lnTo>
                      <a:lnTo>
                        <a:pt x="179" y="114"/>
                      </a:lnTo>
                      <a:lnTo>
                        <a:pt x="225" y="181"/>
                      </a:lnTo>
                      <a:lnTo>
                        <a:pt x="278" y="181"/>
                      </a:lnTo>
                      <a:lnTo>
                        <a:pt x="278" y="156"/>
                      </a:lnTo>
                      <a:lnTo>
                        <a:pt x="325" y="189"/>
                      </a:lnTo>
                      <a:lnTo>
                        <a:pt x="278" y="226"/>
                      </a:lnTo>
                      <a:lnTo>
                        <a:pt x="278" y="198"/>
                      </a:lnTo>
                      <a:lnTo>
                        <a:pt x="202" y="198"/>
                      </a:lnTo>
                      <a:lnTo>
                        <a:pt x="160" y="136"/>
                      </a:lnTo>
                      <a:lnTo>
                        <a:pt x="123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89"/>
                      </a:lnTo>
                      <a:lnTo>
                        <a:pt x="47" y="156"/>
                      </a:lnTo>
                      <a:lnTo>
                        <a:pt x="47" y="181"/>
                      </a:lnTo>
                      <a:lnTo>
                        <a:pt x="99" y="181"/>
                      </a:lnTo>
                      <a:lnTo>
                        <a:pt x="145" y="114"/>
                      </a:lnTo>
                      <a:lnTo>
                        <a:pt x="99" y="47"/>
                      </a:lnTo>
                      <a:lnTo>
                        <a:pt x="47" y="47"/>
                      </a:lnTo>
                      <a:lnTo>
                        <a:pt x="47" y="68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749840" y="2884680"/>
                  <a:ext cx="209520" cy="162720"/>
                </a:xfrm>
                <a:custGeom>
                  <a:avLst/>
                  <a:gdLst/>
                  <a:ahLst/>
                  <a:rect l="l" t="t" r="r" b="b"/>
                  <a:pathLst>
                    <a:path w="325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3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5" y="36"/>
                      </a:lnTo>
                      <a:lnTo>
                        <a:pt x="278" y="72"/>
                      </a:lnTo>
                      <a:lnTo>
                        <a:pt x="278" y="47"/>
                      </a:lnTo>
                      <a:lnTo>
                        <a:pt x="225" y="47"/>
                      </a:lnTo>
                      <a:lnTo>
                        <a:pt x="179" y="114"/>
                      </a:lnTo>
                      <a:lnTo>
                        <a:pt x="225" y="181"/>
                      </a:lnTo>
                      <a:lnTo>
                        <a:pt x="278" y="181"/>
                      </a:lnTo>
                      <a:lnTo>
                        <a:pt x="278" y="156"/>
                      </a:lnTo>
                      <a:lnTo>
                        <a:pt x="325" y="189"/>
                      </a:lnTo>
                      <a:lnTo>
                        <a:pt x="278" y="226"/>
                      </a:lnTo>
                      <a:lnTo>
                        <a:pt x="278" y="198"/>
                      </a:lnTo>
                      <a:lnTo>
                        <a:pt x="202" y="198"/>
                      </a:lnTo>
                      <a:lnTo>
                        <a:pt x="160" y="136"/>
                      </a:lnTo>
                      <a:lnTo>
                        <a:pt x="123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89"/>
                      </a:lnTo>
                      <a:lnTo>
                        <a:pt x="47" y="156"/>
                      </a:lnTo>
                      <a:lnTo>
                        <a:pt x="47" y="181"/>
                      </a:lnTo>
                      <a:lnTo>
                        <a:pt x="99" y="181"/>
                      </a:lnTo>
                      <a:lnTo>
                        <a:pt x="145" y="114"/>
                      </a:lnTo>
                      <a:lnTo>
                        <a:pt x="99" y="47"/>
                      </a:lnTo>
                      <a:lnTo>
                        <a:pt x="47" y="47"/>
                      </a:lnTo>
                      <a:lnTo>
                        <a:pt x="47" y="68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751640" y="2885400"/>
                  <a:ext cx="209160" cy="162720"/>
                </a:xfrm>
                <a:custGeom>
                  <a:avLst/>
                  <a:gdLst/>
                  <a:ahLst/>
                  <a:rect l="l" t="t" r="r" b="b"/>
                  <a:pathLst>
                    <a:path w="324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1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4" y="36"/>
                      </a:lnTo>
                      <a:lnTo>
                        <a:pt x="278" y="73"/>
                      </a:lnTo>
                      <a:lnTo>
                        <a:pt x="278" y="47"/>
                      </a:lnTo>
                      <a:lnTo>
                        <a:pt x="223" y="47"/>
                      </a:lnTo>
                      <a:lnTo>
                        <a:pt x="180" y="114"/>
                      </a:lnTo>
                      <a:lnTo>
                        <a:pt x="223" y="183"/>
                      </a:lnTo>
                      <a:lnTo>
                        <a:pt x="278" y="183"/>
                      </a:lnTo>
                      <a:lnTo>
                        <a:pt x="278" y="158"/>
                      </a:lnTo>
                      <a:lnTo>
                        <a:pt x="324" y="191"/>
                      </a:lnTo>
                      <a:lnTo>
                        <a:pt x="278" y="226"/>
                      </a:lnTo>
                      <a:lnTo>
                        <a:pt x="278" y="200"/>
                      </a:lnTo>
                      <a:lnTo>
                        <a:pt x="202" y="200"/>
                      </a:lnTo>
                      <a:lnTo>
                        <a:pt x="160" y="137"/>
                      </a:lnTo>
                      <a:lnTo>
                        <a:pt x="121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91"/>
                      </a:lnTo>
                      <a:lnTo>
                        <a:pt x="47" y="158"/>
                      </a:lnTo>
                      <a:lnTo>
                        <a:pt x="47" y="183"/>
                      </a:lnTo>
                      <a:lnTo>
                        <a:pt x="97" y="183"/>
                      </a:lnTo>
                      <a:lnTo>
                        <a:pt x="145" y="114"/>
                      </a:lnTo>
                      <a:lnTo>
                        <a:pt x="97" y="47"/>
                      </a:lnTo>
                      <a:lnTo>
                        <a:pt x="47" y="47"/>
                      </a:lnTo>
                      <a:lnTo>
                        <a:pt x="47" y="71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751640" y="2885400"/>
                  <a:ext cx="209160" cy="162720"/>
                </a:xfrm>
                <a:custGeom>
                  <a:avLst/>
                  <a:gdLst/>
                  <a:ahLst/>
                  <a:rect l="l" t="t" r="r" b="b"/>
                  <a:pathLst>
                    <a:path w="324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1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4" y="36"/>
                      </a:lnTo>
                      <a:lnTo>
                        <a:pt x="278" y="73"/>
                      </a:lnTo>
                      <a:lnTo>
                        <a:pt x="278" y="47"/>
                      </a:lnTo>
                      <a:lnTo>
                        <a:pt x="223" y="47"/>
                      </a:lnTo>
                      <a:lnTo>
                        <a:pt x="180" y="114"/>
                      </a:lnTo>
                      <a:lnTo>
                        <a:pt x="223" y="183"/>
                      </a:lnTo>
                      <a:lnTo>
                        <a:pt x="278" y="183"/>
                      </a:lnTo>
                      <a:lnTo>
                        <a:pt x="278" y="158"/>
                      </a:lnTo>
                      <a:lnTo>
                        <a:pt x="324" y="191"/>
                      </a:lnTo>
                      <a:lnTo>
                        <a:pt x="278" y="226"/>
                      </a:lnTo>
                      <a:lnTo>
                        <a:pt x="278" y="200"/>
                      </a:lnTo>
                      <a:lnTo>
                        <a:pt x="202" y="200"/>
                      </a:lnTo>
                      <a:lnTo>
                        <a:pt x="160" y="137"/>
                      </a:lnTo>
                      <a:lnTo>
                        <a:pt x="121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91"/>
                      </a:lnTo>
                      <a:lnTo>
                        <a:pt x="47" y="158"/>
                      </a:lnTo>
                      <a:lnTo>
                        <a:pt x="47" y="183"/>
                      </a:lnTo>
                      <a:lnTo>
                        <a:pt x="97" y="183"/>
                      </a:lnTo>
                      <a:lnTo>
                        <a:pt x="145" y="114"/>
                      </a:lnTo>
                      <a:lnTo>
                        <a:pt x="97" y="47"/>
                      </a:lnTo>
                      <a:lnTo>
                        <a:pt x="47" y="47"/>
                      </a:lnTo>
                      <a:lnTo>
                        <a:pt x="47" y="71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6281640" y="4148280"/>
              <a:ext cx="45576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3691080" y="4191120"/>
              <a:ext cx="455400" cy="361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52" name=""/>
            <p:cNvGraphicFramePr/>
            <p:nvPr/>
          </p:nvGraphicFramePr>
          <p:xfrm>
            <a:off x="6243480" y="2749680"/>
            <a:ext cx="455760" cy="363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43480" y="2749680"/>
                      <a:ext cx="455760" cy="36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"/>
            <p:cNvSpPr/>
            <p:nvPr/>
          </p:nvSpPr>
          <p:spPr>
            <a:xfrm>
              <a:off x="1420920" y="5257800"/>
              <a:ext cx="247968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8240" y="5354640"/>
              <a:ext cx="1189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Arial"/>
                </a:rPr>
                <a:t>NETISSI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19680" y="5257800"/>
              <a:ext cx="9414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19680" y="5354640"/>
              <a:ext cx="9601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Arial"/>
                </a:rPr>
                <a:t>TURBO  I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2600" y="3833640"/>
              <a:ext cx="1187280" cy="1279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92320" y="4129200"/>
              <a:ext cx="455400" cy="19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8"/>
            <a:stretch/>
          </p:blipFill>
          <p:spPr>
            <a:xfrm>
              <a:off x="644400" y="4129200"/>
              <a:ext cx="5479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flipV="1">
              <a:off x="1100160" y="4227120"/>
              <a:ext cx="9216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374840" y="434448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9320" y="3079800"/>
              <a:ext cx="315720" cy="16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262648"/>
                  </a:solidFill>
                  <a:latin typeface="Arial Narrow"/>
                </a:rPr>
                <a:t>Filtr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41280" y="4522680"/>
              <a:ext cx="316080" cy="17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262648"/>
                  </a:solidFill>
                  <a:latin typeface="Arial Narrow"/>
                </a:rPr>
                <a:t>Filtr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74840" y="432576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6520" y="41385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modem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4840" y="471960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099800" y="481824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65280" y="4626000"/>
              <a:ext cx="5713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36840" y="3178080"/>
              <a:ext cx="59976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9440" y="3768840"/>
              <a:ext cx="0" cy="4762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08440" y="330660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DSLA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46600" y="479268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DSLA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22320" y="30780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B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37360" y="3192480"/>
              <a:ext cx="42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FA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28560" y="456408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FA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2920" y="2884320"/>
              <a:ext cx="1474560" cy="14749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ffffff"/>
              </a:solidFill>
              <a:miter/>
            </a:ln>
            <a:effectLst>
              <a:outerShdw dist="81185" dir="3078030" blurRad="0" rotWithShape="0">
                <a:srgbClr val="3d3d7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262648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4800" y="2612880"/>
              <a:ext cx="627120" cy="6271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ffffff"/>
              </a:solidFill>
              <a:miter/>
            </a:ln>
            <a:effectLst>
              <a:outerShdw dist="81185" dir="3078030" blurRad="0" rotWithShape="0">
                <a:srgbClr val="3d3d7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84800" y="4021200"/>
              <a:ext cx="627120" cy="6271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ffffff"/>
              </a:solidFill>
              <a:miter/>
            </a:ln>
            <a:effectLst>
              <a:outerShdw dist="81185" dir="3078030" blurRad="0" rotWithShape="0">
                <a:srgbClr val="3d3d7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9880" y="4667400"/>
              <a:ext cx="152640" cy="228600"/>
            </a:xfrm>
            <a:prstGeom prst="rect">
              <a:avLst/>
            </a:prstGeom>
            <a:solidFill>
              <a:srgbClr val="383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17840" y="4505400"/>
              <a:ext cx="9111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P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719600" y="4255920"/>
              <a:ext cx="274680" cy="274680"/>
              <a:chOff x="4719600" y="4255920"/>
              <a:chExt cx="274680" cy="274680"/>
            </a:xfrm>
          </p:grpSpPr>
          <p:sp>
            <p:nvSpPr>
              <p:cNvPr id="283" name=""/>
              <p:cNvSpPr/>
              <p:nvPr/>
            </p:nvSpPr>
            <p:spPr>
              <a:xfrm>
                <a:off x="4724280" y="4447800"/>
                <a:ext cx="266760" cy="82800"/>
              </a:xfrm>
              <a:prstGeom prst="ellipse">
                <a:avLst/>
              </a:prstGeom>
              <a:solidFill>
                <a:srgbClr val="3366ff"/>
              </a:solidFill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19600" y="4297320"/>
                <a:ext cx="274680" cy="1918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19600" y="4297320"/>
                <a:ext cx="274680" cy="1918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24280" y="4255920"/>
                <a:ext cx="266760" cy="82440"/>
              </a:xfrm>
              <a:prstGeom prst="ellipse">
                <a:avLst/>
              </a:prstGeom>
              <a:solidFill>
                <a:srgbClr val="91abff"/>
              </a:solidFill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4761000" y="4262400"/>
                <a:ext cx="190080" cy="68040"/>
                <a:chOff x="4761000" y="4262400"/>
                <a:chExt cx="190080" cy="6804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4761000" y="4262400"/>
                  <a:ext cx="189720" cy="66960"/>
                  <a:chOff x="4761000" y="4262400"/>
                  <a:chExt cx="189720" cy="669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4860000" y="4264560"/>
                    <a:ext cx="907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30"/>
                        </a:moveTo>
                        <a:lnTo>
                          <a:pt x="32" y="40"/>
                        </a:lnTo>
                        <a:lnTo>
                          <a:pt x="107" y="14"/>
                        </a:lnTo>
                        <a:lnTo>
                          <a:pt x="141" y="22"/>
                        </a:lnTo>
                        <a:lnTo>
                          <a:pt x="123" y="0"/>
                        </a:lnTo>
                        <a:lnTo>
                          <a:pt x="33" y="0"/>
                        </a:lnTo>
                        <a:lnTo>
                          <a:pt x="71" y="7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4860000" y="4264560"/>
                    <a:ext cx="907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30"/>
                        </a:moveTo>
                        <a:lnTo>
                          <a:pt x="32" y="40"/>
                        </a:lnTo>
                        <a:lnTo>
                          <a:pt x="107" y="14"/>
                        </a:lnTo>
                        <a:lnTo>
                          <a:pt x="141" y="22"/>
                        </a:lnTo>
                        <a:lnTo>
                          <a:pt x="123" y="0"/>
                        </a:lnTo>
                        <a:lnTo>
                          <a:pt x="33" y="0"/>
                        </a:lnTo>
                        <a:lnTo>
                          <a:pt x="71" y="7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4761000" y="4296960"/>
                    <a:ext cx="907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3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7" y="26"/>
                        </a:lnTo>
                        <a:lnTo>
                          <a:pt x="0" y="18"/>
                        </a:lnTo>
                        <a:lnTo>
                          <a:pt x="20" y="43"/>
                        </a:lnTo>
                        <a:lnTo>
                          <a:pt x="109" y="43"/>
                        </a:lnTo>
                        <a:lnTo>
                          <a:pt x="70" y="33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4761000" y="4296960"/>
                    <a:ext cx="907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3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7" y="26"/>
                        </a:lnTo>
                        <a:lnTo>
                          <a:pt x="0" y="18"/>
                        </a:lnTo>
                        <a:lnTo>
                          <a:pt x="20" y="43"/>
                        </a:lnTo>
                        <a:lnTo>
                          <a:pt x="109" y="43"/>
                        </a:lnTo>
                        <a:lnTo>
                          <a:pt x="70" y="33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766760" y="4262400"/>
                    <a:ext cx="892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2">
                        <a:moveTo>
                          <a:pt x="0" y="10"/>
                        </a:moveTo>
                        <a:lnTo>
                          <a:pt x="30" y="0"/>
                        </a:lnTo>
                        <a:lnTo>
                          <a:pt x="106" y="25"/>
                        </a:lnTo>
                        <a:lnTo>
                          <a:pt x="139" y="18"/>
                        </a:lnTo>
                        <a:lnTo>
                          <a:pt x="121" y="42"/>
                        </a:lnTo>
                        <a:lnTo>
                          <a:pt x="34" y="42"/>
                        </a:lnTo>
                        <a:lnTo>
                          <a:pt x="69" y="3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766760" y="4262400"/>
                    <a:ext cx="892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2">
                        <a:moveTo>
                          <a:pt x="0" y="10"/>
                        </a:moveTo>
                        <a:lnTo>
                          <a:pt x="30" y="0"/>
                        </a:lnTo>
                        <a:lnTo>
                          <a:pt x="106" y="25"/>
                        </a:lnTo>
                        <a:lnTo>
                          <a:pt x="139" y="18"/>
                        </a:lnTo>
                        <a:lnTo>
                          <a:pt x="121" y="42"/>
                        </a:lnTo>
                        <a:lnTo>
                          <a:pt x="34" y="42"/>
                        </a:lnTo>
                        <a:lnTo>
                          <a:pt x="69" y="3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4856040" y="4300560"/>
                    <a:ext cx="90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1">
                        <a:moveTo>
                          <a:pt x="141" y="31"/>
                        </a:moveTo>
                        <a:lnTo>
                          <a:pt x="111" y="41"/>
                        </a:lnTo>
                        <a:lnTo>
                          <a:pt x="38" y="13"/>
                        </a:lnTo>
                        <a:lnTo>
                          <a:pt x="0" y="21"/>
                        </a:lnTo>
                        <a:lnTo>
                          <a:pt x="20" y="0"/>
                        </a:lnTo>
                        <a:lnTo>
                          <a:pt x="111" y="0"/>
                        </a:lnTo>
                        <a:lnTo>
                          <a:pt x="70" y="6"/>
                        </a:lnTo>
                        <a:lnTo>
                          <a:pt x="141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856040" y="4300560"/>
                    <a:ext cx="90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1">
                        <a:moveTo>
                          <a:pt x="141" y="31"/>
                        </a:moveTo>
                        <a:lnTo>
                          <a:pt x="111" y="41"/>
                        </a:lnTo>
                        <a:lnTo>
                          <a:pt x="38" y="13"/>
                        </a:lnTo>
                        <a:lnTo>
                          <a:pt x="0" y="21"/>
                        </a:lnTo>
                        <a:lnTo>
                          <a:pt x="20" y="0"/>
                        </a:lnTo>
                        <a:lnTo>
                          <a:pt x="111" y="0"/>
                        </a:lnTo>
                        <a:lnTo>
                          <a:pt x="70" y="6"/>
                        </a:lnTo>
                        <a:lnTo>
                          <a:pt x="141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4762800" y="4264560"/>
                  <a:ext cx="188280" cy="65880"/>
                  <a:chOff x="4762800" y="4264560"/>
                  <a:chExt cx="188280" cy="658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4861800" y="4265640"/>
                    <a:ext cx="892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1">
                        <a:moveTo>
                          <a:pt x="0" y="30"/>
                        </a:moveTo>
                        <a:lnTo>
                          <a:pt x="30" y="41"/>
                        </a:lnTo>
                        <a:lnTo>
                          <a:pt x="106" y="13"/>
                        </a:lnTo>
                        <a:lnTo>
                          <a:pt x="139" y="21"/>
                        </a:lnTo>
                        <a:lnTo>
                          <a:pt x="121" y="0"/>
                        </a:lnTo>
                        <a:lnTo>
                          <a:pt x="33" y="0"/>
                        </a:lnTo>
                        <a:lnTo>
                          <a:pt x="69" y="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861800" y="4265640"/>
                    <a:ext cx="892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1">
                        <a:moveTo>
                          <a:pt x="0" y="30"/>
                        </a:moveTo>
                        <a:lnTo>
                          <a:pt x="30" y="41"/>
                        </a:lnTo>
                        <a:lnTo>
                          <a:pt x="106" y="13"/>
                        </a:lnTo>
                        <a:lnTo>
                          <a:pt x="139" y="21"/>
                        </a:lnTo>
                        <a:lnTo>
                          <a:pt x="121" y="0"/>
                        </a:lnTo>
                        <a:lnTo>
                          <a:pt x="33" y="0"/>
                        </a:lnTo>
                        <a:lnTo>
                          <a:pt x="69" y="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4762800" y="4298400"/>
                    <a:ext cx="907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4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6" y="27"/>
                        </a:lnTo>
                        <a:lnTo>
                          <a:pt x="0" y="19"/>
                        </a:lnTo>
                        <a:lnTo>
                          <a:pt x="18" y="44"/>
                        </a:lnTo>
                        <a:lnTo>
                          <a:pt x="109" y="44"/>
                        </a:lnTo>
                        <a:lnTo>
                          <a:pt x="70" y="34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4762800" y="4298400"/>
                    <a:ext cx="907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4">
                        <a:moveTo>
                          <a:pt x="141" y="9"/>
                        </a:moveTo>
                        <a:lnTo>
                          <a:pt x="109" y="0"/>
                        </a:lnTo>
                        <a:lnTo>
                          <a:pt x="36" y="27"/>
                        </a:lnTo>
                        <a:lnTo>
                          <a:pt x="0" y="19"/>
                        </a:lnTo>
                        <a:lnTo>
                          <a:pt x="18" y="44"/>
                        </a:lnTo>
                        <a:lnTo>
                          <a:pt x="109" y="44"/>
                        </a:lnTo>
                        <a:lnTo>
                          <a:pt x="70" y="34"/>
                        </a:lnTo>
                        <a:lnTo>
                          <a:pt x="141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767840" y="4264560"/>
                    <a:ext cx="907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8"/>
                        </a:moveTo>
                        <a:lnTo>
                          <a:pt x="32" y="0"/>
                        </a:lnTo>
                        <a:lnTo>
                          <a:pt x="107" y="23"/>
                        </a:lnTo>
                        <a:lnTo>
                          <a:pt x="141" y="18"/>
                        </a:lnTo>
                        <a:lnTo>
                          <a:pt x="122" y="40"/>
                        </a:lnTo>
                        <a:lnTo>
                          <a:pt x="34" y="40"/>
                        </a:lnTo>
                        <a:lnTo>
                          <a:pt x="70" y="32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767840" y="4264560"/>
                    <a:ext cx="907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40">
                        <a:moveTo>
                          <a:pt x="0" y="8"/>
                        </a:moveTo>
                        <a:lnTo>
                          <a:pt x="32" y="0"/>
                        </a:lnTo>
                        <a:lnTo>
                          <a:pt x="107" y="23"/>
                        </a:lnTo>
                        <a:lnTo>
                          <a:pt x="141" y="18"/>
                        </a:lnTo>
                        <a:lnTo>
                          <a:pt x="122" y="40"/>
                        </a:lnTo>
                        <a:lnTo>
                          <a:pt x="34" y="40"/>
                        </a:lnTo>
                        <a:lnTo>
                          <a:pt x="70" y="32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858560" y="4302720"/>
                    <a:ext cx="900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9">
                        <a:moveTo>
                          <a:pt x="140" y="31"/>
                        </a:moveTo>
                        <a:lnTo>
                          <a:pt x="109" y="39"/>
                        </a:lnTo>
                        <a:lnTo>
                          <a:pt x="35" y="13"/>
                        </a:lnTo>
                        <a:lnTo>
                          <a:pt x="0" y="21"/>
                        </a:lnTo>
                        <a:lnTo>
                          <a:pt x="17" y="0"/>
                        </a:lnTo>
                        <a:lnTo>
                          <a:pt x="109" y="0"/>
                        </a:lnTo>
                        <a:lnTo>
                          <a:pt x="70" y="6"/>
                        </a:lnTo>
                        <a:lnTo>
                          <a:pt x="140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4858560" y="4302720"/>
                    <a:ext cx="900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39">
                        <a:moveTo>
                          <a:pt x="140" y="31"/>
                        </a:moveTo>
                        <a:lnTo>
                          <a:pt x="109" y="39"/>
                        </a:lnTo>
                        <a:lnTo>
                          <a:pt x="35" y="13"/>
                        </a:lnTo>
                        <a:lnTo>
                          <a:pt x="0" y="21"/>
                        </a:lnTo>
                        <a:lnTo>
                          <a:pt x="17" y="0"/>
                        </a:lnTo>
                        <a:lnTo>
                          <a:pt x="109" y="0"/>
                        </a:lnTo>
                        <a:lnTo>
                          <a:pt x="70" y="6"/>
                        </a:lnTo>
                        <a:lnTo>
                          <a:pt x="140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6" name=""/>
              <p:cNvSpPr/>
              <p:nvPr/>
            </p:nvSpPr>
            <p:spPr>
              <a:xfrm>
                <a:off x="4719600" y="4295520"/>
                <a:ext cx="0" cy="195480"/>
              </a:xfrm>
              <a:prstGeom prst="line">
                <a:avLst/>
              </a:prstGeom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994280" y="4295520"/>
                <a:ext cx="0" cy="195480"/>
              </a:xfrm>
              <a:prstGeom prst="line">
                <a:avLst/>
              </a:prstGeom>
              <a:ln w="6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749840" y="4348080"/>
                <a:ext cx="210960" cy="163440"/>
                <a:chOff x="4749840" y="4348080"/>
                <a:chExt cx="210960" cy="1634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749840" y="4348080"/>
                  <a:ext cx="209520" cy="162720"/>
                </a:xfrm>
                <a:custGeom>
                  <a:avLst/>
                  <a:gdLst/>
                  <a:ahLst/>
                  <a:rect l="l" t="t" r="r" b="b"/>
                  <a:pathLst>
                    <a:path w="325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3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5" y="36"/>
                      </a:lnTo>
                      <a:lnTo>
                        <a:pt x="278" y="72"/>
                      </a:lnTo>
                      <a:lnTo>
                        <a:pt x="278" y="47"/>
                      </a:lnTo>
                      <a:lnTo>
                        <a:pt x="225" y="47"/>
                      </a:lnTo>
                      <a:lnTo>
                        <a:pt x="179" y="114"/>
                      </a:lnTo>
                      <a:lnTo>
                        <a:pt x="225" y="181"/>
                      </a:lnTo>
                      <a:lnTo>
                        <a:pt x="278" y="181"/>
                      </a:lnTo>
                      <a:lnTo>
                        <a:pt x="278" y="156"/>
                      </a:lnTo>
                      <a:lnTo>
                        <a:pt x="325" y="189"/>
                      </a:lnTo>
                      <a:lnTo>
                        <a:pt x="278" y="226"/>
                      </a:lnTo>
                      <a:lnTo>
                        <a:pt x="278" y="198"/>
                      </a:lnTo>
                      <a:lnTo>
                        <a:pt x="202" y="198"/>
                      </a:lnTo>
                      <a:lnTo>
                        <a:pt x="160" y="136"/>
                      </a:lnTo>
                      <a:lnTo>
                        <a:pt x="123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89"/>
                      </a:lnTo>
                      <a:lnTo>
                        <a:pt x="47" y="156"/>
                      </a:lnTo>
                      <a:lnTo>
                        <a:pt x="47" y="181"/>
                      </a:lnTo>
                      <a:lnTo>
                        <a:pt x="99" y="181"/>
                      </a:lnTo>
                      <a:lnTo>
                        <a:pt x="145" y="114"/>
                      </a:lnTo>
                      <a:lnTo>
                        <a:pt x="99" y="47"/>
                      </a:lnTo>
                      <a:lnTo>
                        <a:pt x="47" y="47"/>
                      </a:lnTo>
                      <a:lnTo>
                        <a:pt x="47" y="68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749840" y="4348080"/>
                  <a:ext cx="209520" cy="162720"/>
                </a:xfrm>
                <a:custGeom>
                  <a:avLst/>
                  <a:gdLst/>
                  <a:ahLst/>
                  <a:rect l="l" t="t" r="r" b="b"/>
                  <a:pathLst>
                    <a:path w="325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3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5" y="36"/>
                      </a:lnTo>
                      <a:lnTo>
                        <a:pt x="278" y="72"/>
                      </a:lnTo>
                      <a:lnTo>
                        <a:pt x="278" y="47"/>
                      </a:lnTo>
                      <a:lnTo>
                        <a:pt x="225" y="47"/>
                      </a:lnTo>
                      <a:lnTo>
                        <a:pt x="179" y="114"/>
                      </a:lnTo>
                      <a:lnTo>
                        <a:pt x="225" y="181"/>
                      </a:lnTo>
                      <a:lnTo>
                        <a:pt x="278" y="181"/>
                      </a:lnTo>
                      <a:lnTo>
                        <a:pt x="278" y="156"/>
                      </a:lnTo>
                      <a:lnTo>
                        <a:pt x="325" y="189"/>
                      </a:lnTo>
                      <a:lnTo>
                        <a:pt x="278" y="226"/>
                      </a:lnTo>
                      <a:lnTo>
                        <a:pt x="278" y="198"/>
                      </a:lnTo>
                      <a:lnTo>
                        <a:pt x="202" y="198"/>
                      </a:lnTo>
                      <a:lnTo>
                        <a:pt x="160" y="136"/>
                      </a:lnTo>
                      <a:lnTo>
                        <a:pt x="123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89"/>
                      </a:lnTo>
                      <a:lnTo>
                        <a:pt x="47" y="156"/>
                      </a:lnTo>
                      <a:lnTo>
                        <a:pt x="47" y="181"/>
                      </a:lnTo>
                      <a:lnTo>
                        <a:pt x="99" y="181"/>
                      </a:lnTo>
                      <a:lnTo>
                        <a:pt x="145" y="114"/>
                      </a:lnTo>
                      <a:lnTo>
                        <a:pt x="99" y="47"/>
                      </a:lnTo>
                      <a:lnTo>
                        <a:pt x="47" y="47"/>
                      </a:lnTo>
                      <a:lnTo>
                        <a:pt x="47" y="68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51640" y="4348800"/>
                  <a:ext cx="209160" cy="162720"/>
                </a:xfrm>
                <a:custGeom>
                  <a:avLst/>
                  <a:gdLst/>
                  <a:ahLst/>
                  <a:rect l="l" t="t" r="r" b="b"/>
                  <a:pathLst>
                    <a:path w="324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1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4" y="36"/>
                      </a:lnTo>
                      <a:lnTo>
                        <a:pt x="278" y="73"/>
                      </a:lnTo>
                      <a:lnTo>
                        <a:pt x="278" y="47"/>
                      </a:lnTo>
                      <a:lnTo>
                        <a:pt x="223" y="47"/>
                      </a:lnTo>
                      <a:lnTo>
                        <a:pt x="180" y="114"/>
                      </a:lnTo>
                      <a:lnTo>
                        <a:pt x="223" y="183"/>
                      </a:lnTo>
                      <a:lnTo>
                        <a:pt x="278" y="183"/>
                      </a:lnTo>
                      <a:lnTo>
                        <a:pt x="278" y="158"/>
                      </a:lnTo>
                      <a:lnTo>
                        <a:pt x="324" y="191"/>
                      </a:lnTo>
                      <a:lnTo>
                        <a:pt x="278" y="226"/>
                      </a:lnTo>
                      <a:lnTo>
                        <a:pt x="278" y="200"/>
                      </a:lnTo>
                      <a:lnTo>
                        <a:pt x="202" y="200"/>
                      </a:lnTo>
                      <a:lnTo>
                        <a:pt x="160" y="137"/>
                      </a:lnTo>
                      <a:lnTo>
                        <a:pt x="121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91"/>
                      </a:lnTo>
                      <a:lnTo>
                        <a:pt x="47" y="158"/>
                      </a:lnTo>
                      <a:lnTo>
                        <a:pt x="47" y="183"/>
                      </a:lnTo>
                      <a:lnTo>
                        <a:pt x="97" y="183"/>
                      </a:lnTo>
                      <a:lnTo>
                        <a:pt x="145" y="114"/>
                      </a:lnTo>
                      <a:lnTo>
                        <a:pt x="97" y="47"/>
                      </a:lnTo>
                      <a:lnTo>
                        <a:pt x="47" y="47"/>
                      </a:lnTo>
                      <a:lnTo>
                        <a:pt x="47" y="71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751640" y="4348800"/>
                  <a:ext cx="209160" cy="162720"/>
                </a:xfrm>
                <a:custGeom>
                  <a:avLst/>
                  <a:gdLst/>
                  <a:ahLst/>
                  <a:rect l="l" t="t" r="r" b="b"/>
                  <a:pathLst>
                    <a:path w="324" h="226">
                      <a:moveTo>
                        <a:pt x="47" y="0"/>
                      </a:moveTo>
                      <a:lnTo>
                        <a:pt x="47" y="29"/>
                      </a:lnTo>
                      <a:lnTo>
                        <a:pt x="121" y="29"/>
                      </a:lnTo>
                      <a:lnTo>
                        <a:pt x="160" y="89"/>
                      </a:lnTo>
                      <a:lnTo>
                        <a:pt x="202" y="29"/>
                      </a:lnTo>
                      <a:lnTo>
                        <a:pt x="278" y="29"/>
                      </a:lnTo>
                      <a:lnTo>
                        <a:pt x="278" y="0"/>
                      </a:lnTo>
                      <a:lnTo>
                        <a:pt x="324" y="36"/>
                      </a:lnTo>
                      <a:lnTo>
                        <a:pt x="278" y="73"/>
                      </a:lnTo>
                      <a:lnTo>
                        <a:pt x="278" y="47"/>
                      </a:lnTo>
                      <a:lnTo>
                        <a:pt x="223" y="47"/>
                      </a:lnTo>
                      <a:lnTo>
                        <a:pt x="180" y="114"/>
                      </a:lnTo>
                      <a:lnTo>
                        <a:pt x="223" y="183"/>
                      </a:lnTo>
                      <a:lnTo>
                        <a:pt x="278" y="183"/>
                      </a:lnTo>
                      <a:lnTo>
                        <a:pt x="278" y="158"/>
                      </a:lnTo>
                      <a:lnTo>
                        <a:pt x="324" y="191"/>
                      </a:lnTo>
                      <a:lnTo>
                        <a:pt x="278" y="226"/>
                      </a:lnTo>
                      <a:lnTo>
                        <a:pt x="278" y="200"/>
                      </a:lnTo>
                      <a:lnTo>
                        <a:pt x="202" y="200"/>
                      </a:lnTo>
                      <a:lnTo>
                        <a:pt x="160" y="137"/>
                      </a:lnTo>
                      <a:lnTo>
                        <a:pt x="121" y="201"/>
                      </a:lnTo>
                      <a:lnTo>
                        <a:pt x="47" y="201"/>
                      </a:lnTo>
                      <a:lnTo>
                        <a:pt x="47" y="226"/>
                      </a:lnTo>
                      <a:lnTo>
                        <a:pt x="0" y="191"/>
                      </a:lnTo>
                      <a:lnTo>
                        <a:pt x="47" y="158"/>
                      </a:lnTo>
                      <a:lnTo>
                        <a:pt x="47" y="183"/>
                      </a:lnTo>
                      <a:lnTo>
                        <a:pt x="97" y="183"/>
                      </a:lnTo>
                      <a:lnTo>
                        <a:pt x="145" y="114"/>
                      </a:lnTo>
                      <a:lnTo>
                        <a:pt x="97" y="47"/>
                      </a:lnTo>
                      <a:lnTo>
                        <a:pt x="47" y="47"/>
                      </a:lnTo>
                      <a:lnTo>
                        <a:pt x="47" y="71"/>
                      </a:lnTo>
                      <a:lnTo>
                        <a:pt x="0" y="3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313" name=""/>
            <p:cNvGraphicFramePr/>
            <p:nvPr/>
          </p:nvGraphicFramePr>
          <p:xfrm rot="10800000">
            <a:off x="808200" y="3261960"/>
            <a:ext cx="272880" cy="182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10800000">
                      <a:off x="808200" y="3261960"/>
                      <a:ext cx="272880" cy="18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 rot="10800000">
            <a:off x="817560" y="4713120"/>
            <a:ext cx="272880" cy="182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 rot="10800000">
                      <a:off x="817560" y="4713120"/>
                      <a:ext cx="272880" cy="1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471-73AF-4D20-A27B-6B0B23BEE3C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DCAD3-D10E-4623-8F62-F0D4F98D9C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ffffff"/>
                </a:solidFill>
                <a:latin typeface="Arial"/>
              </a:rPr>
              <a:t>Lexique 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9cb40"/>
                </a:solidFill>
                <a:uFillTx/>
                <a:latin typeface="Arial"/>
                <a:hlinkClick r:id="rId1"/>
              </a:rPr>
              <a:t>Lexique ADS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7F3-0582-462F-A125-E41AF1732B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3037E-AD88-4FF9-BCEB-AA0F73FB5C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567480" y="1484280"/>
            <a:ext cx="831960" cy="4410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38480" y="2617920"/>
            <a:ext cx="4329000" cy="2763720"/>
          </a:xfrm>
          <a:prstGeom prst="rect">
            <a:avLst/>
          </a:prstGeom>
          <a:solidFill>
            <a:srgbClr val="b3e2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98920" y="2744640"/>
            <a:ext cx="1382760" cy="2482920"/>
          </a:xfrm>
          <a:prstGeom prst="rect">
            <a:avLst/>
          </a:prstGeom>
          <a:solidFill>
            <a:srgbClr val="bebad1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54280" y="3454560"/>
            <a:ext cx="2643120" cy="1052280"/>
          </a:xfrm>
          <a:custGeom>
            <a:avLst/>
            <a:gdLst/>
            <a:ahLst/>
            <a:rect l="l" t="t" r="r" b="b"/>
            <a:pathLst>
              <a:path w="1958" h="780">
                <a:moveTo>
                  <a:pt x="0" y="0"/>
                </a:moveTo>
                <a:lnTo>
                  <a:pt x="0" y="780"/>
                </a:lnTo>
                <a:lnTo>
                  <a:pt x="1958" y="780"/>
                </a:lnTo>
              </a:path>
            </a:pathLst>
          </a:custGeom>
          <a:noFill/>
          <a:ln w="38160">
            <a:solidFill>
              <a:srgbClr val="66b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98800" y="2095560"/>
            <a:ext cx="2192040" cy="720720"/>
          </a:xfrm>
          <a:custGeom>
            <a:avLst/>
            <a:gdLst/>
            <a:ahLst/>
            <a:rect l="l" t="t" r="r" b="b"/>
            <a:pathLst>
              <a:path w="1624" h="534">
                <a:moveTo>
                  <a:pt x="0" y="0"/>
                </a:moveTo>
                <a:lnTo>
                  <a:pt x="1624" y="0"/>
                </a:lnTo>
                <a:lnTo>
                  <a:pt x="1624" y="534"/>
                </a:lnTo>
              </a:path>
            </a:pathLst>
          </a:custGeom>
          <a:noFill/>
          <a:ln w="38160">
            <a:solidFill>
              <a:srgbClr val="66b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6480" y="2822400"/>
            <a:ext cx="1343160" cy="933480"/>
          </a:xfrm>
          <a:custGeom>
            <a:avLst/>
            <a:gdLst/>
            <a:ahLst/>
            <a:rect l="l" t="t" r="r" b="b"/>
            <a:pathLst>
              <a:path w="996" h="692">
                <a:moveTo>
                  <a:pt x="552" y="692"/>
                </a:moveTo>
                <a:lnTo>
                  <a:pt x="552" y="0"/>
                </a:lnTo>
                <a:lnTo>
                  <a:pt x="996" y="0"/>
                </a:lnTo>
                <a:lnTo>
                  <a:pt x="996" y="692"/>
                </a:lnTo>
                <a:lnTo>
                  <a:pt x="0" y="692"/>
                </a:lnTo>
                <a:lnTo>
                  <a:pt x="0" y="110"/>
                </a:lnTo>
              </a:path>
            </a:pathLst>
          </a:custGeom>
          <a:noFill/>
          <a:ln w="38160">
            <a:solidFill>
              <a:srgbClr val="66b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78200" y="2009880"/>
            <a:ext cx="2768400" cy="1244520"/>
          </a:xfrm>
          <a:custGeom>
            <a:avLst/>
            <a:gdLst/>
            <a:ahLst/>
            <a:rect l="l" t="t" r="r" b="b"/>
            <a:pathLst>
              <a:path w="2052" h="922">
                <a:moveTo>
                  <a:pt x="2052" y="922"/>
                </a:moveTo>
                <a:lnTo>
                  <a:pt x="205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55880" y="1933560"/>
            <a:ext cx="3819600" cy="2368440"/>
          </a:xfrm>
          <a:custGeom>
            <a:avLst/>
            <a:gdLst/>
            <a:ahLst/>
            <a:rect l="l" t="t" r="r" b="b"/>
            <a:pathLst>
              <a:path w="2830" h="1754">
                <a:moveTo>
                  <a:pt x="2830" y="1754"/>
                </a:moveTo>
                <a:lnTo>
                  <a:pt x="283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5080" y="1832040"/>
            <a:ext cx="92088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5080" y="1901880"/>
            <a:ext cx="92088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5080" y="1969920"/>
            <a:ext cx="92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5080" y="2036880"/>
            <a:ext cx="92088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5080" y="2104920"/>
            <a:ext cx="9208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5080" y="2174760"/>
            <a:ext cx="920880" cy="1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80880"/>
            <a:ext cx="7067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Dégroupage / Interconnexion / Présélec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1760" y="990720"/>
            <a:ext cx="364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ffffff"/>
                </a:solidFill>
                <a:latin typeface="Arial"/>
              </a:rPr>
              <a:t>schéma simplifié de princip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8520" y="1635120"/>
            <a:ext cx="736560" cy="73656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1440" y="177804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Réseau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440" y="189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016000"/>
            <a:ext cx="54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Opérate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2160" y="21351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Tier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20840" y="4884840"/>
            <a:ext cx="531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alle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1880" y="5019840"/>
            <a:ext cx="87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11040" y="16128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 Bou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15440" y="17701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oc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46480" y="19256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6800" y="2084400"/>
            <a:ext cx="50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61080" y="2239920"/>
            <a:ext cx="62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élé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06560" y="3065400"/>
            <a:ext cx="1380960" cy="1800"/>
          </a:xfrm>
          <a:prstGeom prst="line">
            <a:avLst/>
          </a:prstGeom>
          <a:ln w="38160">
            <a:solidFill>
              <a:srgbClr val="0e1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06560" y="3159000"/>
            <a:ext cx="1380960" cy="1800"/>
          </a:xfrm>
          <a:prstGeom prst="line">
            <a:avLst/>
          </a:prstGeom>
          <a:ln w="38160">
            <a:solidFill>
              <a:srgbClr val="0e1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06560" y="3251160"/>
            <a:ext cx="1380960" cy="1800"/>
          </a:xfrm>
          <a:prstGeom prst="line">
            <a:avLst/>
          </a:prstGeom>
          <a:ln w="38160">
            <a:solidFill>
              <a:srgbClr val="0e1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06560" y="3346560"/>
            <a:ext cx="1380960" cy="1440"/>
          </a:xfrm>
          <a:prstGeom prst="line">
            <a:avLst/>
          </a:prstGeom>
          <a:ln w="38160">
            <a:solidFill>
              <a:srgbClr val="0e1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06560" y="2973240"/>
            <a:ext cx="1380960" cy="1800"/>
          </a:xfrm>
          <a:prstGeom prst="line">
            <a:avLst/>
          </a:prstGeom>
          <a:ln w="38160">
            <a:solidFill>
              <a:srgbClr val="0e1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06560" y="3436920"/>
            <a:ext cx="1380960" cy="1440"/>
          </a:xfrm>
          <a:prstGeom prst="line">
            <a:avLst/>
          </a:prstGeom>
          <a:ln w="38160">
            <a:solidFill>
              <a:srgbClr val="0e1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0360" y="3478320"/>
            <a:ext cx="2393640" cy="701640"/>
          </a:xfrm>
          <a:custGeom>
            <a:avLst/>
            <a:gdLst/>
            <a:ahLst/>
            <a:rect l="l" t="t" r="r" b="b"/>
            <a:pathLst>
              <a:path w="1774" h="520">
                <a:moveTo>
                  <a:pt x="0" y="0"/>
                </a:moveTo>
                <a:lnTo>
                  <a:pt x="0" y="520"/>
                </a:lnTo>
                <a:lnTo>
                  <a:pt x="1774" y="520"/>
                </a:lnTo>
              </a:path>
            </a:pathLst>
          </a:custGeom>
          <a:noFill/>
          <a:ln w="38160">
            <a:solidFill>
              <a:srgbClr val="0e1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350040" y="3620880"/>
            <a:ext cx="1122480" cy="601560"/>
          </a:xfrm>
          <a:prstGeom prst="line">
            <a:avLst/>
          </a:prstGeom>
          <a:ln w="38160">
            <a:solidFill>
              <a:srgbClr val="0e1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15040" y="4307040"/>
            <a:ext cx="1554120" cy="701640"/>
          </a:xfrm>
          <a:custGeom>
            <a:avLst/>
            <a:gdLst/>
            <a:ahLst/>
            <a:rect l="l" t="t" r="r" b="b"/>
            <a:pathLst>
              <a:path w="1152" h="520">
                <a:moveTo>
                  <a:pt x="0" y="0"/>
                </a:moveTo>
                <a:lnTo>
                  <a:pt x="0" y="520"/>
                </a:lnTo>
                <a:lnTo>
                  <a:pt x="1152" y="520"/>
                </a:lnTo>
              </a:path>
            </a:pathLst>
          </a:custGeom>
          <a:noFill/>
          <a:ln w="38160">
            <a:solidFill>
              <a:srgbClr val="66b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99440" y="4792680"/>
            <a:ext cx="828720" cy="461880"/>
          </a:xfrm>
          <a:prstGeom prst="rect">
            <a:avLst/>
          </a:prstGeom>
          <a:solidFill>
            <a:srgbClr val="66b82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17160" y="4911840"/>
            <a:ext cx="53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Client ave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16800" y="5030640"/>
            <a:ext cx="60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présélec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84800" y="4414680"/>
            <a:ext cx="1382760" cy="1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99440" y="4103640"/>
            <a:ext cx="828720" cy="46044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581240" y="4222800"/>
            <a:ext cx="28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80880" y="4341960"/>
            <a:ext cx="46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dégroupé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30800" y="3319560"/>
            <a:ext cx="138276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10280" y="2978280"/>
            <a:ext cx="1195200" cy="64584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43760" y="3191040"/>
            <a:ext cx="1123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Salle de dégroupag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44840" y="3309840"/>
            <a:ext cx="91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Opérateurs Tier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5200" y="2873520"/>
            <a:ext cx="1013040" cy="645840"/>
          </a:xfrm>
          <a:prstGeom prst="rect">
            <a:avLst/>
          </a:prstGeom>
          <a:solidFill>
            <a:srgbClr val="0e1e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41880" y="308628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Commutate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3205080"/>
            <a:ext cx="87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France Télé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75040" y="4025880"/>
            <a:ext cx="828720" cy="646200"/>
          </a:xfrm>
          <a:prstGeom prst="rect">
            <a:avLst/>
          </a:prstGeom>
          <a:solidFill>
            <a:srgbClr val="0e1e7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10680" y="4237200"/>
            <a:ext cx="64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Equipeme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11760" y="4356000"/>
            <a:ext cx="77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France Télé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94440" y="4079880"/>
            <a:ext cx="1198440" cy="646200"/>
          </a:xfrm>
          <a:prstGeom prst="rect">
            <a:avLst/>
          </a:prstGeom>
          <a:solidFill>
            <a:srgbClr val="0e1e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4290840"/>
            <a:ext cx="107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Répartiteur Génér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58160" y="4410000"/>
            <a:ext cx="87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France Télé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89120" y="1771560"/>
            <a:ext cx="460440" cy="4618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29880" y="1855800"/>
            <a:ext cx="18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3800" y="1976400"/>
            <a:ext cx="47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opérateu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95600" y="2116080"/>
            <a:ext cx="1654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6b821"/>
                </a:solidFill>
                <a:latin typeface="Arial"/>
              </a:rPr>
              <a:t>Liaison d'interconnex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90840" y="2965320"/>
            <a:ext cx="598680" cy="644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45560" y="3006720"/>
            <a:ext cx="50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Equip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62640" y="3125880"/>
            <a:ext cx="102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22520" y="3246480"/>
            <a:ext cx="5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91640" y="336384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Opérateu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06120" y="3483000"/>
            <a:ext cx="21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Tier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91080" y="2965320"/>
            <a:ext cx="599760" cy="644760"/>
          </a:xfrm>
          <a:prstGeom prst="rect">
            <a:avLst/>
          </a:prstGeom>
          <a:solidFill>
            <a:srgbClr val="0e1e7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23120" y="3006720"/>
            <a:ext cx="50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Equipeme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38760" y="3125880"/>
            <a:ext cx="102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00080" y="3246480"/>
            <a:ext cx="5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transmiss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37600" y="33638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5200" y="348300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Arial"/>
              </a:rPr>
              <a:t>Téléco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9560" y="360216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19560" y="281448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7960" y="1766880"/>
            <a:ext cx="1715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6600"/>
                </a:solidFill>
                <a:latin typeface="Arial"/>
              </a:rPr>
              <a:t>Liaison d'accès dégroupé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0480" y="2876400"/>
            <a:ext cx="586080" cy="347760"/>
          </a:xfrm>
          <a:custGeom>
            <a:avLst/>
            <a:gdLst/>
            <a:ahLst/>
            <a:rect l="l" t="t" r="r" b="b"/>
            <a:pathLst>
              <a:path w="434" h="258">
                <a:moveTo>
                  <a:pt x="0" y="258"/>
                </a:moveTo>
                <a:lnTo>
                  <a:pt x="0" y="0"/>
                </a:lnTo>
                <a:lnTo>
                  <a:pt x="434" y="0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61000" y="2841480"/>
            <a:ext cx="79560" cy="66960"/>
          </a:xfrm>
          <a:custGeom>
            <a:avLst/>
            <a:gdLst/>
            <a:ahLst/>
            <a:rect l="l" t="t" r="r" b="b"/>
            <a:pathLst>
              <a:path w="58" h="50">
                <a:moveTo>
                  <a:pt x="0" y="50"/>
                </a:moveTo>
                <a:lnTo>
                  <a:pt x="10" y="26"/>
                </a:lnTo>
                <a:lnTo>
                  <a:pt x="0" y="0"/>
                </a:lnTo>
                <a:lnTo>
                  <a:pt x="58" y="26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67360" y="3200400"/>
            <a:ext cx="68040" cy="77760"/>
          </a:xfrm>
          <a:custGeom>
            <a:avLst/>
            <a:gdLst/>
            <a:ahLst/>
            <a:rect l="l" t="t" r="r" b="b"/>
            <a:pathLst>
              <a:path w="50" h="58">
                <a:moveTo>
                  <a:pt x="0" y="0"/>
                </a:moveTo>
                <a:lnTo>
                  <a:pt x="24" y="10"/>
                </a:lnTo>
                <a:lnTo>
                  <a:pt x="50" y="0"/>
                </a:lnTo>
                <a:lnTo>
                  <a:pt x="24" y="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08560" y="272412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88960" y="6523200"/>
            <a:ext cx="206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e1e7d"/>
                </a:solidFill>
                <a:latin typeface="Arial"/>
              </a:rPr>
              <a:t>Branche Réseaux, le 11/05/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399440" y="3413160"/>
            <a:ext cx="828720" cy="461880"/>
          </a:xfrm>
          <a:prstGeom prst="rect">
            <a:avLst/>
          </a:prstGeom>
          <a:solidFill>
            <a:srgbClr val="0e1e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31840" y="3533760"/>
            <a:ext cx="28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32560" y="3651120"/>
            <a:ext cx="77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France Télé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8520" y="2827440"/>
            <a:ext cx="736560" cy="736560"/>
          </a:xfrm>
          <a:prstGeom prst="ellipse">
            <a:avLst/>
          </a:prstGeom>
          <a:solidFill>
            <a:srgbClr val="0e1e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9360" y="294012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Réseau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9360" y="305928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9720" y="3179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9360" y="329724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Télé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514-C829-4FB2-B21F-DF4D2B7D504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22063-3B0C-4F3D-8634-7188292570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698920" y="4822920"/>
            <a:ext cx="644508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57440" y="4822920"/>
            <a:ext cx="7776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03440" y="4822920"/>
            <a:ext cx="1800" cy="914400"/>
          </a:xfrm>
          <a:prstGeom prst="line">
            <a:avLst/>
          </a:prstGeom>
          <a:ln w="28440">
            <a:solidFill>
              <a:srgbClr val="9191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32560" y="482292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9191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98920" y="3341520"/>
            <a:ext cx="6445080" cy="91440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57440" y="3341520"/>
            <a:ext cx="77760" cy="91440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3440" y="3341520"/>
            <a:ext cx="1800" cy="914400"/>
          </a:xfrm>
          <a:prstGeom prst="line">
            <a:avLst/>
          </a:prstGeom>
          <a:ln w="28440">
            <a:solidFill>
              <a:srgbClr val="79c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32560" y="334152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-11160" y="652320"/>
            <a:ext cx="3135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Présent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70200" y="3408480"/>
            <a:ext cx="7278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La montée en débit </a:t>
            </a:r>
            <a:br>
              <a:rPr sz="3000"/>
            </a:br>
            <a:r>
              <a:rPr b="1" lang="fr-FR" sz="3000" spc="-1" strike="noStrike">
                <a:solidFill>
                  <a:srgbClr val="262648"/>
                </a:solidFill>
                <a:latin typeface="Arial"/>
              </a:rPr>
              <a:t>dans le réseau coeu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70200" y="4898880"/>
            <a:ext cx="7364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La construction </a:t>
            </a:r>
            <a:br>
              <a:rPr sz="3000"/>
            </a:b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d’un réseau mondi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20680" y="1844640"/>
            <a:ext cx="128448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191c5"/>
                </a:solidFill>
                <a:latin typeface="Arial"/>
              </a:rPr>
              <a:t>1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20680" y="3386160"/>
            <a:ext cx="1284480" cy="770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9ff66"/>
                </a:solidFill>
                <a:latin typeface="Arial"/>
              </a:rPr>
              <a:t>2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20680" y="4832280"/>
            <a:ext cx="1284480" cy="77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d3d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000" spc="-1" strike="noStrike">
                <a:solidFill>
                  <a:srgbClr val="9191c5"/>
                </a:solidFill>
                <a:latin typeface="Arial"/>
              </a:rPr>
              <a:t>3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98920" y="1828800"/>
            <a:ext cx="644508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57440" y="1828800"/>
            <a:ext cx="77760" cy="914400"/>
          </a:xfrm>
          <a:prstGeom prst="rect">
            <a:avLst/>
          </a:prstGeom>
          <a:solidFill>
            <a:srgbClr val="9191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03440" y="1828800"/>
            <a:ext cx="1800" cy="914400"/>
          </a:xfrm>
          <a:prstGeom prst="line">
            <a:avLst/>
          </a:prstGeom>
          <a:ln w="28440">
            <a:solidFill>
              <a:srgbClr val="9191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32560" y="1828800"/>
            <a:ext cx="1711440" cy="91440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9191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70200" y="1890720"/>
            <a:ext cx="7107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La croissance des données </a:t>
            </a:r>
            <a:br>
              <a:rPr sz="3000"/>
            </a:br>
            <a:r>
              <a:rPr b="1" lang="fr-FR" sz="3000" spc="-1" strike="noStrike">
                <a:solidFill>
                  <a:srgbClr val="6f6fb3"/>
                </a:solidFill>
                <a:latin typeface="Arial"/>
              </a:rPr>
              <a:t>et la montée en débit à l’accè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3FD-75FD-49A5-9249-F70D6C71D1D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E80B7-8AAA-476D-925F-273423CA01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1295280" y="1185840"/>
            <a:ext cx="7848720" cy="380880"/>
            <a:chOff x="1295280" y="1185840"/>
            <a:chExt cx="7848720" cy="380880"/>
          </a:xfrm>
        </p:grpSpPr>
        <p:sp>
          <p:nvSpPr>
            <p:cNvPr id="429" name=""/>
            <p:cNvSpPr/>
            <p:nvPr/>
          </p:nvSpPr>
          <p:spPr>
            <a:xfrm>
              <a:off x="1488960" y="1185840"/>
              <a:ext cx="7655040" cy="38088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49280" y="1185840"/>
              <a:ext cx="76320" cy="380880"/>
            </a:xfrm>
            <a:prstGeom prst="rect">
              <a:avLst/>
            </a:prstGeom>
            <a:solidFill>
              <a:srgbClr val="79c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95280" y="1185840"/>
              <a:ext cx="0" cy="380880"/>
            </a:xfrm>
            <a:prstGeom prst="line">
              <a:avLst/>
            </a:prstGeom>
            <a:ln w="28440">
              <a:solidFill>
                <a:srgbClr val="79cb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20120" y="1185840"/>
              <a:ext cx="1523880" cy="380880"/>
            </a:xfrm>
            <a:prstGeom prst="rect">
              <a:avLst/>
            </a:prstGeom>
            <a:gradFill rotWithShape="0">
              <a:gsLst>
                <a:gs pos="0">
                  <a:srgbClr val="6464ae"/>
                </a:gs>
                <a:gs pos="100000">
                  <a:srgbClr val="79cb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488960" y="4191120"/>
            <a:ext cx="7655040" cy="38088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49280" y="4191120"/>
            <a:ext cx="76320" cy="38088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95280" y="4191120"/>
            <a:ext cx="0" cy="380880"/>
          </a:xfrm>
          <a:prstGeom prst="line">
            <a:avLst/>
          </a:prstGeom>
          <a:ln w="28440">
            <a:solidFill>
              <a:srgbClr val="79c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-11160" y="652320"/>
            <a:ext cx="542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2440" y="1131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1240" indent="-201240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Une croissance très rap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76520" y="16970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99800" indent="-199800">
              <a:lnSpc>
                <a:spcPct val="95000"/>
              </a:lnSpc>
              <a:spcBef>
                <a:spcPts val="45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ansmission inter brasseur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000" indent="-160560">
              <a:lnSpc>
                <a:spcPct val="95000"/>
              </a:lnSpc>
              <a:spcBef>
                <a:spcPts val="125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507 liaisons 155Mbit/s 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000" indent="-160560">
              <a:lnSpc>
                <a:spcPct val="95000"/>
              </a:lnSpc>
              <a:spcBef>
                <a:spcPts val="125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15 anneaux 622Mbit/s sur fib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45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oissance du trafic écoulé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189000">
              <a:lnSpc>
                <a:spcPct val="95000"/>
              </a:lnSpc>
              <a:spcBef>
                <a:spcPts val="125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De 6 Gbit/s fin 1999 à 18 Gbit/s fin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2440" y="41450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1240" indent="-201240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62648"/>
                </a:solidFill>
                <a:latin typeface="Arial"/>
              </a:rPr>
              <a:t>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76520" y="471024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45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es brasseurs de capacité croissant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189000">
              <a:lnSpc>
                <a:spcPct val="95000"/>
              </a:lnSpc>
              <a:spcBef>
                <a:spcPts val="125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De 12 Gbit/s fin 2000 à 50 Gbit/s (évolutif 450 Gbit/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7680" indent="-247680">
              <a:lnSpc>
                <a:spcPct val="95000"/>
              </a:lnSpc>
              <a:spcBef>
                <a:spcPts val="451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roduction du mode commuté en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Le réseau ATM nationa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20120" y="4191120"/>
            <a:ext cx="1523880" cy="38088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8B8-B9BF-4EB1-A782-1F0F71B02D7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0C94A-974D-4401-9C4E-DC968A918F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68600" y="5348160"/>
            <a:ext cx="1101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76480" y="1301760"/>
            <a:ext cx="4754520" cy="3821040"/>
          </a:xfrm>
          <a:prstGeom prst="rect">
            <a:avLst/>
          </a:prstGeom>
          <a:solidFill>
            <a:srgbClr val="2626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803760" y="4598640"/>
            <a:ext cx="0" cy="38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4738680"/>
            <a:ext cx="1833480" cy="1833480"/>
          </a:xfrm>
          <a:prstGeom prst="ellipse">
            <a:avLst/>
          </a:prstGeom>
          <a:solidFill>
            <a:srgbClr val="f99e75"/>
          </a:solidFill>
          <a:ln w="28440">
            <a:solidFill>
              <a:srgbClr val="ffffff"/>
            </a:solidFill>
            <a:miter/>
          </a:ln>
          <a:effectLst>
            <a:outerShdw dist="81185" dir="307803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591240" y="3490560"/>
            <a:ext cx="9111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91520" y="2755800"/>
            <a:ext cx="1474560" cy="1474920"/>
          </a:xfrm>
          <a:prstGeom prst="ellipse">
            <a:avLst/>
          </a:prstGeom>
          <a:solidFill>
            <a:srgbClr val="c5dcf5"/>
          </a:solidFill>
          <a:ln w="28440">
            <a:solidFill>
              <a:srgbClr val="ffffff"/>
            </a:solidFill>
            <a:miter/>
          </a:ln>
          <a:effectLst>
            <a:outerShdw dist="81185" dir="307803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06840" y="2754360"/>
            <a:ext cx="1135080" cy="1827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089240" y="2044800"/>
            <a:ext cx="970200" cy="95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50000" y="2003400"/>
            <a:ext cx="0" cy="1001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2216160"/>
            <a:ext cx="476280" cy="79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65840" y="3998880"/>
            <a:ext cx="757440" cy="52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560640" y="2200320"/>
            <a:ext cx="481320" cy="82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21320" y="4073400"/>
            <a:ext cx="690840" cy="11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70280" y="2494080"/>
            <a:ext cx="2286000" cy="22860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883040" y="1487520"/>
            <a:ext cx="451080" cy="231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59520" y="838080"/>
            <a:ext cx="114300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ffff"/>
            </a:solidFill>
            <a:miter/>
          </a:ln>
          <a:effectLst>
            <a:outerShdw dist="81185" dir="307803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1160" y="652320"/>
            <a:ext cx="717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1898640"/>
            <a:ext cx="184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35200" y="3305160"/>
            <a:ext cx="219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68480" y="5197320"/>
            <a:ext cx="1001880" cy="64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ISP/I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4960" y="3305160"/>
            <a:ext cx="104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39960" y="2782800"/>
            <a:ext cx="70200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720" rIns="997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04920" y="3122640"/>
          <a:ext cx="436320" cy="3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122640"/>
                    <a:ext cx="4363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5235480" y="1214280"/>
            <a:ext cx="9637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fr-FR" sz="1600" spc="-1" strike="noStrike">
                <a:solidFill>
                  <a:srgbClr val="262648"/>
                </a:solidFill>
                <a:latin typeface="Arial"/>
              </a:rPr>
              <a:t>SI 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07480" y="4448160"/>
            <a:ext cx="113652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720" rIns="997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fr-FR" sz="1600" spc="-1" strike="noStrike">
                <a:solidFill>
                  <a:srgbClr val="ffff99"/>
                </a:solidFill>
                <a:latin typeface="Arial"/>
              </a:rPr>
              <a:t>Wanad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06440" y="3068640"/>
            <a:ext cx="374760" cy="447840"/>
          </a:xfrm>
          <a:prstGeom prst="rect">
            <a:avLst/>
          </a:prstGeom>
          <a:solidFill>
            <a:srgbClr val="00c27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724200" y="3079800"/>
            <a:ext cx="466920" cy="47520"/>
          </a:xfrm>
          <a:custGeom>
            <a:avLst/>
            <a:gdLst/>
            <a:ahLst/>
            <a:rect l="l" t="t" r="r" b="b"/>
            <a:pathLst>
              <a:path w="355" h="35">
                <a:moveTo>
                  <a:pt x="354" y="34"/>
                </a:moveTo>
                <a:lnTo>
                  <a:pt x="314" y="0"/>
                </a:lnTo>
                <a:lnTo>
                  <a:pt x="0" y="0"/>
                </a:lnTo>
                <a:lnTo>
                  <a:pt x="40" y="34"/>
                </a:lnTo>
                <a:lnTo>
                  <a:pt x="354" y="3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24200" y="3079800"/>
            <a:ext cx="466920" cy="47520"/>
          </a:xfrm>
          <a:custGeom>
            <a:avLst/>
            <a:gdLst/>
            <a:ahLst/>
            <a:rect l="l" t="t" r="r" b="b"/>
            <a:pathLst>
              <a:path w="355" h="35">
                <a:moveTo>
                  <a:pt x="354" y="34"/>
                </a:moveTo>
                <a:lnTo>
                  <a:pt x="314" y="0"/>
                </a:lnTo>
                <a:lnTo>
                  <a:pt x="0" y="0"/>
                </a:lnTo>
                <a:lnTo>
                  <a:pt x="40" y="34"/>
                </a:lnTo>
                <a:lnTo>
                  <a:pt x="354" y="3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76760" y="3129120"/>
            <a:ext cx="414360" cy="398160"/>
          </a:xfrm>
          <a:custGeom>
            <a:avLst/>
            <a:gdLst/>
            <a:ahLst/>
            <a:rect l="l" t="t" r="r" b="b"/>
            <a:pathLst>
              <a:path w="316" h="283">
                <a:moveTo>
                  <a:pt x="315" y="0"/>
                </a:moveTo>
                <a:lnTo>
                  <a:pt x="0" y="0"/>
                </a:lnTo>
                <a:lnTo>
                  <a:pt x="0" y="282"/>
                </a:lnTo>
                <a:lnTo>
                  <a:pt x="315" y="282"/>
                </a:lnTo>
                <a:lnTo>
                  <a:pt x="315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28880" y="3079800"/>
            <a:ext cx="466920" cy="47520"/>
          </a:xfrm>
          <a:custGeom>
            <a:avLst/>
            <a:gdLst/>
            <a:ahLst/>
            <a:rect l="l" t="t" r="r" b="b"/>
            <a:pathLst>
              <a:path w="355" h="35">
                <a:moveTo>
                  <a:pt x="354" y="34"/>
                </a:moveTo>
                <a:lnTo>
                  <a:pt x="314" y="0"/>
                </a:lnTo>
                <a:lnTo>
                  <a:pt x="0" y="0"/>
                </a:lnTo>
                <a:lnTo>
                  <a:pt x="40" y="34"/>
                </a:lnTo>
                <a:lnTo>
                  <a:pt x="354" y="34"/>
                </a:lnTo>
              </a:path>
            </a:pathLst>
          </a:custGeom>
          <a:solidFill>
            <a:srgbClr val="c5dc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74960" y="3124080"/>
            <a:ext cx="419040" cy="398520"/>
          </a:xfrm>
          <a:custGeom>
            <a:avLst/>
            <a:gdLst/>
            <a:ahLst/>
            <a:rect l="l" t="t" r="r" b="b"/>
            <a:pathLst>
              <a:path w="317" h="283">
                <a:moveTo>
                  <a:pt x="316" y="0"/>
                </a:moveTo>
                <a:lnTo>
                  <a:pt x="0" y="0"/>
                </a:lnTo>
                <a:lnTo>
                  <a:pt x="0" y="282"/>
                </a:lnTo>
                <a:lnTo>
                  <a:pt x="316" y="282"/>
                </a:lnTo>
                <a:lnTo>
                  <a:pt x="316" y="0"/>
                </a:lnTo>
              </a:path>
            </a:pathLst>
          </a:custGeom>
          <a:solidFill>
            <a:srgbClr val="43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32120" y="3079800"/>
            <a:ext cx="47880" cy="447480"/>
          </a:xfrm>
          <a:custGeom>
            <a:avLst/>
            <a:gdLst/>
            <a:ahLst/>
            <a:rect l="l" t="t" r="r" b="b"/>
            <a:pathLst>
              <a:path w="38" h="319">
                <a:moveTo>
                  <a:pt x="37" y="33"/>
                </a:moveTo>
                <a:lnTo>
                  <a:pt x="0" y="0"/>
                </a:lnTo>
                <a:lnTo>
                  <a:pt x="0" y="282"/>
                </a:lnTo>
                <a:lnTo>
                  <a:pt x="37" y="318"/>
                </a:lnTo>
                <a:lnTo>
                  <a:pt x="37" y="33"/>
                </a:lnTo>
              </a:path>
            </a:pathLst>
          </a:custGeom>
          <a:solidFill>
            <a:srgbClr val="e2e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03560" y="3147840"/>
            <a:ext cx="108000" cy="190800"/>
          </a:xfrm>
          <a:custGeom>
            <a:avLst/>
            <a:gdLst/>
            <a:ahLst/>
            <a:rect l="l" t="t" r="r" b="b"/>
            <a:pathLst>
              <a:path w="82" h="136">
                <a:moveTo>
                  <a:pt x="53" y="135"/>
                </a:moveTo>
                <a:lnTo>
                  <a:pt x="53" y="46"/>
                </a:lnTo>
                <a:lnTo>
                  <a:pt x="81" y="46"/>
                </a:lnTo>
                <a:lnTo>
                  <a:pt x="40" y="0"/>
                </a:lnTo>
                <a:lnTo>
                  <a:pt x="0" y="46"/>
                </a:lnTo>
                <a:lnTo>
                  <a:pt x="30" y="46"/>
                </a:lnTo>
                <a:lnTo>
                  <a:pt x="30" y="100"/>
                </a:lnTo>
                <a:lnTo>
                  <a:pt x="26" y="100"/>
                </a:lnTo>
                <a:lnTo>
                  <a:pt x="53" y="13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003560" y="3147840"/>
            <a:ext cx="108000" cy="190800"/>
          </a:xfrm>
          <a:custGeom>
            <a:avLst/>
            <a:gdLst/>
            <a:ahLst/>
            <a:rect l="l" t="t" r="r" b="b"/>
            <a:pathLst>
              <a:path w="82" h="136">
                <a:moveTo>
                  <a:pt x="53" y="135"/>
                </a:moveTo>
                <a:lnTo>
                  <a:pt x="53" y="46"/>
                </a:lnTo>
                <a:lnTo>
                  <a:pt x="81" y="46"/>
                </a:lnTo>
                <a:lnTo>
                  <a:pt x="40" y="0"/>
                </a:lnTo>
                <a:lnTo>
                  <a:pt x="0" y="46"/>
                </a:lnTo>
                <a:lnTo>
                  <a:pt x="30" y="46"/>
                </a:lnTo>
                <a:lnTo>
                  <a:pt x="30" y="100"/>
                </a:lnTo>
                <a:lnTo>
                  <a:pt x="26" y="100"/>
                </a:lnTo>
                <a:lnTo>
                  <a:pt x="53" y="13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98720" y="3206880"/>
            <a:ext cx="203400" cy="102960"/>
          </a:xfrm>
          <a:custGeom>
            <a:avLst/>
            <a:gdLst/>
            <a:ahLst/>
            <a:rect l="l" t="t" r="r" b="b"/>
            <a:pathLst>
              <a:path w="153" h="74">
                <a:moveTo>
                  <a:pt x="152" y="26"/>
                </a:moveTo>
                <a:lnTo>
                  <a:pt x="52" y="26"/>
                </a:lnTo>
                <a:lnTo>
                  <a:pt x="52" y="0"/>
                </a:lnTo>
                <a:lnTo>
                  <a:pt x="0" y="38"/>
                </a:lnTo>
                <a:lnTo>
                  <a:pt x="52" y="73"/>
                </a:lnTo>
                <a:lnTo>
                  <a:pt x="52" y="47"/>
                </a:lnTo>
                <a:lnTo>
                  <a:pt x="114" y="47"/>
                </a:lnTo>
                <a:lnTo>
                  <a:pt x="114" y="51"/>
                </a:lnTo>
                <a:lnTo>
                  <a:pt x="152" y="2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98720" y="3206880"/>
            <a:ext cx="203400" cy="102960"/>
          </a:xfrm>
          <a:custGeom>
            <a:avLst/>
            <a:gdLst/>
            <a:ahLst/>
            <a:rect l="l" t="t" r="r" b="b"/>
            <a:pathLst>
              <a:path w="153" h="74">
                <a:moveTo>
                  <a:pt x="152" y="26"/>
                </a:moveTo>
                <a:lnTo>
                  <a:pt x="52" y="26"/>
                </a:lnTo>
                <a:lnTo>
                  <a:pt x="52" y="0"/>
                </a:lnTo>
                <a:lnTo>
                  <a:pt x="0" y="38"/>
                </a:lnTo>
                <a:lnTo>
                  <a:pt x="52" y="73"/>
                </a:lnTo>
                <a:lnTo>
                  <a:pt x="52" y="47"/>
                </a:lnTo>
                <a:lnTo>
                  <a:pt x="114" y="47"/>
                </a:lnTo>
                <a:lnTo>
                  <a:pt x="114" y="51"/>
                </a:lnTo>
                <a:lnTo>
                  <a:pt x="152" y="2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67120" y="3324240"/>
            <a:ext cx="108000" cy="195120"/>
          </a:xfrm>
          <a:custGeom>
            <a:avLst/>
            <a:gdLst/>
            <a:ahLst/>
            <a:rect l="l" t="t" r="r" b="b"/>
            <a:pathLst>
              <a:path w="82" h="139">
                <a:moveTo>
                  <a:pt x="28" y="0"/>
                </a:moveTo>
                <a:lnTo>
                  <a:pt x="28" y="92"/>
                </a:lnTo>
                <a:lnTo>
                  <a:pt x="0" y="92"/>
                </a:lnTo>
                <a:lnTo>
                  <a:pt x="40" y="138"/>
                </a:lnTo>
                <a:lnTo>
                  <a:pt x="81" y="92"/>
                </a:lnTo>
                <a:lnTo>
                  <a:pt x="50" y="92"/>
                </a:lnTo>
                <a:lnTo>
                  <a:pt x="50" y="35"/>
                </a:lnTo>
                <a:lnTo>
                  <a:pt x="53" y="35"/>
                </a:lnTo>
                <a:lnTo>
                  <a:pt x="2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8360" y="3351240"/>
            <a:ext cx="196920" cy="101520"/>
          </a:xfrm>
          <a:custGeom>
            <a:avLst/>
            <a:gdLst/>
            <a:ahLst/>
            <a:rect l="l" t="t" r="r" b="b"/>
            <a:pathLst>
              <a:path w="151" h="72">
                <a:moveTo>
                  <a:pt x="0" y="46"/>
                </a:moveTo>
                <a:lnTo>
                  <a:pt x="98" y="46"/>
                </a:lnTo>
                <a:lnTo>
                  <a:pt x="98" y="71"/>
                </a:lnTo>
                <a:lnTo>
                  <a:pt x="150" y="36"/>
                </a:lnTo>
                <a:lnTo>
                  <a:pt x="98" y="0"/>
                </a:lnTo>
                <a:lnTo>
                  <a:pt x="98" y="27"/>
                </a:lnTo>
                <a:lnTo>
                  <a:pt x="38" y="27"/>
                </a:lnTo>
                <a:lnTo>
                  <a:pt x="38" y="24"/>
                </a:lnTo>
                <a:lnTo>
                  <a:pt x="0" y="4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78360" y="3354480"/>
            <a:ext cx="196920" cy="101520"/>
          </a:xfrm>
          <a:custGeom>
            <a:avLst/>
            <a:gdLst/>
            <a:ahLst/>
            <a:rect l="l" t="t" r="r" b="b"/>
            <a:pathLst>
              <a:path w="151" h="72">
                <a:moveTo>
                  <a:pt x="0" y="46"/>
                </a:moveTo>
                <a:lnTo>
                  <a:pt x="98" y="46"/>
                </a:lnTo>
                <a:lnTo>
                  <a:pt x="98" y="71"/>
                </a:lnTo>
                <a:lnTo>
                  <a:pt x="150" y="36"/>
                </a:lnTo>
                <a:lnTo>
                  <a:pt x="98" y="0"/>
                </a:lnTo>
                <a:lnTo>
                  <a:pt x="98" y="27"/>
                </a:lnTo>
                <a:lnTo>
                  <a:pt x="38" y="27"/>
                </a:lnTo>
                <a:lnTo>
                  <a:pt x="38" y="24"/>
                </a:lnTo>
                <a:lnTo>
                  <a:pt x="0" y="4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27600" y="3268800"/>
            <a:ext cx="120600" cy="134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503360" y="1884240"/>
            <a:ext cx="0" cy="1193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665520" y="1600200"/>
          <a:ext cx="4888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5520" y="1600200"/>
                    <a:ext cx="4888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54840" y="1293840"/>
            <a:ext cx="100044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GW-SS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62280" y="4202280"/>
            <a:ext cx="63036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720" rIns="997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B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0560" y="3965400"/>
            <a:ext cx="3267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58680" y="4224240"/>
            <a:ext cx="109224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720" rIns="997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DSL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24080" y="3774960"/>
            <a:ext cx="374400" cy="44784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58840" y="3419640"/>
            <a:ext cx="21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fr-FR" sz="2200" spc="-1" strike="noStrike">
                <a:solidFill>
                  <a:srgbClr val="262648"/>
                </a:solidFill>
                <a:latin typeface="Arial"/>
              </a:rPr>
              <a:t>Dorsal IP 2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500960" y="4299120"/>
          <a:ext cx="62532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00960" y="4299120"/>
                    <a:ext cx="6253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6811920" y="4973760"/>
          <a:ext cx="627120" cy="69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11920" y="4973760"/>
                    <a:ext cx="627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5557680" y="1589040"/>
          <a:ext cx="627120" cy="69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57680" y="1589040"/>
                    <a:ext cx="6271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311040" y="3795840"/>
          <a:ext cx="435240" cy="37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1040" y="3795840"/>
                    <a:ext cx="4352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3" name="" descr=""/>
          <p:cNvPicPr/>
          <p:nvPr/>
        </p:nvPicPr>
        <p:blipFill>
          <a:blip r:embed="rId13"/>
          <a:stretch/>
        </p:blipFill>
        <p:spPr>
          <a:xfrm>
            <a:off x="4343400" y="3276720"/>
            <a:ext cx="328680" cy="3236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4"/>
          <a:stretch/>
        </p:blipFill>
        <p:spPr>
          <a:xfrm>
            <a:off x="4351320" y="3741840"/>
            <a:ext cx="328680" cy="3236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4238640" y="3214800"/>
            <a:ext cx="0" cy="81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154040" y="3419640"/>
            <a:ext cx="1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149720" y="3898800"/>
            <a:ext cx="17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02160" y="3546360"/>
            <a:ext cx="0" cy="17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33840" y="2433600"/>
            <a:ext cx="703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720" rIns="997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fr-FR" sz="1600" spc="-1" strike="noStrike">
                <a:solidFill>
                  <a:srgbClr val="ffff99"/>
                </a:solidFill>
                <a:latin typeface="Arial"/>
              </a:rPr>
              <a:t>P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8080" y="5272200"/>
            <a:ext cx="17362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fr-FR" sz="2200" spc="-1" strike="noStrike">
                <a:solidFill>
                  <a:srgbClr val="262648"/>
                </a:solidFill>
                <a:latin typeface="Arial"/>
              </a:rPr>
              <a:t>IP </a:t>
            </a:r>
            <a:br>
              <a:rPr sz="2200"/>
            </a:br>
            <a:r>
              <a:rPr b="1" lang="fr-FR" sz="2200" spc="-1" strike="noStrike">
                <a:solidFill>
                  <a:srgbClr val="262648"/>
                </a:solidFill>
                <a:latin typeface="Arial"/>
              </a:rPr>
              <a:t>Entrepri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16440" y="3276720"/>
            <a:ext cx="12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fr-FR" sz="2200" spc="-1" strike="noStrike">
                <a:solidFill>
                  <a:srgbClr val="262648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460760" y="1619280"/>
          <a:ext cx="490680" cy="63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60760" y="1619280"/>
                    <a:ext cx="490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4380480" y="1314360"/>
            <a:ext cx="60696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P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21880" y="2187720"/>
            <a:ext cx="5032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fr-FR" sz="1600" spc="-1" strike="noStrike">
                <a:solidFill>
                  <a:srgbClr val="ffff99"/>
                </a:solidFill>
                <a:latin typeface="Arial"/>
              </a:rPr>
              <a:t>B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26000" y="3743280"/>
            <a:ext cx="466560" cy="46080"/>
          </a:xfrm>
          <a:custGeom>
            <a:avLst/>
            <a:gdLst/>
            <a:ahLst/>
            <a:rect l="l" t="t" r="r" b="b"/>
            <a:pathLst>
              <a:path w="355" h="34">
                <a:moveTo>
                  <a:pt x="354" y="33"/>
                </a:moveTo>
                <a:lnTo>
                  <a:pt x="314" y="0"/>
                </a:lnTo>
                <a:lnTo>
                  <a:pt x="0" y="0"/>
                </a:lnTo>
                <a:lnTo>
                  <a:pt x="40" y="33"/>
                </a:lnTo>
                <a:lnTo>
                  <a:pt x="354" y="3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26000" y="3743280"/>
            <a:ext cx="466560" cy="46080"/>
          </a:xfrm>
          <a:custGeom>
            <a:avLst/>
            <a:gdLst/>
            <a:ahLst/>
            <a:rect l="l" t="t" r="r" b="b"/>
            <a:pathLst>
              <a:path w="355" h="34">
                <a:moveTo>
                  <a:pt x="354" y="33"/>
                </a:moveTo>
                <a:lnTo>
                  <a:pt x="314" y="0"/>
                </a:lnTo>
                <a:lnTo>
                  <a:pt x="0" y="0"/>
                </a:lnTo>
                <a:lnTo>
                  <a:pt x="40" y="33"/>
                </a:lnTo>
                <a:lnTo>
                  <a:pt x="354" y="3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76760" y="3790800"/>
            <a:ext cx="415800" cy="400320"/>
          </a:xfrm>
          <a:custGeom>
            <a:avLst/>
            <a:gdLst/>
            <a:ahLst/>
            <a:rect l="l" t="t" r="r" b="b"/>
            <a:pathLst>
              <a:path w="316" h="284">
                <a:moveTo>
                  <a:pt x="315" y="0"/>
                </a:moveTo>
                <a:lnTo>
                  <a:pt x="0" y="0"/>
                </a:lnTo>
                <a:lnTo>
                  <a:pt x="0" y="283"/>
                </a:lnTo>
                <a:lnTo>
                  <a:pt x="315" y="283"/>
                </a:lnTo>
                <a:lnTo>
                  <a:pt x="315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26000" y="3746520"/>
            <a:ext cx="50760" cy="447480"/>
          </a:xfrm>
          <a:custGeom>
            <a:avLst/>
            <a:gdLst/>
            <a:ahLst/>
            <a:rect l="l" t="t" r="r" b="b"/>
            <a:pathLst>
              <a:path w="39" h="319">
                <a:moveTo>
                  <a:pt x="38" y="35"/>
                </a:moveTo>
                <a:lnTo>
                  <a:pt x="0" y="0"/>
                </a:lnTo>
                <a:lnTo>
                  <a:pt x="0" y="282"/>
                </a:lnTo>
                <a:lnTo>
                  <a:pt x="38" y="318"/>
                </a:lnTo>
                <a:lnTo>
                  <a:pt x="38" y="3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26000" y="3746520"/>
            <a:ext cx="50760" cy="447480"/>
          </a:xfrm>
          <a:custGeom>
            <a:avLst/>
            <a:gdLst/>
            <a:ahLst/>
            <a:rect l="l" t="t" r="r" b="b"/>
            <a:pathLst>
              <a:path w="39" h="319">
                <a:moveTo>
                  <a:pt x="38" y="35"/>
                </a:moveTo>
                <a:lnTo>
                  <a:pt x="0" y="0"/>
                </a:lnTo>
                <a:lnTo>
                  <a:pt x="0" y="282"/>
                </a:lnTo>
                <a:lnTo>
                  <a:pt x="38" y="318"/>
                </a:lnTo>
                <a:lnTo>
                  <a:pt x="38" y="3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733920" y="3743280"/>
            <a:ext cx="466560" cy="46080"/>
          </a:xfrm>
          <a:custGeom>
            <a:avLst/>
            <a:gdLst/>
            <a:ahLst/>
            <a:rect l="l" t="t" r="r" b="b"/>
            <a:pathLst>
              <a:path w="355" h="34">
                <a:moveTo>
                  <a:pt x="354" y="33"/>
                </a:moveTo>
                <a:lnTo>
                  <a:pt x="314" y="0"/>
                </a:lnTo>
                <a:lnTo>
                  <a:pt x="0" y="0"/>
                </a:lnTo>
                <a:lnTo>
                  <a:pt x="40" y="33"/>
                </a:lnTo>
                <a:lnTo>
                  <a:pt x="354" y="33"/>
                </a:lnTo>
              </a:path>
            </a:pathLst>
          </a:custGeom>
          <a:solidFill>
            <a:srgbClr val="c5dc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81440" y="3790800"/>
            <a:ext cx="419040" cy="400320"/>
          </a:xfrm>
          <a:custGeom>
            <a:avLst/>
            <a:gdLst/>
            <a:ahLst/>
            <a:rect l="l" t="t" r="r" b="b"/>
            <a:pathLst>
              <a:path w="317" h="284">
                <a:moveTo>
                  <a:pt x="316" y="0"/>
                </a:moveTo>
                <a:lnTo>
                  <a:pt x="0" y="0"/>
                </a:lnTo>
                <a:lnTo>
                  <a:pt x="0" y="283"/>
                </a:lnTo>
                <a:lnTo>
                  <a:pt x="316" y="283"/>
                </a:lnTo>
                <a:lnTo>
                  <a:pt x="316" y="0"/>
                </a:lnTo>
              </a:path>
            </a:pathLst>
          </a:custGeom>
          <a:solidFill>
            <a:srgbClr val="43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33920" y="3743280"/>
            <a:ext cx="47520" cy="447840"/>
          </a:xfrm>
          <a:custGeom>
            <a:avLst/>
            <a:gdLst/>
            <a:ahLst/>
            <a:rect l="l" t="t" r="r" b="b"/>
            <a:pathLst>
              <a:path w="38" h="319">
                <a:moveTo>
                  <a:pt x="37" y="33"/>
                </a:moveTo>
                <a:lnTo>
                  <a:pt x="0" y="0"/>
                </a:lnTo>
                <a:lnTo>
                  <a:pt x="0" y="282"/>
                </a:lnTo>
                <a:lnTo>
                  <a:pt x="37" y="318"/>
                </a:lnTo>
                <a:lnTo>
                  <a:pt x="37" y="33"/>
                </a:lnTo>
              </a:path>
            </a:pathLst>
          </a:custGeom>
          <a:solidFill>
            <a:srgbClr val="e2ed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05360" y="3811680"/>
            <a:ext cx="108000" cy="189000"/>
          </a:xfrm>
          <a:custGeom>
            <a:avLst/>
            <a:gdLst/>
            <a:ahLst/>
            <a:rect l="l" t="t" r="r" b="b"/>
            <a:pathLst>
              <a:path w="82" h="135">
                <a:moveTo>
                  <a:pt x="53" y="134"/>
                </a:moveTo>
                <a:lnTo>
                  <a:pt x="53" y="46"/>
                </a:lnTo>
                <a:lnTo>
                  <a:pt x="81" y="46"/>
                </a:lnTo>
                <a:lnTo>
                  <a:pt x="40" y="0"/>
                </a:lnTo>
                <a:lnTo>
                  <a:pt x="0" y="46"/>
                </a:lnTo>
                <a:lnTo>
                  <a:pt x="30" y="46"/>
                </a:lnTo>
                <a:lnTo>
                  <a:pt x="30" y="99"/>
                </a:lnTo>
                <a:lnTo>
                  <a:pt x="26" y="99"/>
                </a:lnTo>
                <a:lnTo>
                  <a:pt x="53" y="13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05360" y="3811680"/>
            <a:ext cx="108000" cy="189000"/>
          </a:xfrm>
          <a:custGeom>
            <a:avLst/>
            <a:gdLst/>
            <a:ahLst/>
            <a:rect l="l" t="t" r="r" b="b"/>
            <a:pathLst>
              <a:path w="82" h="135">
                <a:moveTo>
                  <a:pt x="53" y="134"/>
                </a:moveTo>
                <a:lnTo>
                  <a:pt x="53" y="46"/>
                </a:lnTo>
                <a:lnTo>
                  <a:pt x="81" y="46"/>
                </a:lnTo>
                <a:lnTo>
                  <a:pt x="40" y="0"/>
                </a:lnTo>
                <a:lnTo>
                  <a:pt x="0" y="46"/>
                </a:lnTo>
                <a:lnTo>
                  <a:pt x="30" y="46"/>
                </a:lnTo>
                <a:lnTo>
                  <a:pt x="30" y="99"/>
                </a:lnTo>
                <a:lnTo>
                  <a:pt x="26" y="99"/>
                </a:lnTo>
                <a:lnTo>
                  <a:pt x="53" y="13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0520" y="3870360"/>
            <a:ext cx="201600" cy="100080"/>
          </a:xfrm>
          <a:custGeom>
            <a:avLst/>
            <a:gdLst/>
            <a:ahLst/>
            <a:rect l="l" t="t" r="r" b="b"/>
            <a:pathLst>
              <a:path w="153" h="73">
                <a:moveTo>
                  <a:pt x="152" y="26"/>
                </a:moveTo>
                <a:lnTo>
                  <a:pt x="52" y="26"/>
                </a:lnTo>
                <a:lnTo>
                  <a:pt x="52" y="0"/>
                </a:lnTo>
                <a:lnTo>
                  <a:pt x="0" y="37"/>
                </a:lnTo>
                <a:lnTo>
                  <a:pt x="52" y="72"/>
                </a:lnTo>
                <a:lnTo>
                  <a:pt x="52" y="46"/>
                </a:lnTo>
                <a:lnTo>
                  <a:pt x="114" y="46"/>
                </a:lnTo>
                <a:lnTo>
                  <a:pt x="114" y="50"/>
                </a:lnTo>
                <a:lnTo>
                  <a:pt x="152" y="2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0520" y="3870360"/>
            <a:ext cx="201600" cy="100080"/>
          </a:xfrm>
          <a:custGeom>
            <a:avLst/>
            <a:gdLst/>
            <a:ahLst/>
            <a:rect l="l" t="t" r="r" b="b"/>
            <a:pathLst>
              <a:path w="153" h="73">
                <a:moveTo>
                  <a:pt x="152" y="26"/>
                </a:moveTo>
                <a:lnTo>
                  <a:pt x="52" y="26"/>
                </a:lnTo>
                <a:lnTo>
                  <a:pt x="52" y="0"/>
                </a:lnTo>
                <a:lnTo>
                  <a:pt x="0" y="37"/>
                </a:lnTo>
                <a:lnTo>
                  <a:pt x="52" y="72"/>
                </a:lnTo>
                <a:lnTo>
                  <a:pt x="52" y="46"/>
                </a:lnTo>
                <a:lnTo>
                  <a:pt x="114" y="46"/>
                </a:lnTo>
                <a:lnTo>
                  <a:pt x="114" y="50"/>
                </a:lnTo>
                <a:lnTo>
                  <a:pt x="152" y="2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68560" y="3986280"/>
            <a:ext cx="108000" cy="195120"/>
          </a:xfrm>
          <a:custGeom>
            <a:avLst/>
            <a:gdLst/>
            <a:ahLst/>
            <a:rect l="l" t="t" r="r" b="b"/>
            <a:pathLst>
              <a:path w="82" h="139">
                <a:moveTo>
                  <a:pt x="28" y="0"/>
                </a:moveTo>
                <a:lnTo>
                  <a:pt x="28" y="92"/>
                </a:lnTo>
                <a:lnTo>
                  <a:pt x="0" y="92"/>
                </a:lnTo>
                <a:lnTo>
                  <a:pt x="40" y="138"/>
                </a:lnTo>
                <a:lnTo>
                  <a:pt x="81" y="92"/>
                </a:lnTo>
                <a:lnTo>
                  <a:pt x="50" y="92"/>
                </a:lnTo>
                <a:lnTo>
                  <a:pt x="50" y="35"/>
                </a:lnTo>
                <a:lnTo>
                  <a:pt x="53" y="35"/>
                </a:lnTo>
                <a:lnTo>
                  <a:pt x="2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79800" y="4013280"/>
            <a:ext cx="196920" cy="101520"/>
          </a:xfrm>
          <a:custGeom>
            <a:avLst/>
            <a:gdLst/>
            <a:ahLst/>
            <a:rect l="l" t="t" r="r" b="b"/>
            <a:pathLst>
              <a:path w="151" h="72">
                <a:moveTo>
                  <a:pt x="0" y="46"/>
                </a:moveTo>
                <a:lnTo>
                  <a:pt x="98" y="46"/>
                </a:lnTo>
                <a:lnTo>
                  <a:pt x="98" y="71"/>
                </a:lnTo>
                <a:lnTo>
                  <a:pt x="150" y="36"/>
                </a:lnTo>
                <a:lnTo>
                  <a:pt x="98" y="0"/>
                </a:lnTo>
                <a:lnTo>
                  <a:pt x="98" y="27"/>
                </a:lnTo>
                <a:lnTo>
                  <a:pt x="38" y="27"/>
                </a:lnTo>
                <a:lnTo>
                  <a:pt x="38" y="24"/>
                </a:lnTo>
                <a:lnTo>
                  <a:pt x="0" y="4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9800" y="4016520"/>
            <a:ext cx="196920" cy="102960"/>
          </a:xfrm>
          <a:custGeom>
            <a:avLst/>
            <a:gdLst/>
            <a:ahLst/>
            <a:rect l="l" t="t" r="r" b="b"/>
            <a:pathLst>
              <a:path w="151" h="73">
                <a:moveTo>
                  <a:pt x="0" y="47"/>
                </a:moveTo>
                <a:lnTo>
                  <a:pt x="98" y="47"/>
                </a:lnTo>
                <a:lnTo>
                  <a:pt x="98" y="72"/>
                </a:lnTo>
                <a:lnTo>
                  <a:pt x="150" y="37"/>
                </a:lnTo>
                <a:lnTo>
                  <a:pt x="98" y="0"/>
                </a:lnTo>
                <a:lnTo>
                  <a:pt x="98" y="28"/>
                </a:lnTo>
                <a:lnTo>
                  <a:pt x="38" y="28"/>
                </a:lnTo>
                <a:lnTo>
                  <a:pt x="38" y="24"/>
                </a:lnTo>
                <a:lnTo>
                  <a:pt x="0" y="4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27600" y="3930480"/>
            <a:ext cx="122040" cy="135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60120" y="1301760"/>
            <a:ext cx="1296000" cy="58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PF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600" spc="-1" strike="noStrike">
                <a:solidFill>
                  <a:srgbClr val="ffff99"/>
                </a:solidFill>
                <a:latin typeface="Arial"/>
              </a:rPr>
              <a:t>(VoIP…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4524480"/>
            <a:ext cx="1143000" cy="37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720" rIns="997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91960" y="5197320"/>
          <a:ext cx="433440" cy="37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1960" y="5197320"/>
                    <a:ext cx="4334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635040" y="5348160"/>
            <a:ext cx="68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6835680" y="1976400"/>
          <a:ext cx="488880" cy="63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35680" y="1976400"/>
                    <a:ext cx="4888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1185840" y="5048280"/>
          <a:ext cx="620640" cy="60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85840" y="5048280"/>
                    <a:ext cx="620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4286160" y="3174840"/>
            <a:ext cx="0" cy="81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86920" y="313704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62648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262648"/>
                </a:solidFill>
                <a:latin typeface="Arial"/>
              </a:rPr>
              <a:t>CA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Dorsal IP : Architecture générale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6800" y="1150920"/>
            <a:ext cx="1474920" cy="1474920"/>
          </a:xfrm>
          <a:prstGeom prst="ellipse">
            <a:avLst/>
          </a:prstGeom>
          <a:solidFill>
            <a:srgbClr val="99ff99"/>
          </a:solidFill>
          <a:ln w="28440">
            <a:solidFill>
              <a:srgbClr val="ffffff"/>
            </a:solidFill>
            <a:miter/>
          </a:ln>
          <a:effectLst>
            <a:outerShdw dist="81185" dir="307803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75000" y="1685880"/>
            <a:ext cx="1657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48960" bIns="48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fr-FR" sz="2000" spc="-1" strike="noStrike">
                <a:solidFill>
                  <a:srgbClr val="262648"/>
                </a:solidFill>
                <a:latin typeface="Arial"/>
              </a:rPr>
              <a:t>Réseau SS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41480" y="3502080"/>
            <a:ext cx="914400" cy="914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ffff"/>
            </a:solidFill>
            <a:miter/>
          </a:ln>
          <a:effectLst>
            <a:outerShdw dist="81185" dir="3078030" blurRad="0" rotWithShape="0">
              <a:srgbClr val="3131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2880" y="3749760"/>
            <a:ext cx="833400" cy="419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800" spc="-1" strike="noStrike">
                <a:solidFill>
                  <a:srgbClr val="262648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761-2E66-48E8-86A4-4C93D3AA31B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3FE01-5FFA-4C7D-AC82-C5FC358A3647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d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1120" y="1469880"/>
            <a:ext cx="7385040" cy="57636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20120" y="1469880"/>
            <a:ext cx="1523880" cy="576360"/>
          </a:xfrm>
          <a:prstGeom prst="rect">
            <a:avLst/>
          </a:prstGeom>
          <a:gradFill rotWithShape="0">
            <a:gsLst>
              <a:gs pos="0">
                <a:srgbClr val="6464ae"/>
              </a:gs>
              <a:gs pos="100000">
                <a:srgbClr val="79cb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90520" y="1469880"/>
            <a:ext cx="66960" cy="576360"/>
          </a:xfrm>
          <a:prstGeom prst="rect">
            <a:avLst/>
          </a:prstGeom>
          <a:solidFill>
            <a:srgbClr val="79c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43000" y="1469880"/>
            <a:ext cx="1440" cy="576360"/>
          </a:xfrm>
          <a:prstGeom prst="line">
            <a:avLst/>
          </a:prstGeom>
          <a:ln w="28440">
            <a:solidFill>
              <a:srgbClr val="79c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11160" y="65232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03200" y="14889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174600" indent="-174600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62648"/>
                </a:solidFill>
                <a:latin typeface="Arial"/>
              </a:rPr>
              <a:t>La croiss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57280" y="2382840"/>
            <a:ext cx="71629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2188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50 POP, 120 routeurs en nationa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5000"/>
              </a:lnSpc>
              <a:spcBef>
                <a:spcPts val="2188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Accès commuté à Interne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189000">
              <a:lnSpc>
                <a:spcPct val="95000"/>
              </a:lnSpc>
              <a:spcBef>
                <a:spcPts val="876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Fin 2000 : 180 000 po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189000">
              <a:lnSpc>
                <a:spcPct val="95000"/>
              </a:lnSpc>
              <a:spcBef>
                <a:spcPts val="374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Fin 2001 : + de 500 000 po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5000"/>
              </a:lnSpc>
              <a:spcBef>
                <a:spcPts val="1624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Croissance des débits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189000">
              <a:lnSpc>
                <a:spcPct val="95000"/>
              </a:lnSpc>
              <a:spcBef>
                <a:spcPts val="876"/>
              </a:spcBef>
              <a:buClr>
                <a:srgbClr val="99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ff66"/>
                </a:solidFill>
                <a:latin typeface="Arial"/>
              </a:rPr>
              <a:t>De 5 Gbit/s en 2000 à 25 Gbit/s en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5000"/>
              </a:lnSpc>
              <a:spcBef>
                <a:spcPts val="2188"/>
              </a:spcBef>
              <a:buClr>
                <a:srgbClr val="ff99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60 BAS desservant les clients Netissim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-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Arial"/>
              </a:rPr>
              <a:t>Le backbone IP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01D-0411-4925-8F95-F6F5FE5A3A1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2475E-54CD-4ABD-803A-B71ECEA85A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7:18:31Z</dcterms:created>
  <dc:creator>Graph1</dc:creator>
  <dc:description/>
  <dc:language>en-US</dc:language>
  <cp:lastModifiedBy>martrenchar</cp:lastModifiedBy>
  <cp:lastPrinted>2001-05-15T12:59:35Z</cp:lastPrinted>
  <dcterms:modified xsi:type="dcterms:W3CDTF">2001-05-22T16:43:21Z</dcterms:modified>
  <cp:revision>275</cp:revision>
  <dc:subject/>
  <dc:title>Aucun titre de diapositive</dc:title>
</cp:coreProperties>
</file>