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F49-A0D0-4A59-92AA-D537DA16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2E2-7044-4A7B-A6DD-04E95F33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049-E2E3-49D6-B31A-B537A12F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55D-147F-40F6-9891-702D7225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4C9-C891-417C-BEF4-A9FCFC73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048-9516-48E0-8B4F-A9C9E80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E92-0C38-4A84-87E1-6CBFE5C7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2B1-3237-4112-95F8-A082A02D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093-3DB4-4852-973D-70EB352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B3B-EF99-4119-935B-FFD30312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477-3379-4EBA-A579-784AFE4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341-6170-4A46-8383-1380C9C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9472-367E-46A5-B6F0-C2A7850AD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Bookman"/>
              </a:rPr>
              <a:t>L’entreprise / Présentation</a:t>
            </a: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Bookman"/>
              </a:rPr>
              <a:t>his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057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Création de la Société générale des téléphones, pour l’organisation des réseaux télépho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066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8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74960"/>
            <a:ext cx="20667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88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55720"/>
            <a:ext cx="2066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8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36840"/>
            <a:ext cx="2066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89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17960"/>
            <a:ext cx="2066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4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699080"/>
            <a:ext cx="2066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6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80200"/>
            <a:ext cx="20667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6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158920"/>
            <a:ext cx="6934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Bookman"/>
              </a:rPr>
              <a:t>La première liste des 6425 abonnés</a:t>
            </a: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 du réseau de Paris est publi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2870280"/>
            <a:ext cx="69343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L’annuaire devient support de publicité dans la Liste Professionnels d’Ann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670200"/>
            <a:ext cx="69343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Bookman"/>
              </a:rPr>
              <a:t>Création de la société Office d’Annonces (O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232160"/>
            <a:ext cx="69343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La publicité est attribuée à l’agence Havas qui la confie à l’Office d’Ann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5029200"/>
            <a:ext cx="69343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Début du Centre de Préparation des Annu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5562720"/>
            <a:ext cx="6934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Le papier rose des listes professionnelles est remplacé par le </a:t>
            </a:r>
            <a:r>
              <a:rPr b="1" lang="en-US" sz="1800" spc="-1" strike="noStrike">
                <a:solidFill>
                  <a:srgbClr val="3333cc"/>
                </a:solidFill>
                <a:latin typeface="Bookman"/>
              </a:rPr>
              <a:t>papier ja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Bookman"/>
              </a:rPr>
              <a:t>L’entreprise / Présentation</a:t>
            </a: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Bookman"/>
              </a:rPr>
              <a:t>his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33160" y="2095560"/>
            <a:ext cx="580572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Début de la photocomposition à partir des fichiers informatiques des abon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28800"/>
            <a:ext cx="2219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67160"/>
            <a:ext cx="22194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7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05160"/>
            <a:ext cx="2219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8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43520"/>
            <a:ext cx="22194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82960"/>
            <a:ext cx="2219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33520" y="2808360"/>
            <a:ext cx="5805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Démarrage du programme Télét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Implantation du SNAT à Bord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3581280"/>
            <a:ext cx="5805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Le premier annuaire “Europages” est distribué en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343400"/>
            <a:ext cx="5805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Prise de participation d’Oda dans Kompass e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5029200"/>
            <a:ext cx="5805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La première agence en province est créée à N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Bookman"/>
              </a:rPr>
              <a:t>L’entreprise / Présentation</a:t>
            </a: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Bookman"/>
              </a:rPr>
              <a:t>his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6176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3333cc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Bookman"/>
              </a:rPr>
              <a:t>Première ouverture à l’international :</a:t>
            </a: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Oda prend la direction de Publicom 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17720"/>
            <a:ext cx="1990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71560"/>
            <a:ext cx="1990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9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527200"/>
            <a:ext cx="1990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82840"/>
            <a:ext cx="1990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19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038480"/>
            <a:ext cx="1990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794120"/>
            <a:ext cx="1990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549760"/>
            <a:ext cx="1990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3520" y="1955880"/>
            <a:ext cx="617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"/>
              </a:rPr>
              <a:t>L’annuaire électronique s’installe sur le réseau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33520" y="2692440"/>
            <a:ext cx="6177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3333cc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Bookman"/>
              </a:rPr>
              <a:t>Oda rejoint le Groupe France Télé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3520" y="3327480"/>
            <a:ext cx="6177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Création de Médiatel (Wanadoo Data)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Oda devient l'éditeur délégué des annuaires France Télé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267080"/>
            <a:ext cx="61768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Le SNAT et Oda se réunissent pour créer </a:t>
            </a:r>
            <a:r>
              <a:rPr b="1" lang="fr-FR" sz="1600" spc="-1" strike="noStrike">
                <a:solidFill>
                  <a:srgbClr val="3333cc"/>
                </a:solidFill>
                <a:latin typeface="Bookman"/>
              </a:rPr>
              <a:t>Pages Jaunes</a:t>
            </a: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 - éditeur d' annuaires - Pages Jaunes rejoint Wanadoo, la filiale Internet de France Télé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5181480"/>
            <a:ext cx="61768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Indice Multimédia (Espagne) intègre les activités annuaires de Wanad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5867280"/>
            <a:ext cx="64627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Pagesjaunes.fr atteint 100 millions de pages vues et 92% des français plébiscitent la campagne publicitaire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Bookman"/>
              </a:rPr>
              <a:t>"Demandez, c'est trouvé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6:47:51Z</dcterms:created>
  <dc:creator>martrenchar</dc:creator>
  <dc:description/>
  <dc:language>en-US</dc:language>
  <cp:lastModifiedBy>martrenchar</cp:lastModifiedBy>
  <dcterms:modified xsi:type="dcterms:W3CDTF">2002-07-09T16:48:35Z</dcterms:modified>
  <cp:revision>1</cp:revision>
  <dc:subject/>
  <dc:title>L’entreprise / Présentation histoire</dc:title>
</cp:coreProperties>
</file>